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F4D3A4-51FE-4EE5-91BF-9E3661DAE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interfaces must be Release’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it, Revert, and Release all work in low memory without consuming additional file hand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methods under ‘Never’ are used internally by O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LE 1.0 Container ha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vide embedding sto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ve within a single stream (fi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LE 1.0 Embedding Server ha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load all its data on acti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write all its data on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the above Common operations work in low memory without additional file hand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methods under ‘Never’ exist because the implementation provided by OLE is not the only possible implem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Stat to determine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t’s take a look at some exampl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rrows represent interface instances held by cli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iner 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bedding 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context switch during stream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ly the storage is transa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example shows that releasing a stream doesn’t cause its changes to be lost, nor does it commit them to the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e that Revert discards the changes AND disconnects the child from the parent (as shown by no connection between the two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ually all children will be closed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preload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cremental update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578560" y="76320"/>
            <a:ext cx="336384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ex Tilles(3) 93006 OLE 2.0 PDC 5/93 </a:t>
            </a:r>
            <a:fld id="{BDEC5A6C-9EB9-441B-8E5D-181E04EA2B12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54080" y="955800"/>
            <a:ext cx="883620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2.0 Storage Model And Compound File Implementation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lex Tille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Team Lead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eating Root 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84080" y="1736640"/>
            <a:ext cx="75772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CreateDoc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h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ing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mo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CreateDocfileOnILockB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s an ILockBytes instance instead of path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272880" y="493560"/>
            <a:ext cx="8597880" cy="66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Storage *pRootSt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tgCreateDocfil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ample.dfl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SHARE_EXCLUSIV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TRANSACTED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FAILIFTHER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Root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pRootStg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oot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eate Op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25600" y="1736640"/>
            <a:ext cx="6294600" cy="32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FAILIFT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ils if file already ex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CRE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ways creates (even if file exis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CON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ts file into compound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GM_CONVE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6720" y="1981080"/>
            <a:ext cx="2705040" cy="23432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89000" y="277956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3886200"/>
            <a:ext cx="2705040" cy="23432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146560" y="46846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81760" y="1066680"/>
            <a:ext cx="2914560" cy="167652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058080" y="2666880"/>
            <a:ext cx="68580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57600" y="3390840"/>
            <a:ext cx="91440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461280" y="3313080"/>
            <a:ext cx="2394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108920" y="15796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2280" y="2084400"/>
            <a:ext cx="384192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AddR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opy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MoveElement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Enum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name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Element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975200" y="2065320"/>
            <a:ext cx="3598920" cy="15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Query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StateB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03200" y="1122480"/>
            <a:ext cx="2838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ess comm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775480" y="1141560"/>
            <a:ext cx="135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e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47840" y="528480"/>
            <a:ext cx="8250120" cy="66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CreateStream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Data stream #1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SHARE_EXCLUSIV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DIREC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FAILIFTHER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Stm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pStm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m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906640" y="147492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47840" y="561960"/>
            <a:ext cx="8250120" cy="62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OpenStream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Data stream #1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SHARE_EXCLUSIV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DIRECT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Stm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pStm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m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1.0 Storage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33480" y="1733400"/>
            <a:ext cx="7277040" cy="40575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2362320"/>
            <a:ext cx="2590920" cy="285768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05520" y="2286000"/>
            <a:ext cx="2705040" cy="28764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43640" y="3733920"/>
            <a:ext cx="1828800" cy="8571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74880" y="169380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41600" y="2341440"/>
            <a:ext cx="717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280120" y="230364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641920" y="36939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3733920"/>
            <a:ext cx="2610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641600" y="3846600"/>
            <a:ext cx="717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43280" y="1474920"/>
            <a:ext cx="189072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55800" y="2008080"/>
            <a:ext cx="164772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AddR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opy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l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975200" y="2065320"/>
            <a:ext cx="3598920" cy="20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Query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ock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Unlock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03200" y="1122480"/>
            <a:ext cx="2838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ess comm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775480" y="1141560"/>
            <a:ext cx="135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e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43280" y="1474920"/>
            <a:ext cx="189072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S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Set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65240" y="933480"/>
            <a:ext cx="8815320" cy="58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define DATASIZE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BY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bData[DATASIZE]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ULONG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cbWritte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fill in abData (not show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Wri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abData, DATASIZE, &amp;cbWritten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cbWritten will always be accu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743280" y="1474920"/>
            <a:ext cx="189072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S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Set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531720" y="1143000"/>
            <a:ext cx="808200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#define DATASIZE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BY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bData[DATASIZE]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ULONG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cbWritte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Read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abData, DATASIZE, &amp;cbRea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cbRead will always be accu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743280" y="1474920"/>
            <a:ext cx="1890720" cy="25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S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Set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622440" y="228600"/>
            <a:ext cx="7899480" cy="70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pstm is a valid IStream in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seek to beginning of str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eek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0, STREAM_SEEK_SET, NULL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seek for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eek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22, STREAM_SEEK_CU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ulNewPosition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etSiz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9007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eek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-7, STREAM_SEEK_EN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ulNewPosition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truncate the stream to 0 by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etSiz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0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dvanced Stream Op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17480" y="1736640"/>
            <a:ext cx="771048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IStream::Cl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an IStream instance with a new seek pointer (same dat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IStream::Copy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ies data between streams (can be   same strea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together, these methods can create and remove space within a 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49400" y="1054080"/>
            <a:ext cx="88470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Stream *pstmClon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ULARGE_INTEGER ulicb 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0xffffffff, 0xffffffff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Clone(&amp;pstmClon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Clone-&gt;Seek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1000, STREAM_SEEK_CUR, NULL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m-&gt;CopyTo(pstmClone, ulicb, NULL,NULL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We’ve now created a 1000 byte g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mClone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2.0 Storage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71760" y="112392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297180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10120" y="297180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34000" y="478152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5360" y="17524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4152960"/>
            <a:ext cx="2152800" cy="70488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48040" y="411480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58672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610000" y="1695600"/>
            <a:ext cx="83808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914560" y="1943280"/>
            <a:ext cx="1219320" cy="106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15080" y="1943280"/>
            <a:ext cx="876240" cy="1047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619280" y="3790800"/>
            <a:ext cx="476280" cy="343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181480" y="3772080"/>
            <a:ext cx="64800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58040" y="3790800"/>
            <a:ext cx="1066680" cy="9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095880" y="5543640"/>
            <a:ext cx="104796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314960" y="11793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12720" y="18082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174760" y="3103560"/>
            <a:ext cx="4888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6880" y="4189320"/>
            <a:ext cx="1695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1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870520" y="304632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984480" y="411336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413480" y="487512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089680" y="588492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5086440"/>
            <a:ext cx="2152800" cy="70488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641600" y="5122800"/>
            <a:ext cx="1695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2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90920" y="3809880"/>
            <a:ext cx="152280" cy="1276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8280" y="6094440"/>
            <a:ext cx="3664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ompound F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65240" y="76320"/>
            <a:ext cx="8815320" cy="74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pRootStg is a valid I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CreateStorag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n OLE 2.0 embedding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  | STGM_SHARE_EXCLUSIV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TRANSACTED | STGM_CREAT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Embedding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Give pEmbeddingStg to server via OLE 2.0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Embedding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server will also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65240" y="193680"/>
            <a:ext cx="8815320" cy="74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pRootStg is a valid I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OpenStorag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n OLE 2.0 embedding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STGM_SHARE_EXCLUSIV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TRANSACTE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Embedding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AILED(GetScode(hr)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handle err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Give pEmbeddingStg to server via OLE 2.0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Embedding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server will also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1720" y="669960"/>
            <a:ext cx="8082000" cy="62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pRootStg is a valid IStor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destroying a child storage causes 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of its child streams and substor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to also be destroy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DestroyElemen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          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An OLE 2.0 embedding”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the same method to destroy stre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DestroyElemen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          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Just a data stream”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ransaction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155600" y="1736640"/>
            <a:ext cx="683244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acted Storages buffe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l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hanges until client Comm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 on Direct objects is Flu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ffered changes can be discarded by calling 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. Transactions (Activ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0200" y="120024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33800" y="182880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5248440" y="177156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953400" y="12556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51160" y="18842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10200" y="306720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33800" y="369576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5248440" y="363852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953400" y="312264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51160" y="375120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10200" y="520056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33800" y="582948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248440" y="5772240"/>
            <a:ext cx="83808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53400" y="52563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251160" y="588492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74600" y="1693800"/>
            <a:ext cx="1174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93680" y="3751200"/>
            <a:ext cx="160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i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74600" y="5865840"/>
            <a:ext cx="1784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00880" y="10476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95520" y="1486080"/>
            <a:ext cx="647640" cy="3427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57360" y="33336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95520" y="54864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29160" y="29718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24560" y="50292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. Transactions (Fil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09960" y="118116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33560" y="180972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048200" y="175248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753160" y="123660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050920" y="186516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09960" y="304812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33560" y="36766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048200" y="361944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753160" y="31035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050920" y="373212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09960" y="518148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33560" y="581040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4048200" y="5753160"/>
            <a:ext cx="83808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753160" y="52372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050920" y="58658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Advanta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157400" y="1736640"/>
            <a:ext cx="6831000" cy="27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embeddings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of old and new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es Save/Canc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 s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user overwrite prot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. Transactions (Activ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91120" y="102888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144792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477120" y="108432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660840" y="14842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12760" y="1465200"/>
            <a:ext cx="1174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55520" y="2855880"/>
            <a:ext cx="160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i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31840" y="4075200"/>
            <a:ext cx="16574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72280" y="952560"/>
            <a:ext cx="647640" cy="3427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876400" y="1123920"/>
            <a:ext cx="64800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5648400" y="156204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48360" y="249552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62200" y="291456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534000" y="25509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718080" y="29512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29160" y="24192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33640" y="2590920"/>
            <a:ext cx="647640" cy="3427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5705640" y="302904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6520" y="403848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00360" y="445788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572160" y="40942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660840" y="44942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67320" y="3962520"/>
            <a:ext cx="647640" cy="3427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743440" y="4572000"/>
            <a:ext cx="40032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24680" y="552456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638520" y="594360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610320" y="558000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794040" y="597996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5781600" y="605808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89080" y="5560920"/>
            <a:ext cx="16826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300640" y="97164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. Transactions (Fil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814480" y="13906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786280" y="10270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970360" y="14270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957920" y="150480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57880" y="243828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871720" y="28576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843520" y="24940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27240" y="28940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014800" y="2971800"/>
            <a:ext cx="40032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96040" y="398160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09880" y="440064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881680" y="403704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65400" y="443700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052960" y="451476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33840" y="5467320"/>
            <a:ext cx="1523880" cy="72396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48040" y="588636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919840" y="55227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103560" y="59230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5091120" y="6000840"/>
            <a:ext cx="3999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114720" y="182880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. Transactions (Activ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0200" y="120024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5248440" y="177156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953400" y="12556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251160" y="18842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10200" y="306720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133800" y="3695760"/>
            <a:ext cx="2133720" cy="72396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248440" y="363852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953400" y="312264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251160" y="375120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10200" y="520056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133800" y="5829480"/>
            <a:ext cx="2133720" cy="7239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953400" y="52563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251160" y="588492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93680" y="3751200"/>
            <a:ext cx="160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if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31840" y="5408640"/>
            <a:ext cx="16826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e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600880" y="10476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429160" y="29718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24560" y="50292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50920" y="1846440"/>
            <a:ext cx="1174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57360" y="1447920"/>
            <a:ext cx="647640" cy="34272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457360" y="335268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57360" y="5486400"/>
            <a:ext cx="647640" cy="343080"/>
          </a:xfrm>
          <a:prstGeom prst="line">
            <a:avLst/>
          </a:prstGeom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. Transactions (File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09960" y="118116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33560" y="180972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4048200" y="175248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753160" y="123660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050920" y="186516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809960" y="304812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33560" y="367668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4048200" y="3619440"/>
            <a:ext cx="838080" cy="32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753160" y="310356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2050920" y="373212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809960" y="518148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33560" y="581040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4048200" y="5753160"/>
            <a:ext cx="838080" cy="32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753160" y="523728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2050920" y="586584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906640" y="1455840"/>
            <a:ext cx="359892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cecece"/>
                </a:solidFill>
                <a:latin typeface="Courier New"/>
                <a:ea typeface="Courier New"/>
              </a:rPr>
              <a:t>Destroy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Rev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ave/Cancel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210960" y="974880"/>
            <a:ext cx="8721720" cy="58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fSave == TR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Make all changes to data streams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embeddings visible to container (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file system if this is the root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g-&gt;Commit(0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Discards all changes to data streams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embeddings.  Also invalidates all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IStream and IStorage instan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g-&gt;Revert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ermiss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093680" y="1736640"/>
            <a:ext cx="695628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ren of direct storages must be at least as restri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ren of transacted storages can have any permi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acted read-only storages are modifiable but not Commi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ethod returns permi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ation Restric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528920" y="1143000"/>
            <a:ext cx="6087960" cy="54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ldren can only be opened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SHARE_EXCLU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s can only be opened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DIR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able, direct root storages can only be opened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SHARE_EXCLU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root open modes require copying the underlying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SHARE_DENY_N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SHARE_DENY_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mit Parame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90720" y="1736640"/>
            <a:ext cx="716292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s are bitwise or’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C_DEFAULT (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Courier New"/>
                <a:ea typeface="Courier New"/>
              </a:rPr>
              <a:t>STGC_ONLYIFCUR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C_OVER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C_DANGEROUSLYCOMMIT-      MERELYTODISKCAC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41360" y="776160"/>
            <a:ext cx="8261280" cy="58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StgOpenStorage(“sample.dfl”, NUL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 | STGM_SHARE_DENY_NON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TRANSACTED, NULL, 0, &amp;pRoot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Make changes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Commit(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TGC_ONLYIFCURREN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GetScode(hr) == STG_E_NOTCURR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someone else saved after we ope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we can now prompt the u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(if we care t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ootStg-&gt;Commit(0);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overwr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mbedding Advanta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0720" y="1736640"/>
            <a:ext cx="7162920" cy="27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data streams per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copy on open/upd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access to data during ac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, Write, Set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ontext switching in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952560" y="228600"/>
            <a:ext cx="7238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ther IStorage Metho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349280" y="1736640"/>
            <a:ext cx="6445080" cy="26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Copy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 contents to another I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ful for Copy, Sav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MoveElement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e child to another I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90560" y="1736640"/>
            <a:ext cx="7564320" cy="27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EnumElement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enumerate child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name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Element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create/modify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get name, mode,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 It A Compound Fil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784080" y="1736640"/>
            <a:ext cx="75754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IsStorage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ful for applications which support a variety of file form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IsStorageFileOnILockB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above, except takes an ILockBytes instance instead of a file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69960" y="272880"/>
            <a:ext cx="7804080" cy="70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tgIsStorageFil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“sample.dfl”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f (GetScode(hr) == S_O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It’s a Compound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else if (GetScode(sc) == S_FAL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It’s not a Compound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nable to determine what it 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(e.g. doesn’t exist, couldn’t op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ority And Exclus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990720" y="1736640"/>
            <a:ext cx="7162920" cy="30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TGM_PRIORITY to open a Compound File brief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Direct, Read-Only, Deny-N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ents others from modifying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equent reopen with exclusions prevents some cop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55600" y="444600"/>
            <a:ext cx="8632800" cy="66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Transacted, Read-Write, Deny-Write fai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StgOpenStorage(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TGM_PRIORITY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| STGM_DIRECT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     | STGM_SHARE_DENY_N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..., &amp;pStgPriority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Read in primary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StgOpenStorage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gPriority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 | STGM_TRANSACTED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SHARE_DENY_NON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psnbExclud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,  //  children to excl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stgRoo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emporary Stor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93880" y="1736640"/>
            <a:ext cx="7356600" cy="35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GM_DELETEON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s underlying file after root storage is completely Release’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ble when creating or opening 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pathname for Compound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 NULL for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d in temporary file l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41360" y="641520"/>
            <a:ext cx="8261280" cy="58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Storage *pRootSt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StgCreateDocfile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WRITE | STGM_SHARE_EXCLUSIV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DIREC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| 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TGM_DELETEONRELEAS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Root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pRootStg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nderlying file will be dele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oot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pening Read-Onl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990720" y="1736640"/>
            <a:ext cx="716292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, Read-Only, Deny-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ents other writers from ope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underlying file 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acted, Read-Only, Deny-N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other writers to o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derlying file is cop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schemes allow other rea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96720" y="584280"/>
            <a:ext cx="8350200" cy="62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Storage *pRootSt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CODE sc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c = StgOpenStorage(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ample.dfl”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READ   | STGM_SHARE_DENY_WRITE |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GM_DIRECT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UL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0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Root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716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Use pRootStg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oot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Storage And IStre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1809720"/>
            <a:ext cx="7162920" cy="34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streams and substor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 transacted chang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419880" y="1600200"/>
            <a:ext cx="2400480" cy="81900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362720" y="1674720"/>
            <a:ext cx="514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72160" y="4400640"/>
            <a:ext cx="2133720" cy="7239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689880" y="4456080"/>
            <a:ext cx="1822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’s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ave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990720" y="1736640"/>
            <a:ext cx="716292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new Compound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IStorage::Copy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IRootStorage::SwitchT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 if transa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tentially sl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65240" y="541440"/>
            <a:ext cx="8815320" cy="58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Storage *pst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IRootStorage *prootst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ESULT h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stg-&gt;QueryInterface(IID_IRootStorag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prootstg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hr = proot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SwitchToFile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pszSaveAsFile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root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//  pstg now refers to pszSaveAsFile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g-&gt;</a:t>
            </a:r>
            <a:r>
              <a:rPr b="1" lang="en-US" sz="2400" spc="-1" strike="noStrike">
                <a:solidFill>
                  <a:srgbClr val="fafd00"/>
                </a:solidFill>
                <a:latin typeface="Lucida Sans Typewriter"/>
                <a:ea typeface="Lucida Sans Typewriter"/>
              </a:rPr>
              <a:t>Commit</a:t>
            </a: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STGC_DEFAULT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pstg-&gt;Relea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LockByt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73280" y="1736640"/>
            <a:ext cx="7597800" cy="36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apsulation of a resizable byte arr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ompound Files to be placed anywhere such a byte array can ex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eek poi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used for serializing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al - if not available, OLE 2.0 assumes implementor controls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773440" y="833400"/>
            <a:ext cx="3598920" cy="49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Query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AddR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Read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Writ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Flu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et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Lock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Unlock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990720" y="1736640"/>
            <a:ext cx="7162920" cy="37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liminary file format specification included in your mate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implementation source code available after con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ompound Files to be read and written on other platfo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s on an ILockBytes instance (sample provid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ximizing Perform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197000" y="1736640"/>
            <a:ext cx="67500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king backwards is expens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IStorage::Enum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nded for debugging 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a very expensive op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e names of children in your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 supports large numbers of children efficien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85640" y="12668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2.0 Storage</a:t>
            </a:r>
            <a:br>
              <a:rPr sz="4800"/>
            </a:b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990720" y="1343160"/>
            <a:ext cx="716292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s provi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 for embed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/Revert - aids Save/Canc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copying to open embed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copying to update embed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access to data str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preloading necess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bust saves and overwrite prot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OLE Provid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214280" y="1736640"/>
            <a:ext cx="67150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 on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provides pathnam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 on ILockBy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provides ILockBytes in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, database binary recor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ockBytes on global mem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9960" y="2590920"/>
            <a:ext cx="3600360" cy="16002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41320" y="2970360"/>
            <a:ext cx="2762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Stor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10120" y="2629080"/>
            <a:ext cx="3600360" cy="160020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451480" y="3008160"/>
            <a:ext cx="2762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Stor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7800" y="1465200"/>
            <a:ext cx="3689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, IStr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956120" y="1522440"/>
            <a:ext cx="3689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, IStr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71880" y="2095560"/>
            <a:ext cx="0" cy="514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62600" y="2095560"/>
            <a:ext cx="0" cy="552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622840" y="4836960"/>
            <a:ext cx="241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ockBy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00760" y="4229280"/>
            <a:ext cx="0" cy="62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51120" y="4799160"/>
            <a:ext cx="793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90600" y="4172040"/>
            <a:ext cx="0" cy="62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38920" y="5353200"/>
            <a:ext cx="0" cy="247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10120" y="5619600"/>
            <a:ext cx="3657600" cy="74304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651720" y="5656320"/>
            <a:ext cx="412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OLE Requir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62040" y="1736640"/>
            <a:ext cx="6019920" cy="36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e OLE 2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Initialize (or OleInitializ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file-based compound fi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hare.exe in autoexec.ba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per compound file, plus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