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478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(2)93006 OLE 2.0 PDC 5/93 </a:t>
            </a:r>
            <a:fld id="{89BBBCB0-94FA-4D21-AFD8-C2DB1C6D56C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74720"/>
            <a:ext cx="8172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6320" y="3424320"/>
            <a:ext cx="4651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45080" y="4859280"/>
            <a:ext cx="1450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8120" y="38880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911240" y="565200"/>
            <a:ext cx="498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do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8640" y="565200"/>
            <a:ext cx="1112760" cy="61596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doc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57280" y="1790640"/>
            <a:ext cx="62294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object can exist in multiple in-plac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46596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6320" y="387360"/>
            <a:ext cx="1366920" cy="98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3320" y="619200"/>
            <a:ext cx="1063800" cy="51588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6320" y="1127160"/>
            <a:ext cx="49356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si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73880" y="272268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160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ck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1733400"/>
            <a:ext cx="5334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aving and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0240" y="1638360"/>
            <a:ext cx="67438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to use both Compound File I/O and Open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your output streams and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needs its own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47920" y="1714680"/>
            <a:ext cx="62485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MDI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current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borde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s menu status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keyboard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3400"/>
            <a:ext cx="7162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client must impl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2240" y="2870280"/>
            <a:ext cx="7475400" cy="3714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OleInPlaceFrame, IOleInPlaceUIWindow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{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 (THIS_ REFIID riid, LPVOID FAR* ppvObj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 (THIS) 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 (THI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Window) (THIS_ HWND FAR* lphwn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ontextSensitiveHelp) (THIS_ BOOL fEnterMod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UI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Border) (THIS_ LPRECT lprectBorder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ques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ActiveObject) (THIS_ LPOLEINPLACEACTIVEOBJECT lpActiveObject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LPCSTR lpszObjName) PURE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Frame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InsertMenus) (THIS_ HMENU hmenuShared, LPOLEMENUGROUPWIDTHS lpMenu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Menu) (THIS_ HMENU hmenuShared, HOLEMENU holemenu, HWND hwndActiveObject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moveMenus) (THIS_ HMENU hmenuShare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StatusText) (THIS_ LPCSTR lpszStatusText) PURE;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EnableModeless) (THIS_ BOOL fEnabl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TranslateAccelerator) (THIS_ LPMSG lpmsg, WORD wI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52320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