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Igra(1) 93006 OLE 2.0 PDC 5/93 </a:t>
            </a:r>
            <a:fld id="{CC9C16A5-FB9C-47F8-94A6-6D1AD9DB9A39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52560" y="82404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Application Automation</a:t>
            </a:r>
            <a:br>
              <a:rPr sz="4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Igr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Defini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6640"/>
            <a:ext cx="7162920" cy="39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IDispatch : IUnknow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Count(UINT * pc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(UINT itinfo, LCID lcid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TypeInfo ** pp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IDsOfNames(REFIID riid, char *rgszNames[], UINT cNames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 DISPID rgdispid[]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Invoke(LONG dispidMembe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WORD wFlag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PARAMS * pdispparam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ARIANTARG * pvargResul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EXCEPINFO * pexcepinfo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UINT * puArgErr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::Invo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1160" y="1736640"/>
            <a:ext cx="7321680" cy="29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::Invoke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 of method or property to be acc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ssigns IDs for methods an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y of arguments to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sing Argu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93680" y="1736640"/>
            <a:ext cx="6956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argument is a tagged union of type var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in union include string, date, object,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ted data is passed using 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ch Data In Varia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5480" y="1736640"/>
            <a:ext cx="74930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can hold multiple data representations like a 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using the VT_UNKNOWN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set data format used for tagg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set has a G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has a variant type tag, a 32-bit ID 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Out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680" y="1736640"/>
            <a:ext cx="8001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, the controlling 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CF, hello’s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the programmabilit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he standard dispatch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Hello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38440" y="1736640"/>
            <a:ext cx="5667480" cy="30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dow with a “Say Hello” button and a text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SayHello”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HelloMessage”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Type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1736640"/>
            <a:ext cx="814392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Object Defini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kTypLib compiles O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DispCreate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CreateTypeInfo accepts a data structure as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kTypLib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0960" y="1271520"/>
            <a:ext cx="8183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2-8B93-1068-9A4C-08002B2E143C), helpstring(“Hello world version 1.0”), version(0.100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library he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lib("C:\\ole2\\beta\\debug\\stdole.tlb")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3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: IUnknow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helpstring(“Get or set the message used in SayHello”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roppu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HelloMessage ([in] BSTR new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propge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HelloMessage 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SayHello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4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class Hello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ypeInfo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49320" y="1114560"/>
            <a:ext cx="724536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ic METHODDATA NEAR rgmdataHelloObj[]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dSetHelloMsg,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S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PUT,  // One of DISPATCH_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EMPTY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 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ULL,         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G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0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GET,  // One of DISPATCH_*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BSTR 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Decla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23760" y="1392120"/>
            <a:ext cx="91915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Hello : public _IHelloProgramm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tandard OLE stu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REFIID rii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FAR* FAR*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AddRef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Release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* _IHelloProgrammability methods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void, put_HelloMessage)(THIS_ BSTR 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get_HelloMessage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SayHello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WND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hw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bstrHelloMs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U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797120" y="1736640"/>
            <a:ext cx="55497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ng and customiz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house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-user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ng end-user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Imple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57200" y="1104840"/>
            <a:ext cx="64292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put_HelloMessage(BST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ysReAllocString(&amp;m_bstrHelloMsg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get_HelloMessag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SayHello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 =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lgItemText(m_hwnd, IDC_HELLOAREA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78000" y="1260360"/>
            <a:ext cx="838980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dDispatch creates an IDispatch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supp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or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ility interface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Info describing programmabilit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ret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lient asks for IDispatch, return the standard dispatch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76240" y="1104840"/>
            <a:ext cx="7391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reating: During con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LoadTypeLib("hellotyp.tlb", &amp;ptlib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heck err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ptlib-&gt;GetTypeInfoOfGuid(CLSID_CHelloTlb, &amp;ptinfo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CreateStdDispatch((IUnknown FAR 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(void FAR*)(_IHelloProgrammability FAR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tinf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amp;punkStdDi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Using: Query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Unknow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Disp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punkStdDisp-&gt;QueryInterface(riid,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ing DispTes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36720" y="1736640"/>
            <a:ext cx="5472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an Active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xe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est Limitations/Workarou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974960"/>
            <a:ext cx="716292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rra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dexe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llection Enumer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anual it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amed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parameters are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55680" y="1736640"/>
            <a:ext cx="483408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scrip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y Schedu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8720" y="1346040"/>
            <a:ext cx="748656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released and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2DISP.DLL, OLE2NLS.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Libraries first 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MkTypLib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TEST.EXE available as test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3 ‘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ype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will be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6800" y="1581120"/>
            <a:ext cx="76122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manipulated via methods    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 actions (e.g., Print) o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member functions on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set via assignment-like syn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23960" y="1736640"/>
            <a:ext cx="7697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an OLE-defined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run-time-bound access to methods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cripting languages to manipul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building block for system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44640" y="1736640"/>
            <a:ext cx="72547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a property, get a property, or call a method using IDispatch::Inv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 object’s capabilities using IDispatch::Get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Vs. ITypeInf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79520" y="1736640"/>
            <a:ext cx="63864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ypeInfo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class or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an .h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pula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can return I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90440" y="228600"/>
            <a:ext cx="87631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And Custom 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360" y="1447920"/>
            <a:ext cx="8153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ustom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as “Automation”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Dispatch to expos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cripting tools and interproc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 can automate del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62320" y="4578480"/>
            <a:ext cx="56246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