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34080" y="0"/>
            <a:ext cx="3397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(1st talk) Xhibition ‘93 6/93 </a:t>
            </a:r>
            <a:fld id="{CC3B68FE-9971-42E3-A3D6-373204588E03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731880"/>
            <a:ext cx="817236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rnel,  Executive, And Subsystems Architecture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X ISV Relation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lew@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886040" y="4324320"/>
            <a:ext cx="537228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771560" y="228600"/>
            <a:ext cx="5600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314360" y="1743120"/>
            <a:ext cx="6515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ultiple processors of like type (symmetric, uniform memory access mod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performance that scales with addition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executes on any 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952720" y="228600"/>
            <a:ext cx="3238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nne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628640" y="1600200"/>
            <a:ext cx="588636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TDI s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, Banyan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428920" y="228600"/>
            <a:ext cx="4286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Internationaliz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14440" y="1866960"/>
            <a:ext cx="81154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local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trings UNICODE in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supports UNICODE st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 support for UNICODE st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71760" y="2192400"/>
            <a:ext cx="60008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19160" y="228600"/>
            <a:ext cx="7105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s The Windows NT Kernel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600200" y="2133720"/>
            <a:ext cx="59436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layer in the   Windows NT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processor architecture-specific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lowest level synchronization prim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609560" y="228600"/>
            <a:ext cx="5924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66840" y="1962000"/>
            <a:ext cx="66103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, well-contained body of code that imple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and context swit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synchro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and interrupt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level hardwa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60k of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638360" y="228600"/>
            <a:ext cx="586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90720" y="1752480"/>
            <a:ext cx="71629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pageable, nonpreemptable, but interrupt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abstractions in the form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er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generic wait operations with time-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express client-server wait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828800" y="228600"/>
            <a:ext cx="5486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atcher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057400" y="1143000"/>
            <a:ext cx="50292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scheduling and 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“signal” state and are wa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ual ex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181240" y="228600"/>
            <a:ext cx="4781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81160" y="1104840"/>
            <a:ext cx="67816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executive and device driver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“signal” state and not wa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que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procedure call (AP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erred procedure call (DP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267000" y="228600"/>
            <a:ext cx="2610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6000" y="1676520"/>
            <a:ext cx="457200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on 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/affi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9120" y="228600"/>
            <a:ext cx="864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78680" y="1658880"/>
            <a:ext cx="1200240" cy="716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93720" y="1658880"/>
            <a:ext cx="1085760" cy="74304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94160" y="1658880"/>
            <a:ext cx="1022400" cy="63036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13440" y="1873080"/>
            <a:ext cx="1220760" cy="71604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38640" y="1658880"/>
            <a:ext cx="1087560" cy="684360"/>
          </a:xfrm>
          <a:prstGeom prst="rect">
            <a:avLst/>
          </a:prstGeom>
          <a:solidFill>
            <a:srgbClr val="4e4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12880" y="1363680"/>
            <a:ext cx="8683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EM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433680" y="1363680"/>
            <a:ext cx="8510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129280" y="1363680"/>
            <a:ext cx="13510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IRON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074000" y="1363680"/>
            <a:ext cx="12398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5560" y="3587760"/>
            <a:ext cx="7426440" cy="422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79840" y="4010040"/>
            <a:ext cx="1131840" cy="598320"/>
          </a:xfrm>
          <a:prstGeom prst="rect">
            <a:avLst/>
          </a:prstGeom>
          <a:solidFill>
            <a:srgbClr val="3a3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4010040"/>
            <a:ext cx="1131840" cy="62064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1960" y="4008600"/>
            <a:ext cx="1162080" cy="604800"/>
          </a:xfrm>
          <a:prstGeom prst="rect">
            <a:avLst/>
          </a:prstGeom>
          <a:solidFill>
            <a:srgbClr val="0054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4200" y="4013280"/>
            <a:ext cx="1114560" cy="6094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3280" y="4010040"/>
            <a:ext cx="1147680" cy="61740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20880" y="4013280"/>
            <a:ext cx="1765440" cy="62244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4595760"/>
            <a:ext cx="6167520" cy="357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9080" y="4881600"/>
            <a:ext cx="3724200" cy="4255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4881600"/>
            <a:ext cx="3708360" cy="42372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38320" y="5010120"/>
            <a:ext cx="3409920" cy="295200"/>
          </a:xfrm>
          <a:prstGeom prst="rect">
            <a:avLst/>
          </a:prstGeom>
          <a:solidFill>
            <a:srgbClr val="3e140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45080" y="5060880"/>
            <a:ext cx="19000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02040" y="5396040"/>
            <a:ext cx="149544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 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42320" y="5740560"/>
            <a:ext cx="1295280" cy="501480"/>
          </a:xfrm>
          <a:prstGeom prst="rect">
            <a:avLst/>
          </a:prstGeom>
          <a:solidFill>
            <a:srgbClr val="372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87880" y="5740560"/>
            <a:ext cx="1055520" cy="501480"/>
          </a:xfrm>
          <a:prstGeom prst="rect">
            <a:avLst/>
          </a:prstGeom>
          <a:solidFill>
            <a:srgbClr val="1834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52480" y="5740560"/>
            <a:ext cx="990720" cy="501480"/>
          </a:xfrm>
          <a:prstGeom prst="rect">
            <a:avLst/>
          </a:prstGeom>
          <a:solidFill>
            <a:srgbClr val="3c002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46440" y="5740560"/>
            <a:ext cx="915840" cy="501480"/>
          </a:xfrm>
          <a:prstGeom prst="rect">
            <a:avLst/>
          </a:prstGeom>
          <a:solidFill>
            <a:srgbClr val="28004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57600" y="5740560"/>
            <a:ext cx="1085760" cy="501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43360" y="5740560"/>
            <a:ext cx="1019160" cy="501480"/>
          </a:xfrm>
          <a:prstGeom prst="rect">
            <a:avLst/>
          </a:prstGeom>
          <a:solidFill>
            <a:srgbClr val="0035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62520" y="5740560"/>
            <a:ext cx="1162080" cy="501480"/>
          </a:xfrm>
          <a:prstGeom prst="rect">
            <a:avLst/>
          </a:prstGeom>
          <a:solidFill>
            <a:srgbClr val="003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4292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792520" y="331776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1008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49764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93680" y="5791320"/>
            <a:ext cx="554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976400" y="5791320"/>
            <a:ext cx="554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38320" y="5800680"/>
            <a:ext cx="76356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 mapp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040280" y="5800680"/>
            <a:ext cx="604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cks/ti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73480" y="5800680"/>
            <a:ext cx="739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67520" y="5800680"/>
            <a:ext cx="7570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dispat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272360" y="5800680"/>
            <a:ext cx="9208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 archite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07240" y="5002200"/>
            <a:ext cx="5000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90760" y="4967280"/>
            <a:ext cx="10238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427560" y="4656240"/>
            <a:ext cx="26496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anagement/executive run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67040" y="4095720"/>
            <a:ext cx="793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moni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49720" y="4095720"/>
            <a:ext cx="4525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148360" y="4095720"/>
            <a:ext cx="7621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75520" y="4095720"/>
            <a:ext cx="7570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mem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377120" y="4095720"/>
            <a:ext cx="7891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96920" y="3994200"/>
            <a:ext cx="889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60440" y="4081320"/>
            <a:ext cx="7873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0880" y="4406760"/>
            <a:ext cx="15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20880" y="4367160"/>
            <a:ext cx="1541520" cy="51444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97080" y="4487760"/>
            <a:ext cx="8715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6280" y="1873080"/>
            <a:ext cx="1158840" cy="671400"/>
          </a:xfrm>
          <a:prstGeom prst="rect">
            <a:avLst/>
          </a:prstGeom>
          <a:solidFill>
            <a:srgbClr val="31650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57400" y="2160720"/>
            <a:ext cx="1158840" cy="644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9960" y="2374920"/>
            <a:ext cx="1160640" cy="600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3800" y="2584440"/>
            <a:ext cx="1065240" cy="604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14600" y="1905120"/>
            <a:ext cx="588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o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70160" y="2165400"/>
            <a:ext cx="777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98440" y="2376360"/>
            <a:ext cx="6303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58960" y="2652840"/>
            <a:ext cx="9619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ssion mana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2640" y="1873080"/>
            <a:ext cx="1157400" cy="6843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6480" y="2160720"/>
            <a:ext cx="1085760" cy="64440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57600" y="2374920"/>
            <a:ext cx="1085760" cy="6127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1440" y="2598840"/>
            <a:ext cx="1063800" cy="60480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78160" y="1922400"/>
            <a:ext cx="774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760" y="2165400"/>
            <a:ext cx="5032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30480" y="2367000"/>
            <a:ext cx="561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703600" y="2652840"/>
            <a:ext cx="9144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5280" y="1900080"/>
            <a:ext cx="1063800" cy="6048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7840" y="2160720"/>
            <a:ext cx="1093680" cy="61740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2374920"/>
            <a:ext cx="1135080" cy="60480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1160" y="2616120"/>
            <a:ext cx="1063800" cy="6048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586480" y="1663560"/>
            <a:ext cx="4874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8800" y="191628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14840" y="2381400"/>
            <a:ext cx="12222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W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68840" y="2695680"/>
            <a:ext cx="6224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456000" y="3670200"/>
            <a:ext cx="226044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24520" y="2160720"/>
            <a:ext cx="1235160" cy="6444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02400" y="2374920"/>
            <a:ext cx="1297080" cy="6303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56240" y="2616120"/>
            <a:ext cx="1168560" cy="6174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462800" y="166356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230960" y="1916280"/>
            <a:ext cx="6476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ASE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018200" y="2162160"/>
            <a:ext cx="939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l </a:t>
            </a: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786720" y="2390760"/>
            <a:ext cx="10112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Perfect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78800" y="2671920"/>
            <a:ext cx="5382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2-3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25440" y="3195720"/>
            <a:ext cx="0" cy="109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2544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8904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70360" y="320508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03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7976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3224160"/>
            <a:ext cx="0" cy="81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5448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80160" y="323388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801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8812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162400" y="2179800"/>
            <a:ext cx="5540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833480" y="166068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988400" y="5311800"/>
            <a:ext cx="36360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88400" y="5526000"/>
            <a:ext cx="363600" cy="2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34920" y="5311800"/>
            <a:ext cx="21924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861840" y="5526000"/>
            <a:ext cx="292320" cy="2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61840" y="5740560"/>
            <a:ext cx="7490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611520" y="165564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828880" y="228600"/>
            <a:ext cx="348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95480" y="1486080"/>
            <a:ext cx="69534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-driven - no scheduler per 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priorit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 robin at real-tim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boosts/decay at variabl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st priority thread guaranteed ru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52640" y="228600"/>
            <a:ext cx="5238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oluntary Switc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09560" y="1790640"/>
            <a:ext cx="5924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wait for dispatcher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er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set priority to lower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ai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76400" y="1714680"/>
            <a:ext cx="6991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object to attain sign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sing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multiple objects - any/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time-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495440" y="228600"/>
            <a:ext cx="6153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25640" y="1542960"/>
            <a:ext cx="70945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{                                                   tr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ry body                                         // finally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( expression() ) {                   finall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eption handler                         // finally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314360" y="229536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314360" y="22860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57280" y="1504800"/>
            <a:ext cx="622944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ed on top of ker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to user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 separate components with formal interfaces - allows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PI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486080" y="237960"/>
            <a:ext cx="617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cutive Compon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181240" y="1390680"/>
            <a:ext cx="47815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685880" y="228600"/>
            <a:ext cx="5772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523880" y="1447920"/>
            <a:ext cx="6095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nam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process object han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validation via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functions to build user visible objects (processes, threads, events, files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76240" y="1486080"/>
            <a:ext cx="73915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32-bit, 4 GB, demand-paged memory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memory mappe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ross-process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copy-on-write p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aging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Cache Manag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095560" y="228600"/>
            <a:ext cx="495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Sub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33480" y="1314360"/>
            <a:ext cx="727704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model with 64-bit file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file objects which have open, operate, close seman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services for drivers and file system through formal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and file systems in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ingle global cache integrated with 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190600"/>
            <a:ext cx="81723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143000" y="228600"/>
            <a:ext cx="6858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ile System (NTF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47600" y="1790640"/>
            <a:ext cx="70484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large disks and files, uses 64 bits for files sizes and off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sh recovery for large volumes takes seconds not minutes or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file names on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with autogenerated 8.3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219480" y="228600"/>
            <a:ext cx="2705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TF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43000" y="1409760"/>
            <a:ext cx="6858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ACLs on files available through NT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- enhancements can be added without obsoleting existing volu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utilities from FAT and HPFS to NTFS will be pro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314360" y="1447920"/>
            <a:ext cx="6515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communication mechanism for client-server (subsyste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fast local RPC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can “impersonate” clients’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971720" y="228600"/>
            <a:ext cx="5200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57480" y="1657440"/>
            <a:ext cx="66294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process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ierarchy, grouping, or process relationships imposed by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quotas and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67200" y="228600"/>
            <a:ext cx="3009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23960" y="1790640"/>
            <a:ext cx="76960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 profile per 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access validation to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file system on disk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349280" y="2193840"/>
            <a:ext cx="6445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ubsystem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685960" y="228600"/>
            <a:ext cx="3772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23920" y="1486080"/>
            <a:ext cx="689616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create emulatio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, POSIX, and OS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absolutely control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72960" y="1147680"/>
            <a:ext cx="162864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72960" y="1147680"/>
            <a:ext cx="16286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71800" y="1147680"/>
            <a:ext cx="16812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071800" y="1147680"/>
            <a:ext cx="16812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440" y="1147680"/>
            <a:ext cx="1674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8440" y="1147680"/>
            <a:ext cx="1674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37160" y="1147680"/>
            <a:ext cx="1701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537160" y="1147680"/>
            <a:ext cx="1701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92880" y="1147680"/>
            <a:ext cx="1620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292880" y="1147680"/>
            <a:ext cx="1620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.1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11360" y="2593800"/>
            <a:ext cx="13716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11360" y="2593800"/>
            <a:ext cx="13716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6840" y="4514760"/>
            <a:ext cx="249084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66840" y="4514760"/>
            <a:ext cx="24908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DM/Emulation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6640" y="4514760"/>
            <a:ext cx="18511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176640" y="4514760"/>
            <a:ext cx="18511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78400" y="4514760"/>
            <a:ext cx="17208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78400" y="4514760"/>
            <a:ext cx="17208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91520" y="4514760"/>
            <a:ext cx="153036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391520" y="4514760"/>
            <a:ext cx="15303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68280" y="5530680"/>
            <a:ext cx="8553600" cy="476280"/>
          </a:xfrm>
          <a:prstGeom prst="rect">
            <a:avLst/>
          </a:prstGeom>
          <a:gradFill rotWithShape="0">
            <a:gsLst>
              <a:gs pos="0">
                <a:srgbClr val="0c7e73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5520" y="2165400"/>
            <a:ext cx="8832960" cy="0"/>
          </a:xfrm>
          <a:prstGeom prst="line">
            <a:avLst/>
          </a:prstGeom>
          <a:ln w="1522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266000" y="2552760"/>
            <a:ext cx="137880" cy="1794960"/>
            <a:chOff x="4266000" y="2552760"/>
            <a:chExt cx="137880" cy="1794960"/>
          </a:xfrm>
        </p:grpSpPr>
        <p:sp>
          <p:nvSpPr>
            <p:cNvPr id="235" name=""/>
            <p:cNvSpPr/>
            <p:nvPr/>
          </p:nvSpPr>
          <p:spPr>
            <a:xfrm>
              <a:off x="434016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600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6636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253560" y="2552760"/>
            <a:ext cx="137880" cy="1794960"/>
            <a:chOff x="6253560" y="2552760"/>
            <a:chExt cx="137880" cy="1794960"/>
          </a:xfrm>
        </p:grpSpPr>
        <p:sp>
          <p:nvSpPr>
            <p:cNvPr id="239" name=""/>
            <p:cNvSpPr/>
            <p:nvPr/>
          </p:nvSpPr>
          <p:spPr>
            <a:xfrm>
              <a:off x="632772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5356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5392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8003520" y="2552760"/>
            <a:ext cx="136800" cy="1794960"/>
            <a:chOff x="8003520" y="2552760"/>
            <a:chExt cx="136800" cy="1794960"/>
          </a:xfrm>
        </p:grpSpPr>
        <p:sp>
          <p:nvSpPr>
            <p:cNvPr id="243" name=""/>
            <p:cNvSpPr/>
            <p:nvPr/>
          </p:nvSpPr>
          <p:spPr>
            <a:xfrm>
              <a:off x="807552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03520" y="4067280"/>
              <a:ext cx="136800" cy="280440"/>
            </a:xfrm>
            <a:custGeom>
              <a:avLst/>
              <a:gdLst/>
              <a:ahLst/>
              <a:rect l="0" t="0" r="r" b="b"/>
              <a:pathLst>
                <a:path w="380" h="779">
                  <a:moveTo>
                    <a:pt x="189" y="779"/>
                  </a:moveTo>
                  <a:lnTo>
                    <a:pt x="380" y="34"/>
                  </a:lnTo>
                  <a:lnTo>
                    <a:pt x="380" y="34"/>
                  </a:lnTo>
                  <a:cubicBezTo>
                    <a:pt x="318" y="11"/>
                    <a:pt x="254" y="0"/>
                    <a:pt x="190" y="0"/>
                  </a:cubicBezTo>
                  <a:cubicBezTo>
                    <a:pt x="126" y="0"/>
                    <a:pt x="62" y="11"/>
                    <a:pt x="0" y="34"/>
                  </a:cubicBezTo>
                  <a:lnTo>
                    <a:pt x="189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03520" y="2552760"/>
              <a:ext cx="136440" cy="281520"/>
            </a:xfrm>
            <a:custGeom>
              <a:avLst/>
              <a:gdLst/>
              <a:ahLst/>
              <a:rect l="0" t="0" r="r" b="b"/>
              <a:pathLst>
                <a:path w="379" h="782">
                  <a:moveTo>
                    <a:pt x="189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1" y="770"/>
                    <a:pt x="125" y="782"/>
                    <a:pt x="190" y="782"/>
                  </a:cubicBezTo>
                  <a:cubicBezTo>
                    <a:pt x="254" y="782"/>
                    <a:pt x="318" y="770"/>
                    <a:pt x="379" y="748"/>
                  </a:cubicBezTo>
                  <a:lnTo>
                    <a:pt x="18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352680" y="3522600"/>
            <a:ext cx="137160" cy="977400"/>
            <a:chOff x="3352680" y="3522600"/>
            <a:chExt cx="137160" cy="977400"/>
          </a:xfrm>
        </p:grpSpPr>
        <p:sp>
          <p:nvSpPr>
            <p:cNvPr id="247" name=""/>
            <p:cNvSpPr/>
            <p:nvPr/>
          </p:nvSpPr>
          <p:spPr>
            <a:xfrm>
              <a:off x="3425760" y="3724200"/>
              <a:ext cx="0" cy="569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52680" y="4081320"/>
              <a:ext cx="137160" cy="418680"/>
            </a:xfrm>
            <a:custGeom>
              <a:avLst/>
              <a:gdLst/>
              <a:ahLst/>
              <a:rect l="0" t="0" r="r" b="b"/>
              <a:pathLst>
                <a:path w="381" h="1163">
                  <a:moveTo>
                    <a:pt x="190" y="1163"/>
                  </a:moveTo>
                  <a:lnTo>
                    <a:pt x="381" y="51"/>
                  </a:lnTo>
                  <a:lnTo>
                    <a:pt x="381" y="51"/>
                  </a:lnTo>
                  <a:cubicBezTo>
                    <a:pt x="319" y="17"/>
                    <a:pt x="255" y="0"/>
                    <a:pt x="190" y="0"/>
                  </a:cubicBezTo>
                  <a:cubicBezTo>
                    <a:pt x="126" y="0"/>
                    <a:pt x="62" y="17"/>
                    <a:pt x="0" y="51"/>
                  </a:cubicBezTo>
                  <a:lnTo>
                    <a:pt x="190" y="11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2680" y="3522600"/>
              <a:ext cx="136800" cy="419400"/>
            </a:xfrm>
            <a:custGeom>
              <a:avLst/>
              <a:gdLst/>
              <a:ahLst/>
              <a:rect l="0" t="0" r="r" b="b"/>
              <a:pathLst>
                <a:path w="380" h="1165">
                  <a:moveTo>
                    <a:pt x="189" y="0"/>
                  </a:moveTo>
                  <a:lnTo>
                    <a:pt x="0" y="1114"/>
                  </a:lnTo>
                  <a:lnTo>
                    <a:pt x="0" y="1114"/>
                  </a:lnTo>
                  <a:cubicBezTo>
                    <a:pt x="62" y="1148"/>
                    <a:pt x="126" y="1165"/>
                    <a:pt x="190" y="1165"/>
                  </a:cubicBezTo>
                  <a:cubicBezTo>
                    <a:pt x="254" y="1165"/>
                    <a:pt x="318" y="1148"/>
                    <a:pt x="380" y="1114"/>
                  </a:cubicBezTo>
                  <a:lnTo>
                    <a:pt x="18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1066680" y="228600"/>
            <a:ext cx="7010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On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167120" y="2552760"/>
            <a:ext cx="137880" cy="1794960"/>
            <a:chOff x="1167120" y="2552760"/>
            <a:chExt cx="137880" cy="1794960"/>
          </a:xfrm>
        </p:grpSpPr>
        <p:sp>
          <p:nvSpPr>
            <p:cNvPr id="252" name=""/>
            <p:cNvSpPr/>
            <p:nvPr/>
          </p:nvSpPr>
          <p:spPr>
            <a:xfrm>
              <a:off x="124128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6712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6748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114560" y="228600"/>
            <a:ext cx="6915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ub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057400" y="1467000"/>
            <a:ext cx="50292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MS-DOS and Windows 3.x wrap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subsystem (16 b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609560" y="228600"/>
            <a:ext cx="592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system Cont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886040" y="1200240"/>
            <a:ext cx="537228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emulated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shals arguments and calls subsystem via L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functions may be handled in the DLL without calling the sub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/stops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ains glob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57240" y="228600"/>
            <a:ext cx="5429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390760" y="1162080"/>
            <a:ext cx="43624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85640" y="2287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19480" y="228600"/>
            <a:ext cx="2705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ort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657440"/>
            <a:ext cx="77151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ultiple hardware architectures (Intel 386/486/Pentium,      MIPS R4x00, DEC Alpha AXP, Intergraph Clipp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-dependent parts isolated in specific components (HAL, kernel, V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- hardware abstraction layer - provides platform-independence and allow hardware vendors to innov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05000" y="228600"/>
            <a:ext cx="293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ecu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05040" y="1866960"/>
            <a:ext cx="733428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to be DOD C2 certif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 level - discretionary access control on all potentially sharable objects via access control lists (AC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8120" y="228600"/>
            <a:ext cx="3048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mpat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819440" y="1743120"/>
            <a:ext cx="550548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 (FAT, HP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1.x 16-bit char ap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971800" y="228600"/>
            <a:ext cx="3200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Extens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1440" y="1790640"/>
            <a:ext cx="680076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s without privileged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 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f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network redir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114720" y="228600"/>
            <a:ext cx="2914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Robust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74920" y="1771560"/>
            <a:ext cx="6197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ly behaved applications can’t cras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user quotas to protect system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Is return an error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