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91240" y="0"/>
            <a:ext cx="34401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3rd talk) 6/93 </a:t>
            </a:r>
            <a:fld id="{914B5133-1C53-4C3C-B7C5-95F574973564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457280" y="1112760"/>
            <a:ext cx="622944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I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390680" y="228600"/>
            <a:ext cx="6362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1200" y="1467000"/>
            <a:ext cx="7581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 in paging file reserved for each potentially writable page (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ion APIs will fail if space cannot be committed in pag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expected failures, for example, won’t fail when touching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pped files don’t need paging fil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81160" y="13716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228600"/>
            <a:ext cx="360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ol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906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tt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/Query/Set memory of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to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19520" y="228600"/>
            <a:ext cx="3505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85960" y="1428840"/>
            <a:ext cx="73724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ized, structured repository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s the need for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as a multiway tree of nodes called k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has an access control list (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is time-stamped (last writ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contain child keys and multiple values per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343240" y="228600"/>
            <a:ext cx="4457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44792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penKeyEx - Opens key relative to a predefined handle (for example, HKEY_CURRENT_USER) or previously opened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reateKeyEx - Opens or creates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SetValueEx - Write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62080" y="1409760"/>
            <a:ext cx="68198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ValueEx - Read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InfoKey - Returns information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FlushKey - Commits changes to backing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loseKey - Closes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57440" y="1676520"/>
            <a:ext cx="58294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- Berkeley fl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, mails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419120" y="228600"/>
            <a:ext cx="630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Inter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162160" y="1352520"/>
            <a:ext cx="48196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cell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39068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46700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33600" y="1371600"/>
            <a:ext cx="6076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90600" y="228600"/>
            <a:ext cx="4762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09600" y="1981080"/>
            <a:ext cx="67248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, growable h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, low overhead, thread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these for per-proces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5760" y="1409760"/>
            <a:ext cx="69724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support sparse allocation of address space and provide control of page protection and 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stack expansion (can fail due to 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ppe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43040" y="1428840"/>
            <a:ext cx="76582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Mapping - returns handle to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d to create named shared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 - maps virtual memory to specified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 - unmaps specified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 - close handle to file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