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346800" y="0"/>
            <a:ext cx="278460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b Atkinson1 93006 OLE PDC 4/93 </a:t>
            </a:r>
            <a:fld id="{E2368CF5-6981-4375-89D7-2170D27FAB94}" type="slidenum"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1407960"/>
            <a:ext cx="81723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Basic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b Atkinson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’s The “Handler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33480" y="1123920"/>
            <a:ext cx="7277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iece of object-specific code that gets loaded in container space to dra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applications take &gt; 20 sec. to r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provides a 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as-is in 99% of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runs and initializes object server application when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only talks to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Structure Of Common Scenari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07960" y="1754280"/>
            <a:ext cx="63295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nly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-object server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application supporting links to its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-object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393920" y="4929120"/>
            <a:ext cx="63579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tting veneers on your existing data stru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-Only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744560"/>
            <a:ext cx="609588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Single-Object 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89080" y="1736640"/>
            <a:ext cx="6286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Object Application Supporting Links To Its Par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14480" y="2217600"/>
            <a:ext cx="5315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 Of A Container -Server Appl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4400" y="1749600"/>
            <a:ext cx="785484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un-Tim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presentation Of Interfac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360" y="2473200"/>
            <a:ext cx="9126720" cy="1712880"/>
            <a:chOff x="9360" y="2473200"/>
            <a:chExt cx="9126720" cy="1712880"/>
          </a:xfrm>
        </p:grpSpPr>
        <p:grpSp>
          <p:nvGrpSpPr>
            <p:cNvPr id="103" name=""/>
            <p:cNvGrpSpPr/>
            <p:nvPr/>
          </p:nvGrpSpPr>
          <p:grpSpPr>
            <a:xfrm>
              <a:off x="3209760" y="2931480"/>
              <a:ext cx="1329480" cy="173160"/>
              <a:chOff x="3209760" y="2931480"/>
              <a:chExt cx="1329480" cy="173160"/>
            </a:xfrm>
          </p:grpSpPr>
          <p:sp>
            <p:nvSpPr>
              <p:cNvPr id="104" name=""/>
              <p:cNvSpPr/>
              <p:nvPr/>
            </p:nvSpPr>
            <p:spPr>
              <a:xfrm>
                <a:off x="3209760" y="3017880"/>
                <a:ext cx="1144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37120" y="2931480"/>
                <a:ext cx="402120" cy="173160"/>
              </a:xfrm>
              <a:custGeom>
                <a:avLst/>
                <a:gdLst/>
                <a:ahLst/>
                <a:rect l="0" t="0" r="r" b="b"/>
                <a:pathLst>
                  <a:path w="1117" h="481">
                    <a:moveTo>
                      <a:pt x="1117" y="238"/>
                    </a:moveTo>
                    <a:lnTo>
                      <a:pt x="39" y="0"/>
                    </a:lnTo>
                    <a:lnTo>
                      <a:pt x="39" y="0"/>
                    </a:lnTo>
                    <a:cubicBezTo>
                      <a:pt x="13" y="77"/>
                      <a:pt x="0" y="157"/>
                      <a:pt x="0" y="238"/>
                    </a:cubicBezTo>
                    <a:cubicBezTo>
                      <a:pt x="0" y="320"/>
                      <a:pt x="13" y="402"/>
                      <a:pt x="41" y="481"/>
                    </a:cubicBezTo>
                    <a:lnTo>
                      <a:pt x="1117" y="238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 txBox="1"/>
            <p:nvPr/>
          </p:nvSpPr>
          <p:spPr>
            <a:xfrm>
              <a:off x="4862520" y="247320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tbl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135160" y="2473200"/>
              <a:ext cx="9684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 dat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97000" y="2801880"/>
              <a:ext cx="544680" cy="306360"/>
              <a:chOff x="297000" y="2801880"/>
              <a:chExt cx="544680" cy="306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97000" y="2844720"/>
                <a:ext cx="544680" cy="26352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 txBox="1"/>
              <p:nvPr/>
            </p:nvSpPr>
            <p:spPr>
              <a:xfrm>
                <a:off x="306360" y="2801880"/>
                <a:ext cx="4953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pintf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783400" y="2930400"/>
              <a:ext cx="1240920" cy="176040"/>
              <a:chOff x="5783400" y="2930400"/>
              <a:chExt cx="1240920" cy="176040"/>
            </a:xfrm>
          </p:grpSpPr>
          <p:sp>
            <p:nvSpPr>
              <p:cNvPr id="112" name=""/>
              <p:cNvSpPr/>
              <p:nvPr/>
            </p:nvSpPr>
            <p:spPr>
              <a:xfrm>
                <a:off x="5783400" y="3017880"/>
                <a:ext cx="10951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89880" y="2930400"/>
                <a:ext cx="334440" cy="176040"/>
              </a:xfrm>
              <a:custGeom>
                <a:avLst/>
                <a:gdLst/>
                <a:ahLst/>
                <a:rect l="0" t="0" r="r" b="b"/>
                <a:pathLst>
                  <a:path w="929" h="489">
                    <a:moveTo>
                      <a:pt x="929" y="240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1" y="79"/>
                      <a:pt x="0" y="161"/>
                      <a:pt x="0" y="243"/>
                    </a:cubicBezTo>
                    <a:cubicBezTo>
                      <a:pt x="0" y="326"/>
                      <a:pt x="11" y="409"/>
                      <a:pt x="35" y="489"/>
                    </a:cubicBezTo>
                    <a:lnTo>
                      <a:pt x="929" y="240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024680" y="2766960"/>
              <a:ext cx="2111400" cy="1382760"/>
              <a:chOff x="7024680" y="2766960"/>
              <a:chExt cx="2111400" cy="1382760"/>
            </a:xfrm>
          </p:grpSpPr>
          <p:sp>
            <p:nvSpPr>
              <p:cNvPr id="115" name=""/>
              <p:cNvSpPr/>
              <p:nvPr/>
            </p:nvSpPr>
            <p:spPr>
              <a:xfrm>
                <a:off x="7024680" y="2766960"/>
                <a:ext cx="2111400" cy="138276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7201080" y="3090960"/>
                <a:ext cx="159696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fn(pobj, arg1, arg2) {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7764480" y="3305160"/>
                <a:ext cx="30780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807320" y="3516480"/>
                <a:ext cx="2635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}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552920" y="2820960"/>
              <a:ext cx="1255680" cy="13651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3090960"/>
              <a:ext cx="1255680" cy="82548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52920" y="3360600"/>
              <a:ext cx="1255680" cy="28260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965840" y="280188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965840" y="306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4965840" y="3335400"/>
              <a:ext cx="404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fn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2480" y="2939040"/>
              <a:ext cx="1346760" cy="174600"/>
              <a:chOff x="852480" y="2939040"/>
              <a:chExt cx="1346760" cy="174600"/>
            </a:xfrm>
          </p:grpSpPr>
          <p:sp>
            <p:nvSpPr>
              <p:cNvPr id="126" name=""/>
              <p:cNvSpPr/>
              <p:nvPr/>
            </p:nvSpPr>
            <p:spPr>
              <a:xfrm>
                <a:off x="852480" y="3025800"/>
                <a:ext cx="10350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865160" y="2939040"/>
                <a:ext cx="334080" cy="174600"/>
              </a:xfrm>
              <a:custGeom>
                <a:avLst/>
                <a:gdLst/>
                <a:ahLst/>
                <a:rect l="0" t="0" r="r" b="b"/>
                <a:pathLst>
                  <a:path w="928" h="485">
                    <a:moveTo>
                      <a:pt x="928" y="242"/>
                    </a:moveTo>
                    <a:lnTo>
                      <a:pt x="34" y="0"/>
                    </a:lnTo>
                    <a:lnTo>
                      <a:pt x="34" y="0"/>
                    </a:lnTo>
                    <a:cubicBezTo>
                      <a:pt x="12" y="78"/>
                      <a:pt x="0" y="159"/>
                      <a:pt x="0" y="241"/>
                    </a:cubicBezTo>
                    <a:cubicBezTo>
                      <a:pt x="0" y="323"/>
                      <a:pt x="12" y="406"/>
                      <a:pt x="35" y="485"/>
                    </a:cubicBezTo>
                    <a:lnTo>
                      <a:pt x="928" y="242"/>
                    </a:lnTo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 txBox="1"/>
            <p:nvPr/>
          </p:nvSpPr>
          <p:spPr>
            <a:xfrm>
              <a:off x="9360" y="2473200"/>
              <a:ext cx="11890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 variab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224080" y="2801880"/>
              <a:ext cx="992160" cy="1097280"/>
              <a:chOff x="2224080" y="2801880"/>
              <a:chExt cx="992160" cy="109728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2224080" y="2803680"/>
                <a:ext cx="992160" cy="1095480"/>
                <a:chOff x="2224080" y="2803680"/>
                <a:chExt cx="992160" cy="10954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224080" y="2803680"/>
                  <a:ext cx="982800" cy="109548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224080" y="3075120"/>
                  <a:ext cx="982800" cy="554040"/>
                </a:xfrm>
                <a:prstGeom prst="rect">
                  <a:avLst/>
                </a:prstGeom>
                <a:solidFill>
                  <a:srgbClr val="00279f"/>
                </a:solidFill>
                <a:ln w="25560">
                  <a:solidFill>
                    <a:srgbClr val="ffffff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24080" y="3346560"/>
                  <a:ext cx="99216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 txBox="1"/>
              <p:nvPr/>
            </p:nvSpPr>
            <p:spPr>
              <a:xfrm>
                <a:off x="2457360" y="2801880"/>
                <a:ext cx="4507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ptr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417760" y="3111480"/>
                <a:ext cx="612720" cy="736560"/>
              </a:xfrm>
              <a:prstGeom prst="rect">
                <a:avLst/>
              </a:prstGeom>
              <a:solidFill>
                <a:srgbClr val="00279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"/>
              <p:cNvGrpSpPr/>
              <p:nvPr/>
            </p:nvGrpSpPr>
            <p:grpSpPr>
              <a:xfrm>
                <a:off x="2352600" y="3141720"/>
                <a:ext cx="642960" cy="725400"/>
                <a:chOff x="2352600" y="3141720"/>
                <a:chExt cx="642960" cy="725400"/>
              </a:xfrm>
            </p:grpSpPr>
            <p:sp>
              <p:nvSpPr>
                <p:cNvPr id="137" name=""/>
                <p:cNvSpPr txBox="1"/>
                <p:nvPr/>
              </p:nvSpPr>
              <p:spPr>
                <a:xfrm>
                  <a:off x="2352600" y="3141720"/>
                  <a:ext cx="64296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iv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 txBox="1"/>
                <p:nvPr/>
              </p:nvSpPr>
              <p:spPr>
                <a:xfrm>
                  <a:off x="2352600" y="3357720"/>
                  <a:ext cx="58752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object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2352600" y="3576600"/>
                  <a:ext cx="487440" cy="29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state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Pictu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25480" y="2343240"/>
            <a:ext cx="2325600" cy="1689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7600" y="3166920"/>
            <a:ext cx="4964040" cy="2800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22360" y="1055520"/>
            <a:ext cx="3726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with thre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ain:  How It Fits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132000" y="3141720"/>
            <a:ext cx="604800" cy="244440"/>
            <a:chOff x="3132000" y="3141720"/>
            <a:chExt cx="604800" cy="244440"/>
          </a:xfrm>
        </p:grpSpPr>
        <p:sp>
          <p:nvSpPr>
            <p:cNvPr id="146" name=""/>
            <p:cNvSpPr/>
            <p:nvPr/>
          </p:nvSpPr>
          <p:spPr>
            <a:xfrm>
              <a:off x="3132000" y="31417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5640" y="325764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389320" y="1700280"/>
            <a:ext cx="1120680" cy="341280"/>
            <a:chOff x="2389320" y="1700280"/>
            <a:chExt cx="1120680" cy="341280"/>
          </a:xfrm>
        </p:grpSpPr>
        <p:sp>
          <p:nvSpPr>
            <p:cNvPr id="149" name=""/>
            <p:cNvSpPr/>
            <p:nvPr/>
          </p:nvSpPr>
          <p:spPr>
            <a:xfrm>
              <a:off x="2389320" y="170028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2438280" y="172872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338560" y="2255760"/>
            <a:ext cx="1171440" cy="341280"/>
            <a:chOff x="2338560" y="2255760"/>
            <a:chExt cx="1171440" cy="341280"/>
          </a:xfrm>
        </p:grpSpPr>
        <p:sp>
          <p:nvSpPr>
            <p:cNvPr id="152" name=""/>
            <p:cNvSpPr/>
            <p:nvPr/>
          </p:nvSpPr>
          <p:spPr>
            <a:xfrm>
              <a:off x="2338560" y="2255760"/>
              <a:ext cx="11714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2432160" y="228600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View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266920" y="1333440"/>
            <a:ext cx="0" cy="5180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84360" y="1044720"/>
            <a:ext cx="1293840" cy="341280"/>
            <a:chOff x="1584360" y="1044720"/>
            <a:chExt cx="1293840" cy="341280"/>
          </a:xfrm>
        </p:grpSpPr>
        <p:sp>
          <p:nvSpPr>
            <p:cNvPr id="156" name=""/>
            <p:cNvSpPr/>
            <p:nvPr/>
          </p:nvSpPr>
          <p:spPr>
            <a:xfrm>
              <a:off x="1584360" y="1044720"/>
              <a:ext cx="129384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633680" y="1073160"/>
              <a:ext cx="1103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540480" y="1405080"/>
            <a:ext cx="38160" cy="5136840"/>
            <a:chOff x="6540480" y="1405080"/>
            <a:chExt cx="38160" cy="5136840"/>
          </a:xfrm>
        </p:grpSpPr>
        <p:sp>
          <p:nvSpPr>
            <p:cNvPr id="159" name=""/>
            <p:cNvSpPr/>
            <p:nvPr/>
          </p:nvSpPr>
          <p:spPr>
            <a:xfrm>
              <a:off x="654048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78640" y="1405080"/>
              <a:ext cx="0" cy="51368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832360" y="1015920"/>
            <a:ext cx="1571760" cy="341280"/>
            <a:chOff x="5832360" y="1015920"/>
            <a:chExt cx="1571760" cy="341280"/>
          </a:xfrm>
        </p:grpSpPr>
        <p:sp>
          <p:nvSpPr>
            <p:cNvPr id="162" name=""/>
            <p:cNvSpPr/>
            <p:nvPr/>
          </p:nvSpPr>
          <p:spPr>
            <a:xfrm>
              <a:off x="5832360" y="1015920"/>
              <a:ext cx="157176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81680" y="1044720"/>
              <a:ext cx="13064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cess Bounda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637320" y="1758960"/>
            <a:ext cx="1120680" cy="341280"/>
            <a:chOff x="6637320" y="1758960"/>
            <a:chExt cx="1120680" cy="341280"/>
          </a:xfrm>
        </p:grpSpPr>
        <p:sp>
          <p:nvSpPr>
            <p:cNvPr id="165" name=""/>
            <p:cNvSpPr/>
            <p:nvPr/>
          </p:nvSpPr>
          <p:spPr>
            <a:xfrm>
              <a:off x="6637320" y="1758960"/>
              <a:ext cx="1120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686640" y="1787400"/>
              <a:ext cx="928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ata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772160" y="5479920"/>
            <a:ext cx="244440" cy="400320"/>
            <a:chOff x="4772160" y="5479920"/>
            <a:chExt cx="244440" cy="400320"/>
          </a:xfrm>
        </p:grpSpPr>
        <p:sp>
          <p:nvSpPr>
            <p:cNvPr id="168" name=""/>
            <p:cNvSpPr/>
            <p:nvPr/>
          </p:nvSpPr>
          <p:spPr>
            <a:xfrm>
              <a:off x="4772160" y="547992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89520" y="5715000"/>
              <a:ext cx="0" cy="165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203960" y="2043000"/>
            <a:ext cx="604800" cy="244440"/>
            <a:chOff x="7203960" y="2043000"/>
            <a:chExt cx="604800" cy="244440"/>
          </a:xfrm>
        </p:grpSpPr>
        <p:sp>
          <p:nvSpPr>
            <p:cNvPr id="171" name=""/>
            <p:cNvSpPr/>
            <p:nvPr/>
          </p:nvSpPr>
          <p:spPr>
            <a:xfrm>
              <a:off x="7203960" y="2043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9040" y="216072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32000" y="2014560"/>
            <a:ext cx="604800" cy="244440"/>
            <a:chOff x="3132000" y="2014560"/>
            <a:chExt cx="604800" cy="244440"/>
          </a:xfrm>
        </p:grpSpPr>
        <p:sp>
          <p:nvSpPr>
            <p:cNvPr id="174" name=""/>
            <p:cNvSpPr/>
            <p:nvPr/>
          </p:nvSpPr>
          <p:spPr>
            <a:xfrm>
              <a:off x="3132000" y="20145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5640" y="213192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132000" y="2556000"/>
            <a:ext cx="604800" cy="244440"/>
            <a:chOff x="3132000" y="2556000"/>
            <a:chExt cx="604800" cy="244440"/>
          </a:xfrm>
        </p:grpSpPr>
        <p:sp>
          <p:nvSpPr>
            <p:cNvPr id="177" name=""/>
            <p:cNvSpPr/>
            <p:nvPr/>
          </p:nvSpPr>
          <p:spPr>
            <a:xfrm>
              <a:off x="3132000" y="25560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65640" y="267336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535040" y="2270160"/>
            <a:ext cx="477720" cy="244440"/>
            <a:chOff x="1535040" y="2270160"/>
            <a:chExt cx="477720" cy="244440"/>
          </a:xfrm>
        </p:grpSpPr>
        <p:sp>
          <p:nvSpPr>
            <p:cNvPr id="180" name=""/>
            <p:cNvSpPr/>
            <p:nvPr/>
          </p:nvSpPr>
          <p:spPr>
            <a:xfrm>
              <a:off x="1768320" y="22701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535040" y="23875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770960" y="1496880"/>
            <a:ext cx="873360" cy="3405960"/>
            <a:chOff x="7770960" y="1496880"/>
            <a:chExt cx="873360" cy="3405960"/>
          </a:xfrm>
        </p:grpSpPr>
        <p:sp>
          <p:nvSpPr>
            <p:cNvPr id="183" name=""/>
            <p:cNvSpPr/>
            <p:nvPr/>
          </p:nvSpPr>
          <p:spPr>
            <a:xfrm>
              <a:off x="7808760" y="153684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08760" y="153684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0960" y="1496880"/>
              <a:ext cx="825840" cy="3356280"/>
            </a:xfrm>
            <a:custGeom>
              <a:avLst/>
              <a:gdLst/>
              <a:ahLst/>
              <a:rect l="0" t="0" r="r" b="b"/>
              <a:pathLst>
                <a:path fill="none" w="2294" h="9323">
                  <a:moveTo>
                    <a:pt x="2294" y="0"/>
                  </a:moveTo>
                  <a:lnTo>
                    <a:pt x="0" y="0"/>
                  </a:lnTo>
                  <a:lnTo>
                    <a:pt x="0" y="9323"/>
                  </a:lnTo>
                  <a:lnTo>
                    <a:pt x="2294" y="9323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0960" y="1496880"/>
              <a:ext cx="835560" cy="3366000"/>
            </a:xfrm>
            <a:custGeom>
              <a:avLst/>
              <a:gdLst/>
              <a:ahLst/>
              <a:rect l="0" t="0" r="r" b="b"/>
              <a:pathLst>
                <a:path fill="none" w="2321" h="9350">
                  <a:moveTo>
                    <a:pt x="2321" y="0"/>
                  </a:moveTo>
                  <a:lnTo>
                    <a:pt x="0" y="0"/>
                  </a:lnTo>
                  <a:lnTo>
                    <a:pt x="0" y="9350"/>
                  </a:lnTo>
                  <a:lnTo>
                    <a:pt x="2321" y="9350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90040" y="1515960"/>
              <a:ext cx="825840" cy="3358080"/>
            </a:xfrm>
            <a:custGeom>
              <a:avLst/>
              <a:gdLst/>
              <a:ahLst/>
              <a:rect l="0" t="0" r="r" b="b"/>
              <a:pathLst>
                <a:path fill="none" w="2294" h="9328">
                  <a:moveTo>
                    <a:pt x="2294" y="0"/>
                  </a:moveTo>
                  <a:lnTo>
                    <a:pt x="0" y="0"/>
                  </a:lnTo>
                  <a:lnTo>
                    <a:pt x="0" y="9328"/>
                  </a:lnTo>
                  <a:lnTo>
                    <a:pt x="2294" y="9328"/>
                  </a:lnTo>
                  <a:lnTo>
                    <a:pt x="2294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0040" y="1515960"/>
              <a:ext cx="835560" cy="3367440"/>
            </a:xfrm>
            <a:custGeom>
              <a:avLst/>
              <a:gdLst/>
              <a:ahLst/>
              <a:rect l="0" t="0" r="r" b="b"/>
              <a:pathLst>
                <a:path fill="none" w="2321" h="9354">
                  <a:moveTo>
                    <a:pt x="2321" y="0"/>
                  </a:moveTo>
                  <a:lnTo>
                    <a:pt x="0" y="0"/>
                  </a:lnTo>
                  <a:lnTo>
                    <a:pt x="0" y="9354"/>
                  </a:lnTo>
                  <a:lnTo>
                    <a:pt x="2321" y="9354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859880" y="1582560"/>
            <a:ext cx="590400" cy="462240"/>
            <a:chOff x="7859880" y="1582560"/>
            <a:chExt cx="590400" cy="462240"/>
          </a:xfrm>
        </p:grpSpPr>
        <p:sp>
          <p:nvSpPr>
            <p:cNvPr id="190" name=""/>
            <p:cNvSpPr txBox="1"/>
            <p:nvPr/>
          </p:nvSpPr>
          <p:spPr>
            <a:xfrm>
              <a:off x="7859880" y="158256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859880" y="177012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4297320" y="5896080"/>
            <a:ext cx="114300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Obj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57560" y="5465880"/>
            <a:ext cx="700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93640" y="1844640"/>
            <a:ext cx="976680" cy="2487960"/>
            <a:chOff x="593640" y="1844640"/>
            <a:chExt cx="976680" cy="2487960"/>
          </a:xfrm>
        </p:grpSpPr>
        <p:sp>
          <p:nvSpPr>
            <p:cNvPr id="195" name=""/>
            <p:cNvSpPr/>
            <p:nvPr/>
          </p:nvSpPr>
          <p:spPr>
            <a:xfrm>
              <a:off x="631800" y="1913040"/>
              <a:ext cx="929160" cy="2403720"/>
            </a:xfrm>
            <a:custGeom>
              <a:avLst/>
              <a:gdLst/>
              <a:ahLst/>
              <a:rect l="0" t="0" r="r" b="b"/>
              <a:pathLst>
                <a:path fill="none" w="2581" h="6677">
                  <a:moveTo>
                    <a:pt x="0" y="0"/>
                  </a:moveTo>
                  <a:lnTo>
                    <a:pt x="2581" y="0"/>
                  </a:lnTo>
                  <a:lnTo>
                    <a:pt x="2581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1800" y="191304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3365fb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3640" y="1844640"/>
              <a:ext cx="927360" cy="2403720"/>
            </a:xfrm>
            <a:custGeom>
              <a:avLst/>
              <a:gdLst/>
              <a:ahLst/>
              <a:rect l="0" t="0" r="r" b="b"/>
              <a:pathLst>
                <a:path fill="none" w="2576" h="6677">
                  <a:moveTo>
                    <a:pt x="0" y="0"/>
                  </a:moveTo>
                  <a:lnTo>
                    <a:pt x="2576" y="0"/>
                  </a:lnTo>
                  <a:lnTo>
                    <a:pt x="2576" y="6677"/>
                  </a:lnTo>
                  <a:lnTo>
                    <a:pt x="0" y="6677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3640" y="1844640"/>
              <a:ext cx="937080" cy="2419560"/>
            </a:xfrm>
            <a:custGeom>
              <a:avLst/>
              <a:gdLst/>
              <a:ahLst/>
              <a:rect l="0" t="0" r="r" b="b"/>
              <a:pathLst>
                <a:path fill="none" w="2603" h="6721">
                  <a:moveTo>
                    <a:pt x="0" y="0"/>
                  </a:moveTo>
                  <a:lnTo>
                    <a:pt x="2603" y="0"/>
                  </a:lnTo>
                  <a:lnTo>
                    <a:pt x="2603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081d58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2720" y="1878120"/>
              <a:ext cx="929160" cy="2402280"/>
            </a:xfrm>
            <a:custGeom>
              <a:avLst/>
              <a:gdLst/>
              <a:ahLst/>
              <a:rect l="0" t="0" r="r" b="b"/>
              <a:pathLst>
                <a:path fill="none" w="2581" h="6673">
                  <a:moveTo>
                    <a:pt x="0" y="0"/>
                  </a:moveTo>
                  <a:lnTo>
                    <a:pt x="2581" y="0"/>
                  </a:lnTo>
                  <a:lnTo>
                    <a:pt x="2581" y="6673"/>
                  </a:lnTo>
                  <a:lnTo>
                    <a:pt x="0" y="6673"/>
                  </a:lnTo>
                  <a:lnTo>
                    <a:pt x="0" y="0"/>
                  </a:lnTo>
                </a:path>
              </a:pathLst>
            </a:custGeom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2720" y="1878120"/>
              <a:ext cx="938520" cy="2419560"/>
            </a:xfrm>
            <a:custGeom>
              <a:avLst/>
              <a:gdLst/>
              <a:ahLst/>
              <a:rect l="0" t="0" r="r" b="b"/>
              <a:pathLst>
                <a:path fill="none" w="2607" h="6721">
                  <a:moveTo>
                    <a:pt x="0" y="0"/>
                  </a:moveTo>
                  <a:lnTo>
                    <a:pt x="2607" y="0"/>
                  </a:lnTo>
                  <a:lnTo>
                    <a:pt x="2607" y="6721"/>
                  </a:lnTo>
                  <a:lnTo>
                    <a:pt x="0" y="6721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1480" y="1995480"/>
            <a:ext cx="976320" cy="461880"/>
            <a:chOff x="501480" y="1995480"/>
            <a:chExt cx="976320" cy="461880"/>
          </a:xfrm>
        </p:grpSpPr>
        <p:sp>
          <p:nvSpPr>
            <p:cNvPr id="202" name=""/>
            <p:cNvSpPr txBox="1"/>
            <p:nvPr/>
          </p:nvSpPr>
          <p:spPr>
            <a:xfrm>
              <a:off x="501480" y="1995480"/>
              <a:ext cx="903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beddi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1082520" y="218268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600" y="3411360"/>
            <a:ext cx="1171440" cy="343080"/>
            <a:chOff x="2514600" y="3411360"/>
            <a:chExt cx="1171440" cy="343080"/>
          </a:xfrm>
        </p:grpSpPr>
        <p:sp>
          <p:nvSpPr>
            <p:cNvPr id="205" name=""/>
            <p:cNvSpPr/>
            <p:nvPr/>
          </p:nvSpPr>
          <p:spPr>
            <a:xfrm>
              <a:off x="2514600" y="3411360"/>
              <a:ext cx="11714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2701800" y="3441600"/>
              <a:ext cx="83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Cach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713040" y="1555920"/>
            <a:ext cx="2263680" cy="3432240"/>
            <a:chOff x="3713040" y="1555920"/>
            <a:chExt cx="2263680" cy="3432240"/>
          </a:xfrm>
        </p:grpSpPr>
        <p:sp>
          <p:nvSpPr>
            <p:cNvPr id="208" name=""/>
            <p:cNvSpPr/>
            <p:nvPr/>
          </p:nvSpPr>
          <p:spPr>
            <a:xfrm>
              <a:off x="3751200" y="1595520"/>
              <a:ext cx="222552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3040" y="1555920"/>
              <a:ext cx="2224080" cy="339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32120" y="1574640"/>
              <a:ext cx="2222640" cy="339084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625760" y="2527200"/>
            <a:ext cx="1111320" cy="341280"/>
            <a:chOff x="1625760" y="2527200"/>
            <a:chExt cx="1111320" cy="341280"/>
          </a:xfrm>
        </p:grpSpPr>
        <p:sp>
          <p:nvSpPr>
            <p:cNvPr id="212" name=""/>
            <p:cNvSpPr/>
            <p:nvPr/>
          </p:nvSpPr>
          <p:spPr>
            <a:xfrm>
              <a:off x="1625760" y="2527200"/>
              <a:ext cx="11113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674720" y="2556000"/>
              <a:ext cx="946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AdviseSi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990960" y="1619280"/>
            <a:ext cx="1538280" cy="463680"/>
            <a:chOff x="3990960" y="1619280"/>
            <a:chExt cx="1538280" cy="463680"/>
          </a:xfrm>
        </p:grpSpPr>
        <p:sp>
          <p:nvSpPr>
            <p:cNvPr id="215" name=""/>
            <p:cNvSpPr txBox="1"/>
            <p:nvPr/>
          </p:nvSpPr>
          <p:spPr>
            <a:xfrm>
              <a:off x="4494240" y="1619280"/>
              <a:ext cx="70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l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990960" y="1808280"/>
              <a:ext cx="1538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default or otherwise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160800" y="3770280"/>
            <a:ext cx="606240" cy="244440"/>
            <a:chOff x="3160800" y="3770280"/>
            <a:chExt cx="606240" cy="244440"/>
          </a:xfrm>
        </p:grpSpPr>
        <p:sp>
          <p:nvSpPr>
            <p:cNvPr id="218" name=""/>
            <p:cNvSpPr/>
            <p:nvPr/>
          </p:nvSpPr>
          <p:spPr>
            <a:xfrm>
              <a:off x="3160800" y="377028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5520" y="388764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293920" y="4025880"/>
            <a:ext cx="1420920" cy="343080"/>
            <a:chOff x="2293920" y="4025880"/>
            <a:chExt cx="1420920" cy="343080"/>
          </a:xfrm>
        </p:grpSpPr>
        <p:sp>
          <p:nvSpPr>
            <p:cNvPr id="221" name=""/>
            <p:cNvSpPr/>
            <p:nvPr/>
          </p:nvSpPr>
          <p:spPr>
            <a:xfrm>
              <a:off x="2293920" y="402588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400480" y="405612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189920" y="3024360"/>
            <a:ext cx="604800" cy="244440"/>
            <a:chOff x="7189920" y="3024360"/>
            <a:chExt cx="604800" cy="244440"/>
          </a:xfrm>
        </p:grpSpPr>
        <p:sp>
          <p:nvSpPr>
            <p:cNvPr id="224" name=""/>
            <p:cNvSpPr/>
            <p:nvPr/>
          </p:nvSpPr>
          <p:spPr>
            <a:xfrm>
              <a:off x="7189920" y="30243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23200" y="3141720"/>
              <a:ext cx="3715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465960" y="3308400"/>
            <a:ext cx="1420920" cy="343080"/>
            <a:chOff x="6465960" y="3308400"/>
            <a:chExt cx="1420920" cy="343080"/>
          </a:xfrm>
        </p:grpSpPr>
        <p:sp>
          <p:nvSpPr>
            <p:cNvPr id="227" name=""/>
            <p:cNvSpPr/>
            <p:nvPr/>
          </p:nvSpPr>
          <p:spPr>
            <a:xfrm>
              <a:off x="6465960" y="3308400"/>
              <a:ext cx="142092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6570720" y="3338640"/>
              <a:ext cx="1106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PersistSto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132000" y="4325760"/>
            <a:ext cx="604800" cy="244440"/>
            <a:chOff x="3132000" y="4325760"/>
            <a:chExt cx="604800" cy="244440"/>
          </a:xfrm>
        </p:grpSpPr>
        <p:sp>
          <p:nvSpPr>
            <p:cNvPr id="230" name=""/>
            <p:cNvSpPr/>
            <p:nvPr/>
          </p:nvSpPr>
          <p:spPr>
            <a:xfrm>
              <a:off x="3132000" y="432576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5640" y="4443480"/>
              <a:ext cx="37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484360" y="4583160"/>
            <a:ext cx="1201680" cy="341280"/>
            <a:chOff x="2484360" y="4583160"/>
            <a:chExt cx="1201680" cy="341280"/>
          </a:xfrm>
        </p:grpSpPr>
        <p:sp>
          <p:nvSpPr>
            <p:cNvPr id="233" name=""/>
            <p:cNvSpPr/>
            <p:nvPr/>
          </p:nvSpPr>
          <p:spPr>
            <a:xfrm>
              <a:off x="2484360" y="4583160"/>
              <a:ext cx="120168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2701800" y="461160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203960" y="3800520"/>
            <a:ext cx="604800" cy="243000"/>
            <a:chOff x="7203960" y="3800520"/>
            <a:chExt cx="604800" cy="243000"/>
          </a:xfrm>
        </p:grpSpPr>
        <p:sp>
          <p:nvSpPr>
            <p:cNvPr id="236" name=""/>
            <p:cNvSpPr/>
            <p:nvPr/>
          </p:nvSpPr>
          <p:spPr>
            <a:xfrm>
              <a:off x="7203960" y="3800520"/>
              <a:ext cx="244440" cy="243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39040" y="3916440"/>
              <a:ext cx="3697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688080" y="4056120"/>
            <a:ext cx="1069920" cy="341280"/>
            <a:chOff x="6688080" y="4056120"/>
            <a:chExt cx="1069920" cy="341280"/>
          </a:xfrm>
        </p:grpSpPr>
        <p:sp>
          <p:nvSpPr>
            <p:cNvPr id="239" name=""/>
            <p:cNvSpPr/>
            <p:nvPr/>
          </p:nvSpPr>
          <p:spPr>
            <a:xfrm>
              <a:off x="6688080" y="4056120"/>
              <a:ext cx="1069920" cy="34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6775560" y="4086360"/>
              <a:ext cx="86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803840" y="4997520"/>
            <a:ext cx="162360" cy="390960"/>
            <a:chOff x="4803840" y="4997520"/>
            <a:chExt cx="162360" cy="390960"/>
          </a:xfrm>
        </p:grpSpPr>
        <p:sp>
          <p:nvSpPr>
            <p:cNvPr id="242" name=""/>
            <p:cNvSpPr/>
            <p:nvPr/>
          </p:nvSpPr>
          <p:spPr>
            <a:xfrm>
              <a:off x="4889520" y="5146560"/>
              <a:ext cx="0" cy="1018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3840" y="5105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786"/>
                  </a:moveTo>
                  <a:lnTo>
                    <a:pt x="451" y="0"/>
                  </a:lnTo>
                  <a:lnTo>
                    <a:pt x="0" y="0"/>
                  </a:lnTo>
                  <a:lnTo>
                    <a:pt x="225" y="7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3840" y="4997520"/>
              <a:ext cx="162360" cy="282960"/>
            </a:xfrm>
            <a:custGeom>
              <a:avLst/>
              <a:gdLst/>
              <a:ahLst/>
              <a:rect l="0" t="0" r="r" b="b"/>
              <a:pathLst>
                <a:path w="451" h="786">
                  <a:moveTo>
                    <a:pt x="225" y="0"/>
                  </a:moveTo>
                  <a:lnTo>
                    <a:pt x="0" y="786"/>
                  </a:lnTo>
                  <a:lnTo>
                    <a:pt x="451" y="786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81760" y="4937040"/>
            <a:ext cx="2873880" cy="671760"/>
          </a:xfrm>
          <a:custGeom>
            <a:avLst/>
            <a:gdLst/>
            <a:ahLst/>
            <a:rect l="0" t="0" r="r" b="b"/>
            <a:pathLst>
              <a:path fill="none" w="7983" h="1866">
                <a:moveTo>
                  <a:pt x="0" y="1866"/>
                </a:moveTo>
                <a:lnTo>
                  <a:pt x="0" y="1866"/>
                </a:lnTo>
                <a:cubicBezTo>
                  <a:pt x="1401" y="1866"/>
                  <a:pt x="2778" y="1780"/>
                  <a:pt x="3992" y="1616"/>
                </a:cubicBezTo>
                <a:cubicBezTo>
                  <a:pt x="5205" y="1452"/>
                  <a:pt x="6213" y="1217"/>
                  <a:pt x="6913" y="933"/>
                </a:cubicBezTo>
                <a:cubicBezTo>
                  <a:pt x="7614" y="649"/>
                  <a:pt x="7983" y="328"/>
                  <a:pt x="7983" y="0"/>
                </a:cubicBez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24000" y="4408560"/>
            <a:ext cx="2943720" cy="1614960"/>
          </a:xfrm>
          <a:custGeom>
            <a:avLst/>
            <a:gdLst/>
            <a:ahLst/>
            <a:rect l="0" t="0" r="r" b="b"/>
            <a:pathLst>
              <a:path fill="none" w="8177" h="4486">
                <a:moveTo>
                  <a:pt x="0" y="0"/>
                </a:moveTo>
                <a:lnTo>
                  <a:pt x="0" y="0"/>
                </a:lnTo>
                <a:cubicBezTo>
                  <a:pt x="0" y="787"/>
                  <a:pt x="378" y="1561"/>
                  <a:pt x="1096" y="2243"/>
                </a:cubicBezTo>
                <a:cubicBezTo>
                  <a:pt x="1813" y="2925"/>
                  <a:pt x="2845" y="3491"/>
                  <a:pt x="4089" y="3885"/>
                </a:cubicBezTo>
                <a:cubicBezTo>
                  <a:pt x="5332" y="4279"/>
                  <a:pt x="6742" y="4486"/>
                  <a:pt x="8177" y="4486"/>
                </a:cubicBezTo>
              </a:path>
            </a:pathLst>
          </a:custGeom>
          <a:ln w="25560">
            <a:solidFill>
              <a:srgbClr val="fafd00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16040" y="3279600"/>
            <a:ext cx="477720" cy="244440"/>
            <a:chOff x="1616040" y="3279600"/>
            <a:chExt cx="477720" cy="244440"/>
          </a:xfrm>
        </p:grpSpPr>
        <p:sp>
          <p:nvSpPr>
            <p:cNvPr id="248" name=""/>
            <p:cNvSpPr/>
            <p:nvPr/>
          </p:nvSpPr>
          <p:spPr>
            <a:xfrm>
              <a:off x="1849320" y="3279600"/>
              <a:ext cx="244440" cy="244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616040" y="3397320"/>
              <a:ext cx="254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663560" y="3965400"/>
            <a:ext cx="11113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641600" y="357984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5120" y="1343160"/>
            <a:ext cx="8755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storage space for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n implementation of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ystem in a file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gets a directory to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ntainers will choose to use Compound Files implementation to support objects (file format chang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ced for docu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 storage to object with IPersistStorag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Begin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36368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contai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objec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ded and lin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 mix ’n’ matc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t development, testing, shipping, delivery, installation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s an architecture that lets this controlled chaos actuall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00200" y="3886200"/>
            <a:ext cx="7000920" cy="24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31800" y="1173240"/>
            <a:ext cx="78818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object in container with normal container UI tools; inform object of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object to draw itself with IVie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k that ability to draw be maintained even when object not running with IOle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lso pull data from the object with IData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 data formats can be cached, t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en for changes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139068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“Verbs” on container’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enumerates verbs on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invokes verb with DoVer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can close object, show it, hide i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90720" y="1527120"/>
            <a:ext cx="7162920" cy="33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ing:  Container provides names for it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from deep inside object will use container-provided name as part of source in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container-object inte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41440" y="1230480"/>
            <a:ext cx="806292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your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an IStorage (“directory”) from container with IPersist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 is container of IStorages and I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hatever structure you like inside you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 very much lik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your data at your lei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your data when ask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90720" y="1344600"/>
            <a:ext cx="7162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presentation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Data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/SetData/Enum/Adv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keyed by familiar clipboard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with optional target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assed on media other than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, files, 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53920" y="1309680"/>
            <a:ext cx="74376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Here avoids double cop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GetData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independent of connection establishment and ter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is used uniformly in OLE2 for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ations, clipboard, Drag and 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 Revisit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631880"/>
            <a:ext cx="76201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 your thing in Do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wish to in-place activate, attempt it by negotiating with contai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 down, etc., as instructed by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States:  Container Perspectiv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128680" y="2689200"/>
            <a:ext cx="3420000" cy="1727280"/>
            <a:chOff x="2128680" y="2689200"/>
            <a:chExt cx="3420000" cy="1727280"/>
          </a:xfrm>
        </p:grpSpPr>
        <p:sp>
          <p:nvSpPr>
            <p:cNvPr id="270" name=""/>
            <p:cNvSpPr/>
            <p:nvPr/>
          </p:nvSpPr>
          <p:spPr>
            <a:xfrm flipV="1">
              <a:off x="2128680" y="2766960"/>
              <a:ext cx="3279960" cy="1649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9880" y="2689200"/>
              <a:ext cx="298800" cy="201960"/>
            </a:xfrm>
            <a:custGeom>
              <a:avLst/>
              <a:gdLst/>
              <a:ahLst/>
              <a:rect l="0" t="0" r="r" b="b"/>
              <a:pathLst>
                <a:path w="830" h="561">
                  <a:moveTo>
                    <a:pt x="830" y="0"/>
                  </a:moveTo>
                  <a:lnTo>
                    <a:pt x="0" y="151"/>
                  </a:lnTo>
                  <a:lnTo>
                    <a:pt x="213" y="56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111320" y="2050920"/>
            <a:ext cx="1792440" cy="849240"/>
            <a:chOff x="1111320" y="2050920"/>
            <a:chExt cx="1792440" cy="849240"/>
          </a:xfrm>
        </p:grpSpPr>
        <p:sp>
          <p:nvSpPr>
            <p:cNvPr id="273" name=""/>
            <p:cNvSpPr/>
            <p:nvPr/>
          </p:nvSpPr>
          <p:spPr>
            <a:xfrm>
              <a:off x="1111320" y="2050920"/>
              <a:ext cx="179244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579680" y="2211480"/>
              <a:ext cx="752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ssive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623960" y="2425680"/>
              <a:ext cx="712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n dis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548320" y="2095560"/>
            <a:ext cx="1312920" cy="546120"/>
            <a:chOff x="5548320" y="2095560"/>
            <a:chExt cx="1312920" cy="546120"/>
          </a:xfrm>
        </p:grpSpPr>
        <p:sp>
          <p:nvSpPr>
            <p:cNvPr id="277" name=""/>
            <p:cNvSpPr/>
            <p:nvPr/>
          </p:nvSpPr>
          <p:spPr>
            <a:xfrm>
              <a:off x="5548320" y="2095560"/>
              <a:ext cx="1312920" cy="5461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5837400" y="2211480"/>
              <a:ext cx="6681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ade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667480" y="4314960"/>
            <a:ext cx="1434960" cy="849240"/>
            <a:chOff x="5667480" y="4314960"/>
            <a:chExt cx="1434960" cy="849240"/>
          </a:xfrm>
        </p:grpSpPr>
        <p:sp>
          <p:nvSpPr>
            <p:cNvPr id="280" name=""/>
            <p:cNvSpPr/>
            <p:nvPr/>
          </p:nvSpPr>
          <p:spPr>
            <a:xfrm>
              <a:off x="5667480" y="4314960"/>
              <a:ext cx="143496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5961240" y="447516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5967360" y="4689360"/>
              <a:ext cx="797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887400" y="4389480"/>
            <a:ext cx="1433520" cy="849240"/>
            <a:chOff x="887400" y="4389480"/>
            <a:chExt cx="1433520" cy="849240"/>
          </a:xfrm>
        </p:grpSpPr>
        <p:sp>
          <p:nvSpPr>
            <p:cNvPr id="284" name=""/>
            <p:cNvSpPr/>
            <p:nvPr/>
          </p:nvSpPr>
          <p:spPr>
            <a:xfrm>
              <a:off x="887400" y="4389480"/>
              <a:ext cx="1433520" cy="84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1181160" y="4549680"/>
              <a:ext cx="831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unning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1255680" y="476424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isib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786040" y="2109960"/>
            <a:ext cx="2740320" cy="167040"/>
            <a:chOff x="2786040" y="2109960"/>
            <a:chExt cx="2740320" cy="167040"/>
          </a:xfrm>
        </p:grpSpPr>
        <p:sp>
          <p:nvSpPr>
            <p:cNvPr id="288" name=""/>
            <p:cNvSpPr/>
            <p:nvPr/>
          </p:nvSpPr>
          <p:spPr>
            <a:xfrm>
              <a:off x="2786040" y="2200320"/>
              <a:ext cx="26002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46640" y="2109960"/>
              <a:ext cx="279720" cy="167040"/>
            </a:xfrm>
            <a:custGeom>
              <a:avLst/>
              <a:gdLst/>
              <a:ahLst/>
              <a:rect l="0" t="0" r="r" b="b"/>
              <a:pathLst>
                <a:path w="777" h="464">
                  <a:moveTo>
                    <a:pt x="777" y="238"/>
                  </a:moveTo>
                  <a:lnTo>
                    <a:pt x="0" y="0"/>
                  </a:lnTo>
                  <a:lnTo>
                    <a:pt x="0" y="464"/>
                  </a:lnTo>
                  <a:lnTo>
                    <a:pt x="77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 txBox="1"/>
          <p:nvPr/>
        </p:nvSpPr>
        <p:spPr>
          <a:xfrm>
            <a:off x="3621240" y="1947960"/>
            <a:ext cx="965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54160" y="2468520"/>
            <a:ext cx="2676600" cy="167040"/>
            <a:chOff x="2954160" y="2468520"/>
            <a:chExt cx="2676600" cy="167040"/>
          </a:xfrm>
        </p:grpSpPr>
        <p:sp>
          <p:nvSpPr>
            <p:cNvPr id="292" name=""/>
            <p:cNvSpPr/>
            <p:nvPr/>
          </p:nvSpPr>
          <p:spPr>
            <a:xfrm flipH="1">
              <a:off x="3100320" y="2557440"/>
              <a:ext cx="25304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54160" y="2468520"/>
              <a:ext cx="281520" cy="167040"/>
            </a:xfrm>
            <a:custGeom>
              <a:avLst/>
              <a:gdLst/>
              <a:ahLst/>
              <a:rect l="0" t="0" r="r" b="b"/>
              <a:pathLst>
                <a:path w="782" h="464">
                  <a:moveTo>
                    <a:pt x="0" y="234"/>
                  </a:moveTo>
                  <a:lnTo>
                    <a:pt x="782" y="464"/>
                  </a:lnTo>
                  <a:lnTo>
                    <a:pt x="782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3530520" y="2290680"/>
            <a:ext cx="1598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ect-&gt;Release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643800" y="2557440"/>
            <a:ext cx="165600" cy="1783080"/>
            <a:chOff x="6643800" y="2557440"/>
            <a:chExt cx="165600" cy="1783080"/>
          </a:xfrm>
        </p:grpSpPr>
        <p:sp>
          <p:nvSpPr>
            <p:cNvPr id="296" name=""/>
            <p:cNvSpPr/>
            <p:nvPr/>
          </p:nvSpPr>
          <p:spPr>
            <a:xfrm>
              <a:off x="6730920" y="2557440"/>
              <a:ext cx="0" cy="16398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3800" y="4056120"/>
              <a:ext cx="165600" cy="284400"/>
            </a:xfrm>
            <a:custGeom>
              <a:avLst/>
              <a:gdLst/>
              <a:ahLst/>
              <a:rect l="0" t="0" r="r" b="b"/>
              <a:pathLst>
                <a:path w="460" h="790">
                  <a:moveTo>
                    <a:pt x="230" y="790"/>
                  </a:moveTo>
                  <a:lnTo>
                    <a:pt x="460" y="0"/>
                  </a:lnTo>
                  <a:lnTo>
                    <a:pt x="0" y="0"/>
                  </a:lnTo>
                  <a:lnTo>
                    <a:pt x="230" y="7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937200" y="2948040"/>
            <a:ext cx="1679760" cy="689040"/>
            <a:chOff x="6937200" y="2948040"/>
            <a:chExt cx="1679760" cy="689040"/>
          </a:xfrm>
        </p:grpSpPr>
        <p:sp>
          <p:nvSpPr>
            <p:cNvPr id="299" name=""/>
            <p:cNvSpPr txBox="1"/>
            <p:nvPr/>
          </p:nvSpPr>
          <p:spPr>
            <a:xfrm>
              <a:off x="7308720" y="2948040"/>
              <a:ext cx="8953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Run(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6937200" y="3154320"/>
              <a:ext cx="162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called, if needed, by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6983280" y="3346560"/>
              <a:ext cx="163368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fHdlr - DoVerb()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807160" y="2674800"/>
            <a:ext cx="165600" cy="1692360"/>
            <a:chOff x="5807160" y="2674800"/>
            <a:chExt cx="165600" cy="1692360"/>
          </a:xfrm>
        </p:grpSpPr>
        <p:sp>
          <p:nvSpPr>
            <p:cNvPr id="303" name=""/>
            <p:cNvSpPr/>
            <p:nvPr/>
          </p:nvSpPr>
          <p:spPr>
            <a:xfrm flipV="1">
              <a:off x="5894280" y="2825640"/>
              <a:ext cx="0" cy="1541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807160" y="2674800"/>
              <a:ext cx="165600" cy="282960"/>
            </a:xfrm>
            <a:custGeom>
              <a:avLst/>
              <a:gdLst/>
              <a:ahLst/>
              <a:rect l="0" t="0" r="r" b="b"/>
              <a:pathLst>
                <a:path w="460" h="786">
                  <a:moveTo>
                    <a:pt x="230" y="0"/>
                  </a:moveTo>
                  <a:lnTo>
                    <a:pt x="0" y="786"/>
                  </a:lnTo>
                  <a:lnTo>
                    <a:pt x="460" y="786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251080" y="4943520"/>
            <a:ext cx="3513240" cy="167040"/>
            <a:chOff x="2251080" y="4943520"/>
            <a:chExt cx="3513240" cy="167040"/>
          </a:xfrm>
        </p:grpSpPr>
        <p:sp>
          <p:nvSpPr>
            <p:cNvPr id="306" name=""/>
            <p:cNvSpPr/>
            <p:nvPr/>
          </p:nvSpPr>
          <p:spPr>
            <a:xfrm flipH="1">
              <a:off x="2398680" y="5032440"/>
              <a:ext cx="33656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51080" y="4943520"/>
              <a:ext cx="278280" cy="167040"/>
            </a:xfrm>
            <a:custGeom>
              <a:avLst/>
              <a:gdLst/>
              <a:ahLst/>
              <a:rect l="0" t="0" r="r" b="b"/>
              <a:pathLst>
                <a:path w="773" h="464">
                  <a:moveTo>
                    <a:pt x="0" y="234"/>
                  </a:moveTo>
                  <a:lnTo>
                    <a:pt x="773" y="464"/>
                  </a:lnTo>
                  <a:lnTo>
                    <a:pt x="773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293920" y="4435560"/>
            <a:ext cx="3381840" cy="168480"/>
            <a:chOff x="2293920" y="4435560"/>
            <a:chExt cx="3381840" cy="168480"/>
          </a:xfrm>
        </p:grpSpPr>
        <p:sp>
          <p:nvSpPr>
            <p:cNvPr id="309" name=""/>
            <p:cNvSpPr/>
            <p:nvPr/>
          </p:nvSpPr>
          <p:spPr>
            <a:xfrm>
              <a:off x="2293920" y="4525920"/>
              <a:ext cx="3241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94240" y="4435560"/>
              <a:ext cx="281520" cy="168480"/>
            </a:xfrm>
            <a:custGeom>
              <a:avLst/>
              <a:gdLst/>
              <a:ahLst/>
              <a:rect l="0" t="0" r="r" b="b"/>
              <a:pathLst>
                <a:path w="782" h="468">
                  <a:moveTo>
                    <a:pt x="782" y="238"/>
                  </a:moveTo>
                  <a:lnTo>
                    <a:pt x="0" y="0"/>
                  </a:lnTo>
                  <a:lnTo>
                    <a:pt x="0" y="468"/>
                  </a:lnTo>
                  <a:lnTo>
                    <a:pt x="78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44840" y="5094360"/>
            <a:ext cx="3527280" cy="304920"/>
            <a:chOff x="2544840" y="5094360"/>
            <a:chExt cx="3527280" cy="304920"/>
          </a:xfrm>
        </p:grpSpPr>
        <p:sp>
          <p:nvSpPr>
            <p:cNvPr id="312" name=""/>
            <p:cNvSpPr txBox="1"/>
            <p:nvPr/>
          </p:nvSpPr>
          <p:spPr>
            <a:xfrm>
              <a:off x="2544840" y="50943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159080" y="5105520"/>
              <a:ext cx="1913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SHOW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90920" y="3468600"/>
            <a:ext cx="1211400" cy="519480"/>
            <a:chOff x="4390920" y="3468600"/>
            <a:chExt cx="1211400" cy="519480"/>
          </a:xfrm>
        </p:grpSpPr>
        <p:sp>
          <p:nvSpPr>
            <p:cNvPr id="315" name=""/>
            <p:cNvSpPr txBox="1"/>
            <p:nvPr/>
          </p:nvSpPr>
          <p:spPr>
            <a:xfrm>
              <a:off x="4390920" y="3468600"/>
              <a:ext cx="1211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390920" y="3683160"/>
              <a:ext cx="792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se(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5057640" y="3693960"/>
              <a:ext cx="23976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365200" y="4543560"/>
            <a:ext cx="3436920" cy="304920"/>
            <a:chOff x="2365200" y="4543560"/>
            <a:chExt cx="3436920" cy="304920"/>
          </a:xfrm>
        </p:grpSpPr>
        <p:sp>
          <p:nvSpPr>
            <p:cNvPr id="319" name=""/>
            <p:cNvSpPr txBox="1"/>
            <p:nvPr/>
          </p:nvSpPr>
          <p:spPr>
            <a:xfrm>
              <a:off x="2365200" y="4543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979800" y="4554360"/>
              <a:ext cx="18223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HIDE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4467240" y="313848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834160" y="3467160"/>
            <a:ext cx="122400" cy="13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33840" y="3191040"/>
            <a:ext cx="111240" cy="280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452920" y="3519360"/>
            <a:ext cx="416160" cy="208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560680" y="5362560"/>
            <a:ext cx="3471840" cy="304920"/>
            <a:chOff x="2560680" y="5362560"/>
            <a:chExt cx="3471840" cy="304920"/>
          </a:xfrm>
        </p:grpSpPr>
        <p:sp>
          <p:nvSpPr>
            <p:cNvPr id="326" name=""/>
            <p:cNvSpPr txBox="1"/>
            <p:nvPr/>
          </p:nvSpPr>
          <p:spPr>
            <a:xfrm>
              <a:off x="2560680" y="5362560"/>
              <a:ext cx="1812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OleObject::DoVerb(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4173480" y="5373720"/>
              <a:ext cx="185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EIVERB_OPEN, ...)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lected Topic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030400" y="1857240"/>
            <a:ext cx="50832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and na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n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344600" y="1158840"/>
            <a:ext cx="64548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 container, a link is just an embedding that also supports IOleL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/Get current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to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object implementation provided by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d (but useful!) link tra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link source naming architecture:  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Does It Work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562040"/>
            <a:ext cx="7162920" cy="37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on the Component 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, interfaces,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versus storage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space versus ren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ks And Nam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90720" y="1309680"/>
            <a:ext cx="716292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nounce their presence to system when they r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maintains “Running Object Tab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binding links to their sources, Running Object Table is consulted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 will connect to existing running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300320" y="1174680"/>
            <a:ext cx="654516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specific handlers 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lass-specific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reuse Default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only supply the additional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rendering from native or private data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ide implementation of commands (e.g. play a voice no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y Write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50920" y="1801800"/>
            <a:ext cx="68436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 universally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s (usually) is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ly A Handler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50920" y="1320840"/>
            <a:ext cx="68421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object can choose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mplement in a container-side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.EXE 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serv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few special consid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fications to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roc object/contain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85640" y="228600"/>
            <a:ext cx="8172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unication Between </a:t>
            </a:r>
            <a:br>
              <a:rPr sz="40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And OLE 2.0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835200" y="1530360"/>
            <a:ext cx="74739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27200" y="1204920"/>
            <a:ext cx="769140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ly, the container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pace for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ing document’s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lace to display and pr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commands to open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container’s user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5760" y="5351400"/>
            <a:ext cx="87724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spcAft>
                <a:spcPts val="697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container’s perspective, the object is like a picture that knows how to edit itsel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o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08160" y="1077840"/>
            <a:ext cx="672768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object provi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istent representation of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s like it stores in its fil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esentation (one or more) for use by the contai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iting tools for the objec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reating (server) ap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360" y="5094360"/>
            <a:ext cx="81723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1000"/>
              </a:lnSpc>
              <a:spcAft>
                <a:spcPts val="649"/>
              </a:spcAf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rom the server’s perspective the object is like a document for which it can provide a visual render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43040"/>
            <a:ext cx="716292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al support on both container- and object- application s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, starting up cod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object-to-container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fore object application is r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1.0 interoper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Do The OLE-provided DLLs Do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41280" y="1733400"/>
            <a:ext cx="666108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implementation of Structured Sto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Source Nam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, Item Moniker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%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 windows g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o on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Module Structu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19240" y="2147760"/>
            <a:ext cx="6400800" cy="3124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00480" y="440676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1316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902200" y="4140360"/>
            <a:ext cx="84132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132680" y="4140360"/>
            <a:ext cx="8208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646360" y="2425680"/>
            <a:ext cx="141444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68480" y="3454560"/>
            <a:ext cx="14288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 mana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518080" y="2577960"/>
            <a:ext cx="100476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72400" y="2692440"/>
            <a:ext cx="103824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/dro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754360" y="1244520"/>
            <a:ext cx="1197000" cy="3603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800" y="3270240"/>
            <a:ext cx="1209600" cy="57636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23960" y="3187800"/>
            <a:ext cx="1143000" cy="58896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822920" y="22003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05000" y="1900080"/>
            <a:ext cx="1495440" cy="198612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Hand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ow The Parts Fit Toget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2600" y="1922400"/>
            <a:ext cx="1014480" cy="1265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951280" y="318276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926400" y="1935000"/>
            <a:ext cx="990720" cy="1828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68760" y="1515960"/>
            <a:ext cx="0" cy="2986200"/>
          </a:xfrm>
          <a:prstGeom prst="line">
            <a:avLst/>
          </a:prstGeom>
          <a:ln w="7632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76760" y="1109520"/>
            <a:ext cx="1542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575320" y="2611440"/>
            <a:ext cx="67464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59680" y="282096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3080" y="2871720"/>
            <a:ext cx="2019600" cy="572040"/>
          </a:xfrm>
          <a:custGeom>
            <a:avLst/>
            <a:gdLst/>
            <a:ahLst/>
            <a:rect l="0" t="0" r="r" b="b"/>
            <a:pathLst>
              <a:path fill="none" w="5610" h="1589">
                <a:moveTo>
                  <a:pt x="0" y="1589"/>
                </a:moveTo>
                <a:lnTo>
                  <a:pt x="4494" y="1205"/>
                </a:lnTo>
                <a:lnTo>
                  <a:pt x="1935" y="424"/>
                </a:lnTo>
                <a:lnTo>
                  <a:pt x="5610" y="0"/>
                </a:lnTo>
              </a:path>
            </a:pathLst>
          </a:cu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0880" y="1515960"/>
            <a:ext cx="0" cy="451512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185840" y="120492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65200" y="2287440"/>
            <a:ext cx="596880" cy="5238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5160" y="1554120"/>
            <a:ext cx="0" cy="4529160"/>
          </a:xfrm>
          <a:prstGeom prst="line">
            <a:avLst/>
          </a:prstGeom>
          <a:ln w="25560">
            <a:solidFill>
              <a:srgbClr val="3365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24600" y="1214280"/>
            <a:ext cx="1335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bounda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00480" y="5300640"/>
            <a:ext cx="3871800" cy="671400"/>
          </a:xfrm>
          <a:prstGeom prst="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Compound Fil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57400" y="3228840"/>
            <a:ext cx="1285920" cy="2014560"/>
          </a:xfrm>
          <a:prstGeom prst="line">
            <a:avLst/>
          </a:prstGeom>
          <a:ln w="381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57440" y="3900600"/>
            <a:ext cx="243000" cy="13856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14800" y="3800520"/>
            <a:ext cx="2157480" cy="1485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