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299880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rym193006 OLE 2.0 PDC 5/93 </a:t>
            </a:r>
            <a:fld id="{6D2BCD4A-730F-47CC-9ECD-5357B3D04F3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228600"/>
            <a:ext cx="81723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Objects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rry MacKichan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ci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523880" y="2590920"/>
            <a:ext cx="609588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OleObject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76200" y="1771560"/>
            <a:ext cx="7219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to container (client si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 and Enum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ataObject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04800" y="1619280"/>
            <a:ext cx="6800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ing data (and present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hange not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ghtly different flavors used for data transfer (clipboard, Drag and Dr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PersistStorage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80960" y="1619280"/>
            <a:ext cx="63817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ing and sa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gning a storage to a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ing object’s and container’s access to the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ateg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52480" y="1486080"/>
            <a:ext cx="628668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or C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LL or an EX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 also as a stand-alone applic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it read and write fi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the user edit objects directly, without using O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I or MD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++ Or 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09800" y="1447920"/>
            <a:ext cx="71629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vs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vtbl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yntax checking by the comp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ual model is closer to 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unfam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code may be in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LL Or EX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09760" y="1581120"/>
            <a:ext cx="636264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control is therefore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wer concurrency problems (no IMessageFil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LL Or EX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619280"/>
            <a:ext cx="720108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re is existing code, it is probably already an 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will provide IViewObject and IOleCache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er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oices For This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019240" y="1542960"/>
            <a:ext cx="514368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tand-alone 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site of sampl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ber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Very Simple S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562040"/>
            <a:ext cx="720108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required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very little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eps as its only 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s the first milestone in develop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09800" y="1504800"/>
            <a:ext cx="71629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eader for CSimpleClass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GetClass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in (only) entry point to the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s from EXE-base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04800" y="1752480"/>
            <a:ext cx="67438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embe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linking to the who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3080" y="1752480"/>
            <a:ext cx="48960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of CSimpleClass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43000" y="1695600"/>
            <a:ext cx="689616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eader for C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interfaces/nested class idi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gated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class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iewObject interface is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57440" y="1581120"/>
            <a:ext cx="58672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of C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gistration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First Milest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EXE C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638360"/>
            <a:ext cx="720108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up with/Embedding command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class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IMessageFilt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ke and clean up on 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90560" y="1467000"/>
            <a:ext cx="7601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 in native and metafile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 ex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ransfer for clipboard, 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linking to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38280" y="420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38120" y="4952880"/>
            <a:ext cx="22860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Drag and Drop or data 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66720" y="4971960"/>
            <a:ext cx="1981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In-place Activation  or Edi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14480" y="5105520"/>
            <a:ext cx="2685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pseudo-objects or l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66760" y="5334120"/>
            <a:ext cx="21337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message filter or treat-as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 Interfa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04800" y="1657440"/>
            <a:ext cx="613404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ersist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need a ClassFactory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lassFactory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