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242040" y="0"/>
            <a:ext cx="2889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mmy Steele93101 Xhibition ‘93 6/93 </a:t>
            </a:r>
            <a:fld id="{3E46596C-8485-4FD6-91AA-A537F6046165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3906720" y="749160"/>
            <a:ext cx="4476600" cy="53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aking Advantage Of The Win32 API Today</a:t>
            </a: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ammy Steele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echnical Evangelist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760320" y="1436760"/>
            <a:ext cx="25160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I S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33240" y="4629240"/>
            <a:ext cx="1657440" cy="95256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011245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 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129120" y="3562200"/>
            <a:ext cx="1676520" cy="2019240"/>
          </a:xfrm>
          <a:prstGeom prst="rect">
            <a:avLst/>
          </a:prstGeom>
          <a:gradFill rotWithShape="0">
            <a:gsLst>
              <a:gs pos="0">
                <a:srgbClr val="14d3c1"/>
              </a:gs>
              <a:gs pos="100000">
                <a:srgbClr val="063f3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723000" y="990720"/>
            <a:ext cx="1774800" cy="4591080"/>
          </a:xfrm>
          <a:prstGeom prst="rect">
            <a:avLst/>
          </a:prstGeom>
          <a:gradFill rotWithShape="0">
            <a:gsLst>
              <a:gs pos="0">
                <a:srgbClr val="ffc66d"/>
              </a:gs>
              <a:gs pos="100000">
                <a:srgbClr val="4c3b20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052960" y="3314880"/>
            <a:ext cx="1676520" cy="2266920"/>
          </a:xfrm>
          <a:prstGeom prst="rect">
            <a:avLst/>
          </a:prstGeom>
          <a:gradFill rotWithShape="0">
            <a:gsLst>
              <a:gs pos="0">
                <a:srgbClr val="ffc66d"/>
              </a:gs>
              <a:gs pos="100000">
                <a:srgbClr val="4c3b20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Is Also A Produ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81080" y="1390680"/>
            <a:ext cx="69818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is distributed in toolk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censed to tool vend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D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Vx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s automatically licensed to ship DLLs and VxD with their 32-bit Win32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and VxD run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7680" y="338292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duct S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76480" y="38196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79520" y="2152800"/>
            <a:ext cx="1295280" cy="5335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011245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79520" y="3333600"/>
            <a:ext cx="2057400" cy="533520"/>
          </a:xfrm>
          <a:prstGeom prst="rect">
            <a:avLst/>
          </a:prstGeom>
          <a:gradFill rotWithShape="0">
            <a:gsLst>
              <a:gs pos="0">
                <a:srgbClr val="14d3c1"/>
              </a:gs>
              <a:gs pos="100000">
                <a:srgbClr val="063f3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79520" y="5657760"/>
            <a:ext cx="4022640" cy="628560"/>
          </a:xfrm>
          <a:prstGeom prst="rect">
            <a:avLst/>
          </a:prstGeom>
          <a:gradFill rotWithShape="0">
            <a:gsLst>
              <a:gs pos="0">
                <a:srgbClr val="ffc66d"/>
              </a:gs>
              <a:gs pos="100000">
                <a:srgbClr val="4c3b20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79520" y="4514760"/>
            <a:ext cx="2914560" cy="5526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361c4a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41240" y="1352520"/>
            <a:ext cx="9716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57320" y="2209680"/>
            <a:ext cx="4667400" cy="0"/>
          </a:xfrm>
          <a:prstGeom prst="line">
            <a:avLst/>
          </a:prstGeom>
          <a:ln w="12600">
            <a:solidFill>
              <a:srgbClr val="7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67040" y="2324160"/>
            <a:ext cx="4781520" cy="799920"/>
          </a:xfrm>
          <a:prstGeom prst="line">
            <a:avLst/>
          </a:prstGeom>
          <a:ln w="12600">
            <a:solidFill>
              <a:srgbClr val="ff500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776680" y="3143160"/>
            <a:ext cx="3962160" cy="247680"/>
          </a:xfrm>
          <a:prstGeom prst="line">
            <a:avLst/>
          </a:prstGeom>
          <a:ln w="12600">
            <a:solidFill>
              <a:srgbClr val="ff500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28880" y="2514600"/>
            <a:ext cx="4838760" cy="1181160"/>
          </a:xfrm>
          <a:prstGeom prst="line">
            <a:avLst/>
          </a:prstGeom>
          <a:ln w="12600">
            <a:solidFill>
              <a:srgbClr val="fafd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548240" y="4819680"/>
            <a:ext cx="2190600" cy="10666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500280" y="3733920"/>
            <a:ext cx="3257640" cy="876240"/>
          </a:xfrm>
          <a:prstGeom prst="line">
            <a:avLst/>
          </a:prstGeom>
          <a:ln w="12600">
            <a:solidFill>
              <a:srgbClr val="fafd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6680" y="3619440"/>
            <a:ext cx="3962160" cy="95400"/>
          </a:xfrm>
          <a:prstGeom prst="line">
            <a:avLst/>
          </a:prstGeom>
          <a:ln w="12600">
            <a:solidFill>
              <a:srgbClr val="fafd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57320" y="2647800"/>
            <a:ext cx="4800600" cy="21528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6680" y="3790800"/>
            <a:ext cx="3962160" cy="10288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48160" y="4800600"/>
            <a:ext cx="31050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756480" y="1236600"/>
            <a:ext cx="17589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607080" y="2038320"/>
            <a:ext cx="2057400" cy="53352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6c184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607080" y="2933640"/>
            <a:ext cx="2057400" cy="53352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6c184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607080" y="3505320"/>
            <a:ext cx="2057400" cy="53352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6c184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607080" y="4572000"/>
            <a:ext cx="2057400" cy="53352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6c184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09640" y="1523880"/>
            <a:ext cx="75247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-compatible with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EXE format (P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mpat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-compatible with Windows NT on x86, MIP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400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nd DEC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lph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s written to Win32s API ar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n32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990720" y="228600"/>
            <a:ext cx="7162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Conceptua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647640"/>
            <a:ext cx="716292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14240" y="5219640"/>
            <a:ext cx="77151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Win32 calls are thunked to 16-bit Windows 3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s run unmodified on Windows 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498760" y="1790640"/>
            <a:ext cx="2057400" cy="1276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33520" y="2811600"/>
            <a:ext cx="180972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unk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er DLL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21080" y="3467160"/>
            <a:ext cx="2038320" cy="1428840"/>
          </a:xfrm>
          <a:prstGeom prst="rect">
            <a:avLst/>
          </a:prstGeom>
          <a:gradFill rotWithShape="0">
            <a:gsLst>
              <a:gs pos="0">
                <a:srgbClr val="14d3c1"/>
              </a:gs>
              <a:gs pos="100000">
                <a:srgbClr val="0c7e73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27200" y="4259160"/>
            <a:ext cx="20289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727360" y="3747960"/>
            <a:ext cx="1606680" cy="399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1000"/>
              </a:lnSpc>
            </a:pPr>
            <a:r>
              <a:rPr b="1" lang="en-US" sz="21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Win32s Vx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073480" y="1790640"/>
            <a:ext cx="2076480" cy="131436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73480" y="3276720"/>
            <a:ext cx="2057400" cy="161928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011245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049720" y="3782880"/>
            <a:ext cx="207648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98760" y="3143160"/>
            <a:ext cx="2057400" cy="22860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 flipH="1">
            <a:off x="3962520" y="1219320"/>
            <a:ext cx="1523880" cy="685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43080" y="6019920"/>
            <a:ext cx="8458200" cy="51444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99960" y="5334120"/>
            <a:ext cx="1733400" cy="49536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bd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305080" y="5353200"/>
            <a:ext cx="1771560" cy="49536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210200" y="5334120"/>
            <a:ext cx="1581120" cy="53352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r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991040" y="4191120"/>
            <a:ext cx="1295280" cy="53352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010280" y="4191120"/>
            <a:ext cx="198108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32sys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162920" y="3200400"/>
            <a:ext cx="1676520" cy="53352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ll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86200" y="4191120"/>
            <a:ext cx="990720" cy="53352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09960" y="4191120"/>
            <a:ext cx="762120" cy="53352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371600" y="3200400"/>
            <a:ext cx="236232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16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419720" y="3200400"/>
            <a:ext cx="205740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" y="1905120"/>
            <a:ext cx="251460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32sKrnl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200400" y="1905120"/>
            <a:ext cx="175248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4120" y="1905120"/>
            <a:ext cx="175248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315200" y="1905120"/>
            <a:ext cx="167652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5029200"/>
            <a:ext cx="765828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2666880"/>
            <a:ext cx="1600560" cy="2591280"/>
          </a:xfrm>
          <a:custGeom>
            <a:avLst/>
            <a:gdLst/>
            <a:ahLst/>
            <a:rect l="0" t="0" r="r" b="b"/>
            <a:pathLst>
              <a:path fill="none" w="4446" h="7198">
                <a:moveTo>
                  <a:pt x="0" y="0"/>
                </a:moveTo>
                <a:lnTo>
                  <a:pt x="0" y="0"/>
                </a:lnTo>
                <a:cubicBezTo>
                  <a:pt x="0" y="1264"/>
                  <a:pt x="205" y="2505"/>
                  <a:pt x="596" y="3599"/>
                </a:cubicBezTo>
                <a:cubicBezTo>
                  <a:pt x="986" y="4693"/>
                  <a:pt x="1547" y="5602"/>
                  <a:pt x="2223" y="6234"/>
                </a:cubicBezTo>
                <a:cubicBezTo>
                  <a:pt x="2899" y="6865"/>
                  <a:pt x="3666" y="7198"/>
                  <a:pt x="4446" y="7198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3809880"/>
            <a:ext cx="0" cy="13716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259092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666880" y="2590920"/>
            <a:ext cx="13716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276720" y="2590920"/>
            <a:ext cx="27432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809880" y="2590920"/>
            <a:ext cx="41148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324480" y="1219320"/>
            <a:ext cx="5040" cy="6094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38880" y="1371600"/>
            <a:ext cx="1067040" cy="457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9880" y="350532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01000" y="38098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3809880"/>
            <a:ext cx="609840" cy="304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3809880"/>
            <a:ext cx="106668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33920" y="3733920"/>
            <a:ext cx="2133360" cy="3045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5880" y="480060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2895480"/>
            <a:ext cx="777240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22280" y="4853160"/>
            <a:ext cx="825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22280" y="1119240"/>
            <a:ext cx="82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22280" y="3557520"/>
            <a:ext cx="82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61960" y="810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tailed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24480" y="44197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8320" y="838080"/>
            <a:ext cx="2971800" cy="533520"/>
          </a:xfrm>
          <a:prstGeom prst="rect">
            <a:avLst/>
          </a:prstGeom>
          <a:gradFill rotWithShape="0">
            <a:gsLst>
              <a:gs pos="0">
                <a:srgbClr val="8043ae"/>
              </a:gs>
              <a:gs pos="100000">
                <a:srgbClr val="b760f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73200" y="1066680"/>
            <a:ext cx="7797960" cy="52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pecial tools required to build Win32s-based apps. for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pecial build process or unique link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 WinDbg on Windows NT will remotely debug Win32s-based apps. on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ing Win32s-based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SDK on Windows 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vendors will provide MS-DO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         Windows 3.1-hosted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Tool Vendo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43440" y="1371600"/>
            <a:ext cx="4267080" cy="38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a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rid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 Li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ter innov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others listed in 32-bit tools catalog for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123920" y="1371600"/>
            <a:ext cx="3048120" cy="35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rl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ant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V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rL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a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514440" y="228600"/>
            <a:ext cx="81154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hipping Win32s-Based Applications For Windows 3.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09640" y="1905120"/>
            <a:ext cx="752472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xD and DLLs approximately 500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provides Win32s setup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if Win32s already insta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Win32 app. and Win32s on Windows 3.1 (running in enhanced m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install Win32 app. on Windows NT  (not Win32s compone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version checks Win32s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Environment 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(Running on Windows 3.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14400" y="1987560"/>
            <a:ext cx="73152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Windows 3.1 running in enhanced 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preemptive multitas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cooperative message-based non-preemptive multitas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ous input mode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57320" y="1257480"/>
            <a:ext cx="702936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strate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target Win32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architecture and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programing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mo and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09480" y="352440"/>
            <a:ext cx="3828960" cy="74304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message 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724280" y="723960"/>
            <a:ext cx="990720" cy="0"/>
          </a:xfrm>
          <a:prstGeom prst="line">
            <a:avLst/>
          </a:prstGeom>
          <a:ln w="1522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962680" y="266760"/>
            <a:ext cx="1771560" cy="9144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000" y="1182600"/>
            <a:ext cx="1351440" cy="1435320"/>
          </a:xfrm>
          <a:custGeom>
            <a:avLst/>
            <a:gdLst/>
            <a:ahLst/>
            <a:rect l="0" t="0" r="r" b="b"/>
            <a:pathLst>
              <a:path w="3754" h="3987">
                <a:moveTo>
                  <a:pt x="3754" y="0"/>
                </a:moveTo>
                <a:lnTo>
                  <a:pt x="3513" y="0"/>
                </a:lnTo>
                <a:lnTo>
                  <a:pt x="3333" y="69"/>
                </a:lnTo>
                <a:lnTo>
                  <a:pt x="3187" y="125"/>
                </a:lnTo>
                <a:lnTo>
                  <a:pt x="3009" y="207"/>
                </a:lnTo>
                <a:lnTo>
                  <a:pt x="2810" y="307"/>
                </a:lnTo>
                <a:lnTo>
                  <a:pt x="2675" y="399"/>
                </a:lnTo>
                <a:lnTo>
                  <a:pt x="2475" y="522"/>
                </a:lnTo>
                <a:lnTo>
                  <a:pt x="2282" y="648"/>
                </a:lnTo>
                <a:lnTo>
                  <a:pt x="2108" y="773"/>
                </a:lnTo>
                <a:lnTo>
                  <a:pt x="1895" y="936"/>
                </a:lnTo>
                <a:lnTo>
                  <a:pt x="1755" y="1062"/>
                </a:lnTo>
                <a:lnTo>
                  <a:pt x="1580" y="1238"/>
                </a:lnTo>
                <a:lnTo>
                  <a:pt x="1388" y="1432"/>
                </a:lnTo>
                <a:lnTo>
                  <a:pt x="1213" y="1627"/>
                </a:lnTo>
                <a:lnTo>
                  <a:pt x="1090" y="1775"/>
                </a:lnTo>
                <a:lnTo>
                  <a:pt x="967" y="1989"/>
                </a:lnTo>
                <a:lnTo>
                  <a:pt x="877" y="2167"/>
                </a:lnTo>
                <a:lnTo>
                  <a:pt x="808" y="2356"/>
                </a:lnTo>
                <a:lnTo>
                  <a:pt x="756" y="2554"/>
                </a:lnTo>
                <a:lnTo>
                  <a:pt x="748" y="2671"/>
                </a:lnTo>
                <a:lnTo>
                  <a:pt x="756" y="2811"/>
                </a:lnTo>
                <a:lnTo>
                  <a:pt x="774" y="2918"/>
                </a:lnTo>
                <a:lnTo>
                  <a:pt x="791" y="3023"/>
                </a:lnTo>
                <a:lnTo>
                  <a:pt x="825" y="3106"/>
                </a:lnTo>
                <a:lnTo>
                  <a:pt x="0" y="3106"/>
                </a:lnTo>
                <a:lnTo>
                  <a:pt x="209" y="3211"/>
                </a:lnTo>
                <a:lnTo>
                  <a:pt x="450" y="3343"/>
                </a:lnTo>
                <a:lnTo>
                  <a:pt x="688" y="3481"/>
                </a:lnTo>
                <a:lnTo>
                  <a:pt x="911" y="3644"/>
                </a:lnTo>
                <a:lnTo>
                  <a:pt x="1041" y="3767"/>
                </a:lnTo>
                <a:lnTo>
                  <a:pt x="1170" y="3987"/>
                </a:lnTo>
                <a:lnTo>
                  <a:pt x="1354" y="3985"/>
                </a:lnTo>
                <a:lnTo>
                  <a:pt x="1474" y="3807"/>
                </a:lnTo>
                <a:lnTo>
                  <a:pt x="1612" y="3621"/>
                </a:lnTo>
                <a:lnTo>
                  <a:pt x="1809" y="3433"/>
                </a:lnTo>
                <a:lnTo>
                  <a:pt x="2002" y="3282"/>
                </a:lnTo>
                <a:lnTo>
                  <a:pt x="2125" y="3194"/>
                </a:lnTo>
                <a:lnTo>
                  <a:pt x="2325" y="3100"/>
                </a:lnTo>
                <a:lnTo>
                  <a:pt x="1623" y="3100"/>
                </a:lnTo>
                <a:lnTo>
                  <a:pt x="1580" y="2918"/>
                </a:lnTo>
                <a:lnTo>
                  <a:pt x="1563" y="2755"/>
                </a:lnTo>
                <a:lnTo>
                  <a:pt x="1580" y="2567"/>
                </a:lnTo>
                <a:lnTo>
                  <a:pt x="1615" y="2381"/>
                </a:lnTo>
                <a:lnTo>
                  <a:pt x="1686" y="2167"/>
                </a:lnTo>
                <a:lnTo>
                  <a:pt x="1755" y="1976"/>
                </a:lnTo>
                <a:lnTo>
                  <a:pt x="1887" y="1708"/>
                </a:lnTo>
                <a:lnTo>
                  <a:pt x="2019" y="1489"/>
                </a:lnTo>
                <a:lnTo>
                  <a:pt x="2159" y="1294"/>
                </a:lnTo>
                <a:lnTo>
                  <a:pt x="2334" y="1087"/>
                </a:lnTo>
                <a:lnTo>
                  <a:pt x="2417" y="989"/>
                </a:lnTo>
                <a:lnTo>
                  <a:pt x="2492" y="899"/>
                </a:lnTo>
                <a:lnTo>
                  <a:pt x="2569" y="821"/>
                </a:lnTo>
                <a:lnTo>
                  <a:pt x="2649" y="748"/>
                </a:lnTo>
                <a:lnTo>
                  <a:pt x="2790" y="610"/>
                </a:lnTo>
                <a:lnTo>
                  <a:pt x="2908" y="518"/>
                </a:lnTo>
                <a:lnTo>
                  <a:pt x="3000" y="447"/>
                </a:lnTo>
                <a:lnTo>
                  <a:pt x="3095" y="376"/>
                </a:lnTo>
                <a:lnTo>
                  <a:pt x="3195" y="309"/>
                </a:lnTo>
                <a:lnTo>
                  <a:pt x="3281" y="253"/>
                </a:lnTo>
                <a:lnTo>
                  <a:pt x="3384" y="186"/>
                </a:lnTo>
                <a:lnTo>
                  <a:pt x="3510" y="119"/>
                </a:lnTo>
                <a:lnTo>
                  <a:pt x="3631" y="54"/>
                </a:lnTo>
                <a:lnTo>
                  <a:pt x="3754" y="0"/>
                </a:lnTo>
                <a:close/>
              </a:path>
            </a:pathLst>
          </a:custGeom>
          <a:solidFill>
            <a:srgbClr val="00968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1184400"/>
            <a:ext cx="1279800" cy="1433880"/>
          </a:xfrm>
          <a:custGeom>
            <a:avLst/>
            <a:gdLst/>
            <a:ahLst/>
            <a:rect l="0" t="0" r="r" b="b"/>
            <a:pathLst>
              <a:path w="3555" h="3983">
                <a:moveTo>
                  <a:pt x="3555" y="0"/>
                </a:moveTo>
                <a:lnTo>
                  <a:pt x="3354" y="52"/>
                </a:lnTo>
                <a:lnTo>
                  <a:pt x="3194" y="100"/>
                </a:lnTo>
                <a:lnTo>
                  <a:pt x="3059" y="150"/>
                </a:lnTo>
                <a:lnTo>
                  <a:pt x="2904" y="213"/>
                </a:lnTo>
                <a:lnTo>
                  <a:pt x="2692" y="303"/>
                </a:lnTo>
                <a:lnTo>
                  <a:pt x="2500" y="401"/>
                </a:lnTo>
                <a:lnTo>
                  <a:pt x="2302" y="524"/>
                </a:lnTo>
                <a:lnTo>
                  <a:pt x="2113" y="650"/>
                </a:lnTo>
                <a:lnTo>
                  <a:pt x="1941" y="775"/>
                </a:lnTo>
                <a:lnTo>
                  <a:pt x="1734" y="938"/>
                </a:lnTo>
                <a:lnTo>
                  <a:pt x="1596" y="1064"/>
                </a:lnTo>
                <a:lnTo>
                  <a:pt x="1424" y="1240"/>
                </a:lnTo>
                <a:lnTo>
                  <a:pt x="1235" y="1434"/>
                </a:lnTo>
                <a:lnTo>
                  <a:pt x="1063" y="1629"/>
                </a:lnTo>
                <a:lnTo>
                  <a:pt x="943" y="1777"/>
                </a:lnTo>
                <a:lnTo>
                  <a:pt x="822" y="1990"/>
                </a:lnTo>
                <a:lnTo>
                  <a:pt x="736" y="2168"/>
                </a:lnTo>
                <a:lnTo>
                  <a:pt x="667" y="2356"/>
                </a:lnTo>
                <a:lnTo>
                  <a:pt x="616" y="2555"/>
                </a:lnTo>
                <a:lnTo>
                  <a:pt x="607" y="2672"/>
                </a:lnTo>
                <a:lnTo>
                  <a:pt x="616" y="2812"/>
                </a:lnTo>
                <a:lnTo>
                  <a:pt x="633" y="2919"/>
                </a:lnTo>
                <a:lnTo>
                  <a:pt x="650" y="3024"/>
                </a:lnTo>
                <a:lnTo>
                  <a:pt x="685" y="3108"/>
                </a:lnTo>
                <a:lnTo>
                  <a:pt x="0" y="3108"/>
                </a:lnTo>
                <a:lnTo>
                  <a:pt x="214" y="3221"/>
                </a:lnTo>
                <a:lnTo>
                  <a:pt x="412" y="3333"/>
                </a:lnTo>
                <a:lnTo>
                  <a:pt x="667" y="3484"/>
                </a:lnTo>
                <a:lnTo>
                  <a:pt x="874" y="3647"/>
                </a:lnTo>
                <a:lnTo>
                  <a:pt x="1046" y="3795"/>
                </a:lnTo>
                <a:lnTo>
                  <a:pt x="1200" y="3983"/>
                </a:lnTo>
                <a:lnTo>
                  <a:pt x="1321" y="3808"/>
                </a:lnTo>
                <a:lnTo>
                  <a:pt x="1461" y="3624"/>
                </a:lnTo>
                <a:lnTo>
                  <a:pt x="1648" y="3434"/>
                </a:lnTo>
                <a:lnTo>
                  <a:pt x="1838" y="3283"/>
                </a:lnTo>
                <a:lnTo>
                  <a:pt x="1958" y="3195"/>
                </a:lnTo>
                <a:lnTo>
                  <a:pt x="2156" y="3101"/>
                </a:lnTo>
                <a:lnTo>
                  <a:pt x="1467" y="3101"/>
                </a:lnTo>
                <a:lnTo>
                  <a:pt x="1424" y="2919"/>
                </a:lnTo>
                <a:lnTo>
                  <a:pt x="1407" y="2755"/>
                </a:lnTo>
                <a:lnTo>
                  <a:pt x="1424" y="2567"/>
                </a:lnTo>
                <a:lnTo>
                  <a:pt x="1458" y="2381"/>
                </a:lnTo>
                <a:lnTo>
                  <a:pt x="1527" y="2168"/>
                </a:lnTo>
                <a:lnTo>
                  <a:pt x="1596" y="1978"/>
                </a:lnTo>
                <a:lnTo>
                  <a:pt x="1725" y="1708"/>
                </a:lnTo>
                <a:lnTo>
                  <a:pt x="1855" y="1491"/>
                </a:lnTo>
                <a:lnTo>
                  <a:pt x="1993" y="1296"/>
                </a:lnTo>
                <a:lnTo>
                  <a:pt x="2165" y="1090"/>
                </a:lnTo>
                <a:lnTo>
                  <a:pt x="2245" y="990"/>
                </a:lnTo>
                <a:lnTo>
                  <a:pt x="2319" y="900"/>
                </a:lnTo>
                <a:lnTo>
                  <a:pt x="2394" y="823"/>
                </a:lnTo>
                <a:lnTo>
                  <a:pt x="2474" y="750"/>
                </a:lnTo>
                <a:lnTo>
                  <a:pt x="2612" y="612"/>
                </a:lnTo>
                <a:lnTo>
                  <a:pt x="2726" y="520"/>
                </a:lnTo>
                <a:lnTo>
                  <a:pt x="2818" y="449"/>
                </a:lnTo>
                <a:lnTo>
                  <a:pt x="2913" y="378"/>
                </a:lnTo>
                <a:lnTo>
                  <a:pt x="3010" y="311"/>
                </a:lnTo>
                <a:lnTo>
                  <a:pt x="3093" y="255"/>
                </a:lnTo>
                <a:lnTo>
                  <a:pt x="3194" y="188"/>
                </a:lnTo>
                <a:lnTo>
                  <a:pt x="3317" y="121"/>
                </a:lnTo>
                <a:lnTo>
                  <a:pt x="3431" y="56"/>
                </a:lnTo>
                <a:lnTo>
                  <a:pt x="3555" y="0"/>
                </a:lnTo>
                <a:close/>
              </a:path>
            </a:pathLst>
          </a:custGeom>
          <a:solidFill>
            <a:srgbClr val="14d3c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262320" y="1163520"/>
            <a:ext cx="1362240" cy="1435680"/>
            <a:chOff x="3262320" y="1163520"/>
            <a:chExt cx="1362240" cy="1435680"/>
          </a:xfrm>
        </p:grpSpPr>
        <p:sp>
          <p:nvSpPr>
            <p:cNvPr id="155" name=""/>
            <p:cNvSpPr/>
            <p:nvPr/>
          </p:nvSpPr>
          <p:spPr>
            <a:xfrm>
              <a:off x="3262320" y="1163520"/>
              <a:ext cx="1351440" cy="1435320"/>
            </a:xfrm>
            <a:custGeom>
              <a:avLst/>
              <a:gdLst/>
              <a:ahLst/>
              <a:rect l="0" t="0" r="r" b="b"/>
              <a:pathLst>
                <a:path w="3754" h="3987">
                  <a:moveTo>
                    <a:pt x="0" y="0"/>
                  </a:moveTo>
                  <a:lnTo>
                    <a:pt x="240" y="0"/>
                  </a:lnTo>
                  <a:lnTo>
                    <a:pt x="421" y="69"/>
                  </a:lnTo>
                  <a:lnTo>
                    <a:pt x="567" y="125"/>
                  </a:lnTo>
                  <a:lnTo>
                    <a:pt x="745" y="207"/>
                  </a:lnTo>
                  <a:lnTo>
                    <a:pt x="944" y="307"/>
                  </a:lnTo>
                  <a:lnTo>
                    <a:pt x="1078" y="399"/>
                  </a:lnTo>
                  <a:lnTo>
                    <a:pt x="1279" y="522"/>
                  </a:lnTo>
                  <a:lnTo>
                    <a:pt x="1471" y="648"/>
                  </a:lnTo>
                  <a:lnTo>
                    <a:pt x="1646" y="773"/>
                  </a:lnTo>
                  <a:lnTo>
                    <a:pt x="1858" y="936"/>
                  </a:lnTo>
                  <a:lnTo>
                    <a:pt x="1999" y="1062"/>
                  </a:lnTo>
                  <a:lnTo>
                    <a:pt x="2174" y="1238"/>
                  </a:lnTo>
                  <a:lnTo>
                    <a:pt x="2366" y="1432"/>
                  </a:lnTo>
                  <a:lnTo>
                    <a:pt x="2541" y="1627"/>
                  </a:lnTo>
                  <a:lnTo>
                    <a:pt x="2664" y="1775"/>
                  </a:lnTo>
                  <a:lnTo>
                    <a:pt x="2787" y="1989"/>
                  </a:lnTo>
                  <a:lnTo>
                    <a:pt x="2877" y="2167"/>
                  </a:lnTo>
                  <a:lnTo>
                    <a:pt x="2946" y="2356"/>
                  </a:lnTo>
                  <a:lnTo>
                    <a:pt x="2997" y="2554"/>
                  </a:lnTo>
                  <a:lnTo>
                    <a:pt x="3006" y="2671"/>
                  </a:lnTo>
                  <a:lnTo>
                    <a:pt x="2997" y="2811"/>
                  </a:lnTo>
                  <a:lnTo>
                    <a:pt x="2980" y="2918"/>
                  </a:lnTo>
                  <a:lnTo>
                    <a:pt x="2963" y="3023"/>
                  </a:lnTo>
                  <a:lnTo>
                    <a:pt x="2929" y="3106"/>
                  </a:lnTo>
                  <a:lnTo>
                    <a:pt x="3754" y="3106"/>
                  </a:lnTo>
                  <a:lnTo>
                    <a:pt x="3545" y="3211"/>
                  </a:lnTo>
                  <a:lnTo>
                    <a:pt x="3304" y="3343"/>
                  </a:lnTo>
                  <a:lnTo>
                    <a:pt x="3066" y="3481"/>
                  </a:lnTo>
                  <a:lnTo>
                    <a:pt x="2843" y="3644"/>
                  </a:lnTo>
                  <a:lnTo>
                    <a:pt x="2713" y="3767"/>
                  </a:lnTo>
                  <a:lnTo>
                    <a:pt x="2584" y="3987"/>
                  </a:lnTo>
                  <a:lnTo>
                    <a:pt x="2400" y="3985"/>
                  </a:lnTo>
                  <a:lnTo>
                    <a:pt x="2280" y="3807"/>
                  </a:lnTo>
                  <a:lnTo>
                    <a:pt x="2142" y="3621"/>
                  </a:lnTo>
                  <a:lnTo>
                    <a:pt x="1944" y="3433"/>
                  </a:lnTo>
                  <a:lnTo>
                    <a:pt x="1752" y="3282"/>
                  </a:lnTo>
                  <a:lnTo>
                    <a:pt x="1629" y="3194"/>
                  </a:lnTo>
                  <a:lnTo>
                    <a:pt x="1428" y="3100"/>
                  </a:lnTo>
                  <a:lnTo>
                    <a:pt x="2131" y="3100"/>
                  </a:lnTo>
                  <a:lnTo>
                    <a:pt x="2174" y="2918"/>
                  </a:lnTo>
                  <a:lnTo>
                    <a:pt x="2191" y="2755"/>
                  </a:lnTo>
                  <a:lnTo>
                    <a:pt x="2174" y="2567"/>
                  </a:lnTo>
                  <a:lnTo>
                    <a:pt x="2139" y="2381"/>
                  </a:lnTo>
                  <a:lnTo>
                    <a:pt x="2067" y="2167"/>
                  </a:lnTo>
                  <a:lnTo>
                    <a:pt x="1999" y="1976"/>
                  </a:lnTo>
                  <a:lnTo>
                    <a:pt x="1867" y="1708"/>
                  </a:lnTo>
                  <a:lnTo>
                    <a:pt x="1735" y="1489"/>
                  </a:lnTo>
                  <a:lnTo>
                    <a:pt x="1594" y="1294"/>
                  </a:lnTo>
                  <a:lnTo>
                    <a:pt x="1420" y="1087"/>
                  </a:lnTo>
                  <a:lnTo>
                    <a:pt x="1336" y="989"/>
                  </a:lnTo>
                  <a:lnTo>
                    <a:pt x="1262" y="899"/>
                  </a:lnTo>
                  <a:lnTo>
                    <a:pt x="1184" y="821"/>
                  </a:lnTo>
                  <a:lnTo>
                    <a:pt x="1104" y="748"/>
                  </a:lnTo>
                  <a:lnTo>
                    <a:pt x="964" y="610"/>
                  </a:lnTo>
                  <a:lnTo>
                    <a:pt x="845" y="518"/>
                  </a:lnTo>
                  <a:lnTo>
                    <a:pt x="753" y="447"/>
                  </a:lnTo>
                  <a:lnTo>
                    <a:pt x="659" y="376"/>
                  </a:lnTo>
                  <a:lnTo>
                    <a:pt x="559" y="309"/>
                  </a:lnTo>
                  <a:lnTo>
                    <a:pt x="473" y="253"/>
                  </a:lnTo>
                  <a:lnTo>
                    <a:pt x="369" y="186"/>
                  </a:lnTo>
                  <a:lnTo>
                    <a:pt x="243" y="119"/>
                  </a:lnTo>
                  <a:lnTo>
                    <a:pt x="123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68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44760" y="1165320"/>
              <a:ext cx="1279800" cy="1433880"/>
            </a:xfrm>
            <a:custGeom>
              <a:avLst/>
              <a:gdLst/>
              <a:ahLst/>
              <a:rect l="0" t="0" r="r" b="b"/>
              <a:pathLst>
                <a:path w="3555" h="3983">
                  <a:moveTo>
                    <a:pt x="0" y="0"/>
                  </a:moveTo>
                  <a:lnTo>
                    <a:pt x="200" y="52"/>
                  </a:lnTo>
                  <a:lnTo>
                    <a:pt x="361" y="100"/>
                  </a:lnTo>
                  <a:lnTo>
                    <a:pt x="495" y="150"/>
                  </a:lnTo>
                  <a:lnTo>
                    <a:pt x="650" y="213"/>
                  </a:lnTo>
                  <a:lnTo>
                    <a:pt x="862" y="303"/>
                  </a:lnTo>
                  <a:lnTo>
                    <a:pt x="1054" y="401"/>
                  </a:lnTo>
                  <a:lnTo>
                    <a:pt x="1252" y="524"/>
                  </a:lnTo>
                  <a:lnTo>
                    <a:pt x="1441" y="650"/>
                  </a:lnTo>
                  <a:lnTo>
                    <a:pt x="1613" y="775"/>
                  </a:lnTo>
                  <a:lnTo>
                    <a:pt x="1821" y="938"/>
                  </a:lnTo>
                  <a:lnTo>
                    <a:pt x="1958" y="1064"/>
                  </a:lnTo>
                  <a:lnTo>
                    <a:pt x="2130" y="1240"/>
                  </a:lnTo>
                  <a:lnTo>
                    <a:pt x="2319" y="1434"/>
                  </a:lnTo>
                  <a:lnTo>
                    <a:pt x="2491" y="1629"/>
                  </a:lnTo>
                  <a:lnTo>
                    <a:pt x="2612" y="1777"/>
                  </a:lnTo>
                  <a:lnTo>
                    <a:pt x="2732" y="1990"/>
                  </a:lnTo>
                  <a:lnTo>
                    <a:pt x="2818" y="2168"/>
                  </a:lnTo>
                  <a:lnTo>
                    <a:pt x="2887" y="2356"/>
                  </a:lnTo>
                  <a:lnTo>
                    <a:pt x="2938" y="2555"/>
                  </a:lnTo>
                  <a:lnTo>
                    <a:pt x="2947" y="2672"/>
                  </a:lnTo>
                  <a:lnTo>
                    <a:pt x="2938" y="2812"/>
                  </a:lnTo>
                  <a:lnTo>
                    <a:pt x="2921" y="2919"/>
                  </a:lnTo>
                  <a:lnTo>
                    <a:pt x="2904" y="3024"/>
                  </a:lnTo>
                  <a:lnTo>
                    <a:pt x="2870" y="3108"/>
                  </a:lnTo>
                  <a:lnTo>
                    <a:pt x="3555" y="3108"/>
                  </a:lnTo>
                  <a:lnTo>
                    <a:pt x="3340" y="3221"/>
                  </a:lnTo>
                  <a:lnTo>
                    <a:pt x="3142" y="3333"/>
                  </a:lnTo>
                  <a:lnTo>
                    <a:pt x="2887" y="3484"/>
                  </a:lnTo>
                  <a:lnTo>
                    <a:pt x="2681" y="3647"/>
                  </a:lnTo>
                  <a:lnTo>
                    <a:pt x="2509" y="3795"/>
                  </a:lnTo>
                  <a:lnTo>
                    <a:pt x="2354" y="3983"/>
                  </a:lnTo>
                  <a:lnTo>
                    <a:pt x="2233" y="3808"/>
                  </a:lnTo>
                  <a:lnTo>
                    <a:pt x="2093" y="3624"/>
                  </a:lnTo>
                  <a:lnTo>
                    <a:pt x="1907" y="3434"/>
                  </a:lnTo>
                  <a:lnTo>
                    <a:pt x="1716" y="3283"/>
                  </a:lnTo>
                  <a:lnTo>
                    <a:pt x="1596" y="3195"/>
                  </a:lnTo>
                  <a:lnTo>
                    <a:pt x="1398" y="3101"/>
                  </a:lnTo>
                  <a:lnTo>
                    <a:pt x="2087" y="3101"/>
                  </a:lnTo>
                  <a:lnTo>
                    <a:pt x="2130" y="2919"/>
                  </a:lnTo>
                  <a:lnTo>
                    <a:pt x="2147" y="2755"/>
                  </a:lnTo>
                  <a:lnTo>
                    <a:pt x="2130" y="2567"/>
                  </a:lnTo>
                  <a:lnTo>
                    <a:pt x="2096" y="2381"/>
                  </a:lnTo>
                  <a:lnTo>
                    <a:pt x="2027" y="2168"/>
                  </a:lnTo>
                  <a:lnTo>
                    <a:pt x="1958" y="1978"/>
                  </a:lnTo>
                  <a:lnTo>
                    <a:pt x="1829" y="1708"/>
                  </a:lnTo>
                  <a:lnTo>
                    <a:pt x="1699" y="1491"/>
                  </a:lnTo>
                  <a:lnTo>
                    <a:pt x="1562" y="1296"/>
                  </a:lnTo>
                  <a:lnTo>
                    <a:pt x="1390" y="1090"/>
                  </a:lnTo>
                  <a:lnTo>
                    <a:pt x="1309" y="990"/>
                  </a:lnTo>
                  <a:lnTo>
                    <a:pt x="1235" y="900"/>
                  </a:lnTo>
                  <a:lnTo>
                    <a:pt x="1160" y="823"/>
                  </a:lnTo>
                  <a:lnTo>
                    <a:pt x="1080" y="750"/>
                  </a:lnTo>
                  <a:lnTo>
                    <a:pt x="943" y="612"/>
                  </a:lnTo>
                  <a:lnTo>
                    <a:pt x="828" y="520"/>
                  </a:lnTo>
                  <a:lnTo>
                    <a:pt x="736" y="449"/>
                  </a:lnTo>
                  <a:lnTo>
                    <a:pt x="642" y="378"/>
                  </a:lnTo>
                  <a:lnTo>
                    <a:pt x="544" y="311"/>
                  </a:lnTo>
                  <a:lnTo>
                    <a:pt x="461" y="255"/>
                  </a:lnTo>
                  <a:lnTo>
                    <a:pt x="361" y="188"/>
                  </a:lnTo>
                  <a:lnTo>
                    <a:pt x="237" y="121"/>
                  </a:lnTo>
                  <a:lnTo>
                    <a:pt x="123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4d3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 txBox="1"/>
          <p:nvPr/>
        </p:nvSpPr>
        <p:spPr>
          <a:xfrm>
            <a:off x="2914560" y="2695680"/>
            <a:ext cx="2057400" cy="1200240"/>
          </a:xfrm>
          <a:prstGeom prst="rect">
            <a:avLst/>
          </a:prstGeom>
          <a:gradFill rotWithShape="0">
            <a:gsLst>
              <a:gs pos="0">
                <a:srgbClr val="006b61"/>
              </a:gs>
              <a:gs pos="100000">
                <a:srgbClr val="004a43"/>
              </a:gs>
            </a:gsLst>
            <a:path path="rect">
              <a:fillToRect l="0" t="0" r="100000" b="100000"/>
            </a:path>
          </a:gradFill>
          <a:ln w="76320">
            <a:solidFill>
              <a:srgbClr val="009688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990720" y="4000680"/>
            <a:ext cx="954360" cy="1539720"/>
            <a:chOff x="990720" y="4000680"/>
            <a:chExt cx="954360" cy="1539720"/>
          </a:xfrm>
        </p:grpSpPr>
        <p:sp>
          <p:nvSpPr>
            <p:cNvPr id="159" name=""/>
            <p:cNvSpPr/>
            <p:nvPr/>
          </p:nvSpPr>
          <p:spPr>
            <a:xfrm>
              <a:off x="990720" y="4000680"/>
              <a:ext cx="954360" cy="862200"/>
            </a:xfrm>
            <a:custGeom>
              <a:avLst/>
              <a:gdLst/>
              <a:ahLst/>
              <a:rect l="0" t="0" r="r" b="b"/>
              <a:pathLst>
                <a:path w="2651" h="2395">
                  <a:moveTo>
                    <a:pt x="2651" y="1802"/>
                  </a:moveTo>
                  <a:lnTo>
                    <a:pt x="2645" y="1520"/>
                  </a:lnTo>
                  <a:lnTo>
                    <a:pt x="2635" y="1423"/>
                  </a:lnTo>
                  <a:lnTo>
                    <a:pt x="2615" y="1305"/>
                  </a:lnTo>
                  <a:lnTo>
                    <a:pt x="2599" y="1214"/>
                  </a:lnTo>
                  <a:lnTo>
                    <a:pt x="2575" y="1122"/>
                  </a:lnTo>
                  <a:lnTo>
                    <a:pt x="2548" y="1033"/>
                  </a:lnTo>
                  <a:lnTo>
                    <a:pt x="2518" y="953"/>
                  </a:lnTo>
                  <a:lnTo>
                    <a:pt x="2480" y="856"/>
                  </a:lnTo>
                  <a:lnTo>
                    <a:pt x="2429" y="739"/>
                  </a:lnTo>
                  <a:lnTo>
                    <a:pt x="2379" y="649"/>
                  </a:lnTo>
                  <a:lnTo>
                    <a:pt x="2324" y="560"/>
                  </a:lnTo>
                  <a:lnTo>
                    <a:pt x="2278" y="499"/>
                  </a:lnTo>
                  <a:lnTo>
                    <a:pt x="2225" y="429"/>
                  </a:lnTo>
                  <a:lnTo>
                    <a:pt x="2183" y="378"/>
                  </a:lnTo>
                  <a:lnTo>
                    <a:pt x="2124" y="326"/>
                  </a:lnTo>
                  <a:lnTo>
                    <a:pt x="2070" y="278"/>
                  </a:lnTo>
                  <a:lnTo>
                    <a:pt x="2011" y="229"/>
                  </a:lnTo>
                  <a:lnTo>
                    <a:pt x="1963" y="193"/>
                  </a:lnTo>
                  <a:lnTo>
                    <a:pt x="1896" y="147"/>
                  </a:lnTo>
                  <a:lnTo>
                    <a:pt x="1821" y="102"/>
                  </a:lnTo>
                  <a:lnTo>
                    <a:pt x="1748" y="72"/>
                  </a:lnTo>
                  <a:lnTo>
                    <a:pt x="1684" y="48"/>
                  </a:lnTo>
                  <a:lnTo>
                    <a:pt x="1611" y="26"/>
                  </a:lnTo>
                  <a:lnTo>
                    <a:pt x="1534" y="8"/>
                  </a:lnTo>
                  <a:lnTo>
                    <a:pt x="1435" y="0"/>
                  </a:lnTo>
                  <a:lnTo>
                    <a:pt x="1349" y="6"/>
                  </a:lnTo>
                  <a:lnTo>
                    <a:pt x="1277" y="18"/>
                  </a:lnTo>
                  <a:lnTo>
                    <a:pt x="1204" y="32"/>
                  </a:lnTo>
                  <a:lnTo>
                    <a:pt x="1125" y="58"/>
                  </a:lnTo>
                  <a:lnTo>
                    <a:pt x="1057" y="82"/>
                  </a:lnTo>
                  <a:lnTo>
                    <a:pt x="996" y="114"/>
                  </a:lnTo>
                  <a:lnTo>
                    <a:pt x="917" y="163"/>
                  </a:lnTo>
                  <a:lnTo>
                    <a:pt x="829" y="223"/>
                  </a:lnTo>
                  <a:lnTo>
                    <a:pt x="758" y="286"/>
                  </a:lnTo>
                  <a:lnTo>
                    <a:pt x="699" y="338"/>
                  </a:lnTo>
                  <a:lnTo>
                    <a:pt x="639" y="405"/>
                  </a:lnTo>
                  <a:lnTo>
                    <a:pt x="592" y="469"/>
                  </a:lnTo>
                  <a:lnTo>
                    <a:pt x="538" y="544"/>
                  </a:lnTo>
                  <a:lnTo>
                    <a:pt x="475" y="638"/>
                  </a:lnTo>
                  <a:lnTo>
                    <a:pt x="427" y="729"/>
                  </a:lnTo>
                  <a:lnTo>
                    <a:pt x="374" y="832"/>
                  </a:lnTo>
                  <a:lnTo>
                    <a:pt x="297" y="1044"/>
                  </a:lnTo>
                  <a:lnTo>
                    <a:pt x="249" y="1218"/>
                  </a:lnTo>
                  <a:lnTo>
                    <a:pt x="213" y="1405"/>
                  </a:lnTo>
                  <a:lnTo>
                    <a:pt x="196" y="1557"/>
                  </a:lnTo>
                  <a:lnTo>
                    <a:pt x="184" y="1750"/>
                  </a:lnTo>
                  <a:lnTo>
                    <a:pt x="0" y="1750"/>
                  </a:lnTo>
                  <a:lnTo>
                    <a:pt x="421" y="2395"/>
                  </a:lnTo>
                  <a:lnTo>
                    <a:pt x="847" y="1742"/>
                  </a:lnTo>
                  <a:lnTo>
                    <a:pt x="657" y="1744"/>
                  </a:lnTo>
                  <a:lnTo>
                    <a:pt x="669" y="1550"/>
                  </a:lnTo>
                  <a:lnTo>
                    <a:pt x="693" y="1405"/>
                  </a:lnTo>
                  <a:lnTo>
                    <a:pt x="728" y="1254"/>
                  </a:lnTo>
                  <a:lnTo>
                    <a:pt x="806" y="1044"/>
                  </a:lnTo>
                  <a:lnTo>
                    <a:pt x="857" y="945"/>
                  </a:lnTo>
                  <a:lnTo>
                    <a:pt x="913" y="850"/>
                  </a:lnTo>
                  <a:lnTo>
                    <a:pt x="976" y="771"/>
                  </a:lnTo>
                  <a:lnTo>
                    <a:pt x="1037" y="693"/>
                  </a:lnTo>
                  <a:lnTo>
                    <a:pt x="1097" y="630"/>
                  </a:lnTo>
                  <a:lnTo>
                    <a:pt x="1162" y="578"/>
                  </a:lnTo>
                  <a:lnTo>
                    <a:pt x="1239" y="520"/>
                  </a:lnTo>
                  <a:lnTo>
                    <a:pt x="1330" y="469"/>
                  </a:lnTo>
                  <a:lnTo>
                    <a:pt x="1413" y="433"/>
                  </a:lnTo>
                  <a:lnTo>
                    <a:pt x="1488" y="415"/>
                  </a:lnTo>
                  <a:lnTo>
                    <a:pt x="1583" y="397"/>
                  </a:lnTo>
                  <a:lnTo>
                    <a:pt x="1674" y="395"/>
                  </a:lnTo>
                  <a:lnTo>
                    <a:pt x="1738" y="399"/>
                  </a:lnTo>
                  <a:lnTo>
                    <a:pt x="1805" y="409"/>
                  </a:lnTo>
                  <a:lnTo>
                    <a:pt x="1886" y="433"/>
                  </a:lnTo>
                  <a:lnTo>
                    <a:pt x="1963" y="463"/>
                  </a:lnTo>
                  <a:lnTo>
                    <a:pt x="2037" y="499"/>
                  </a:lnTo>
                  <a:lnTo>
                    <a:pt x="2108" y="548"/>
                  </a:lnTo>
                  <a:lnTo>
                    <a:pt x="2213" y="634"/>
                  </a:lnTo>
                  <a:lnTo>
                    <a:pt x="2282" y="707"/>
                  </a:lnTo>
                  <a:lnTo>
                    <a:pt x="2356" y="802"/>
                  </a:lnTo>
                  <a:lnTo>
                    <a:pt x="2419" y="898"/>
                  </a:lnTo>
                  <a:lnTo>
                    <a:pt x="2459" y="971"/>
                  </a:lnTo>
                  <a:lnTo>
                    <a:pt x="2500" y="1058"/>
                  </a:lnTo>
                  <a:lnTo>
                    <a:pt x="2532" y="1138"/>
                  </a:lnTo>
                  <a:lnTo>
                    <a:pt x="2556" y="1206"/>
                  </a:lnTo>
                  <a:lnTo>
                    <a:pt x="2577" y="1272"/>
                  </a:lnTo>
                  <a:lnTo>
                    <a:pt x="2595" y="1357"/>
                  </a:lnTo>
                  <a:lnTo>
                    <a:pt x="2607" y="1434"/>
                  </a:lnTo>
                  <a:lnTo>
                    <a:pt x="2625" y="1538"/>
                  </a:lnTo>
                  <a:lnTo>
                    <a:pt x="2651" y="1802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90720" y="4678200"/>
              <a:ext cx="954360" cy="862200"/>
            </a:xfrm>
            <a:custGeom>
              <a:avLst/>
              <a:gdLst/>
              <a:ahLst/>
              <a:rect l="0" t="0" r="r" b="b"/>
              <a:pathLst>
                <a:path w="2651" h="2395">
                  <a:moveTo>
                    <a:pt x="0" y="592"/>
                  </a:moveTo>
                  <a:lnTo>
                    <a:pt x="5" y="874"/>
                  </a:lnTo>
                  <a:lnTo>
                    <a:pt x="15" y="971"/>
                  </a:lnTo>
                  <a:lnTo>
                    <a:pt x="35" y="1090"/>
                  </a:lnTo>
                  <a:lnTo>
                    <a:pt x="51" y="1181"/>
                  </a:lnTo>
                  <a:lnTo>
                    <a:pt x="75" y="1272"/>
                  </a:lnTo>
                  <a:lnTo>
                    <a:pt x="102" y="1361"/>
                  </a:lnTo>
                  <a:lnTo>
                    <a:pt x="132" y="1442"/>
                  </a:lnTo>
                  <a:lnTo>
                    <a:pt x="170" y="1538"/>
                  </a:lnTo>
                  <a:lnTo>
                    <a:pt x="221" y="1655"/>
                  </a:lnTo>
                  <a:lnTo>
                    <a:pt x="271" y="1746"/>
                  </a:lnTo>
                  <a:lnTo>
                    <a:pt x="326" y="1835"/>
                  </a:lnTo>
                  <a:lnTo>
                    <a:pt x="372" y="1895"/>
                  </a:lnTo>
                  <a:lnTo>
                    <a:pt x="425" y="1966"/>
                  </a:lnTo>
                  <a:lnTo>
                    <a:pt x="467" y="2016"/>
                  </a:lnTo>
                  <a:lnTo>
                    <a:pt x="526" y="2068"/>
                  </a:lnTo>
                  <a:lnTo>
                    <a:pt x="580" y="2117"/>
                  </a:lnTo>
                  <a:lnTo>
                    <a:pt x="639" y="2165"/>
                  </a:lnTo>
                  <a:lnTo>
                    <a:pt x="687" y="2201"/>
                  </a:lnTo>
                  <a:lnTo>
                    <a:pt x="754" y="2248"/>
                  </a:lnTo>
                  <a:lnTo>
                    <a:pt x="829" y="2292"/>
                  </a:lnTo>
                  <a:lnTo>
                    <a:pt x="903" y="2322"/>
                  </a:lnTo>
                  <a:lnTo>
                    <a:pt x="966" y="2347"/>
                  </a:lnTo>
                  <a:lnTo>
                    <a:pt x="1039" y="2369"/>
                  </a:lnTo>
                  <a:lnTo>
                    <a:pt x="1117" y="2387"/>
                  </a:lnTo>
                  <a:lnTo>
                    <a:pt x="1216" y="2395"/>
                  </a:lnTo>
                  <a:lnTo>
                    <a:pt x="1301" y="2389"/>
                  </a:lnTo>
                  <a:lnTo>
                    <a:pt x="1373" y="2377"/>
                  </a:lnTo>
                  <a:lnTo>
                    <a:pt x="1446" y="2363"/>
                  </a:lnTo>
                  <a:lnTo>
                    <a:pt x="1526" y="2337"/>
                  </a:lnTo>
                  <a:lnTo>
                    <a:pt x="1593" y="2312"/>
                  </a:lnTo>
                  <a:lnTo>
                    <a:pt x="1654" y="2280"/>
                  </a:lnTo>
                  <a:lnTo>
                    <a:pt x="1734" y="2232"/>
                  </a:lnTo>
                  <a:lnTo>
                    <a:pt x="1821" y="2171"/>
                  </a:lnTo>
                  <a:lnTo>
                    <a:pt x="1892" y="2109"/>
                  </a:lnTo>
                  <a:lnTo>
                    <a:pt x="1952" y="2056"/>
                  </a:lnTo>
                  <a:lnTo>
                    <a:pt x="2011" y="1990"/>
                  </a:lnTo>
                  <a:lnTo>
                    <a:pt x="2058" y="1925"/>
                  </a:lnTo>
                  <a:lnTo>
                    <a:pt x="2112" y="1851"/>
                  </a:lnTo>
                  <a:lnTo>
                    <a:pt x="2175" y="1756"/>
                  </a:lnTo>
                  <a:lnTo>
                    <a:pt x="2223" y="1665"/>
                  </a:lnTo>
                  <a:lnTo>
                    <a:pt x="2276" y="1563"/>
                  </a:lnTo>
                  <a:lnTo>
                    <a:pt x="2354" y="1351"/>
                  </a:lnTo>
                  <a:lnTo>
                    <a:pt x="2401" y="1177"/>
                  </a:lnTo>
                  <a:lnTo>
                    <a:pt x="2437" y="989"/>
                  </a:lnTo>
                  <a:lnTo>
                    <a:pt x="2455" y="838"/>
                  </a:lnTo>
                  <a:lnTo>
                    <a:pt x="2467" y="644"/>
                  </a:lnTo>
                  <a:lnTo>
                    <a:pt x="2651" y="644"/>
                  </a:lnTo>
                  <a:lnTo>
                    <a:pt x="2229" y="0"/>
                  </a:lnTo>
                  <a:lnTo>
                    <a:pt x="1803" y="653"/>
                  </a:lnTo>
                  <a:lnTo>
                    <a:pt x="1993" y="651"/>
                  </a:lnTo>
                  <a:lnTo>
                    <a:pt x="1981" y="844"/>
                  </a:lnTo>
                  <a:lnTo>
                    <a:pt x="1957" y="989"/>
                  </a:lnTo>
                  <a:lnTo>
                    <a:pt x="1922" y="1140"/>
                  </a:lnTo>
                  <a:lnTo>
                    <a:pt x="1845" y="1351"/>
                  </a:lnTo>
                  <a:lnTo>
                    <a:pt x="1793" y="1450"/>
                  </a:lnTo>
                  <a:lnTo>
                    <a:pt x="1738" y="1544"/>
                  </a:lnTo>
                  <a:lnTo>
                    <a:pt x="1674" y="1623"/>
                  </a:lnTo>
                  <a:lnTo>
                    <a:pt x="1613" y="1702"/>
                  </a:lnTo>
                  <a:lnTo>
                    <a:pt x="1553" y="1764"/>
                  </a:lnTo>
                  <a:lnTo>
                    <a:pt x="1488" y="1817"/>
                  </a:lnTo>
                  <a:lnTo>
                    <a:pt x="1411" y="1875"/>
                  </a:lnTo>
                  <a:lnTo>
                    <a:pt x="1321" y="1925"/>
                  </a:lnTo>
                  <a:lnTo>
                    <a:pt x="1237" y="1962"/>
                  </a:lnTo>
                  <a:lnTo>
                    <a:pt x="1162" y="1980"/>
                  </a:lnTo>
                  <a:lnTo>
                    <a:pt x="1067" y="1998"/>
                  </a:lnTo>
                  <a:lnTo>
                    <a:pt x="976" y="2000"/>
                  </a:lnTo>
                  <a:lnTo>
                    <a:pt x="913" y="1996"/>
                  </a:lnTo>
                  <a:lnTo>
                    <a:pt x="845" y="1986"/>
                  </a:lnTo>
                  <a:lnTo>
                    <a:pt x="764" y="1962"/>
                  </a:lnTo>
                  <a:lnTo>
                    <a:pt x="687" y="1931"/>
                  </a:lnTo>
                  <a:lnTo>
                    <a:pt x="614" y="1895"/>
                  </a:lnTo>
                  <a:lnTo>
                    <a:pt x="542" y="1847"/>
                  </a:lnTo>
                  <a:lnTo>
                    <a:pt x="437" y="1760"/>
                  </a:lnTo>
                  <a:lnTo>
                    <a:pt x="368" y="1688"/>
                  </a:lnTo>
                  <a:lnTo>
                    <a:pt x="295" y="1593"/>
                  </a:lnTo>
                  <a:lnTo>
                    <a:pt x="231" y="1496"/>
                  </a:lnTo>
                  <a:lnTo>
                    <a:pt x="192" y="1423"/>
                  </a:lnTo>
                  <a:lnTo>
                    <a:pt x="150" y="1337"/>
                  </a:lnTo>
                  <a:lnTo>
                    <a:pt x="118" y="1256"/>
                  </a:lnTo>
                  <a:lnTo>
                    <a:pt x="95" y="1189"/>
                  </a:lnTo>
                  <a:lnTo>
                    <a:pt x="73" y="1122"/>
                  </a:lnTo>
                  <a:lnTo>
                    <a:pt x="55" y="1038"/>
                  </a:lnTo>
                  <a:lnTo>
                    <a:pt x="43" y="961"/>
                  </a:lnTo>
                  <a:lnTo>
                    <a:pt x="25" y="856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467160" y="4000680"/>
            <a:ext cx="954360" cy="1539720"/>
            <a:chOff x="3467160" y="4000680"/>
            <a:chExt cx="954360" cy="1539720"/>
          </a:xfrm>
        </p:grpSpPr>
        <p:sp>
          <p:nvSpPr>
            <p:cNvPr id="162" name=""/>
            <p:cNvSpPr/>
            <p:nvPr/>
          </p:nvSpPr>
          <p:spPr>
            <a:xfrm>
              <a:off x="3467160" y="4000680"/>
              <a:ext cx="954360" cy="862200"/>
            </a:xfrm>
            <a:custGeom>
              <a:avLst/>
              <a:gdLst/>
              <a:ahLst/>
              <a:rect l="0" t="0" r="r" b="b"/>
              <a:pathLst>
                <a:path w="2651" h="2395">
                  <a:moveTo>
                    <a:pt x="2651" y="1802"/>
                  </a:moveTo>
                  <a:lnTo>
                    <a:pt x="2645" y="1520"/>
                  </a:lnTo>
                  <a:lnTo>
                    <a:pt x="2635" y="1423"/>
                  </a:lnTo>
                  <a:lnTo>
                    <a:pt x="2615" y="1305"/>
                  </a:lnTo>
                  <a:lnTo>
                    <a:pt x="2599" y="1214"/>
                  </a:lnTo>
                  <a:lnTo>
                    <a:pt x="2575" y="1122"/>
                  </a:lnTo>
                  <a:lnTo>
                    <a:pt x="2548" y="1033"/>
                  </a:lnTo>
                  <a:lnTo>
                    <a:pt x="2518" y="953"/>
                  </a:lnTo>
                  <a:lnTo>
                    <a:pt x="2480" y="856"/>
                  </a:lnTo>
                  <a:lnTo>
                    <a:pt x="2429" y="739"/>
                  </a:lnTo>
                  <a:lnTo>
                    <a:pt x="2379" y="649"/>
                  </a:lnTo>
                  <a:lnTo>
                    <a:pt x="2324" y="560"/>
                  </a:lnTo>
                  <a:lnTo>
                    <a:pt x="2278" y="499"/>
                  </a:lnTo>
                  <a:lnTo>
                    <a:pt x="2225" y="429"/>
                  </a:lnTo>
                  <a:lnTo>
                    <a:pt x="2183" y="378"/>
                  </a:lnTo>
                  <a:lnTo>
                    <a:pt x="2124" y="326"/>
                  </a:lnTo>
                  <a:lnTo>
                    <a:pt x="2070" y="278"/>
                  </a:lnTo>
                  <a:lnTo>
                    <a:pt x="2011" y="229"/>
                  </a:lnTo>
                  <a:lnTo>
                    <a:pt x="1963" y="193"/>
                  </a:lnTo>
                  <a:lnTo>
                    <a:pt x="1896" y="147"/>
                  </a:lnTo>
                  <a:lnTo>
                    <a:pt x="1821" y="102"/>
                  </a:lnTo>
                  <a:lnTo>
                    <a:pt x="1748" y="72"/>
                  </a:lnTo>
                  <a:lnTo>
                    <a:pt x="1684" y="48"/>
                  </a:lnTo>
                  <a:lnTo>
                    <a:pt x="1611" y="26"/>
                  </a:lnTo>
                  <a:lnTo>
                    <a:pt x="1534" y="8"/>
                  </a:lnTo>
                  <a:lnTo>
                    <a:pt x="1435" y="0"/>
                  </a:lnTo>
                  <a:lnTo>
                    <a:pt x="1349" y="6"/>
                  </a:lnTo>
                  <a:lnTo>
                    <a:pt x="1277" y="18"/>
                  </a:lnTo>
                  <a:lnTo>
                    <a:pt x="1204" y="32"/>
                  </a:lnTo>
                  <a:lnTo>
                    <a:pt x="1125" y="58"/>
                  </a:lnTo>
                  <a:lnTo>
                    <a:pt x="1057" y="82"/>
                  </a:lnTo>
                  <a:lnTo>
                    <a:pt x="996" y="114"/>
                  </a:lnTo>
                  <a:lnTo>
                    <a:pt x="917" y="163"/>
                  </a:lnTo>
                  <a:lnTo>
                    <a:pt x="829" y="223"/>
                  </a:lnTo>
                  <a:lnTo>
                    <a:pt x="758" y="286"/>
                  </a:lnTo>
                  <a:lnTo>
                    <a:pt x="699" y="338"/>
                  </a:lnTo>
                  <a:lnTo>
                    <a:pt x="639" y="405"/>
                  </a:lnTo>
                  <a:lnTo>
                    <a:pt x="592" y="469"/>
                  </a:lnTo>
                  <a:lnTo>
                    <a:pt x="538" y="544"/>
                  </a:lnTo>
                  <a:lnTo>
                    <a:pt x="475" y="638"/>
                  </a:lnTo>
                  <a:lnTo>
                    <a:pt x="427" y="729"/>
                  </a:lnTo>
                  <a:lnTo>
                    <a:pt x="374" y="832"/>
                  </a:lnTo>
                  <a:lnTo>
                    <a:pt x="297" y="1044"/>
                  </a:lnTo>
                  <a:lnTo>
                    <a:pt x="249" y="1218"/>
                  </a:lnTo>
                  <a:lnTo>
                    <a:pt x="213" y="1405"/>
                  </a:lnTo>
                  <a:lnTo>
                    <a:pt x="196" y="1557"/>
                  </a:lnTo>
                  <a:lnTo>
                    <a:pt x="184" y="1750"/>
                  </a:lnTo>
                  <a:lnTo>
                    <a:pt x="0" y="1750"/>
                  </a:lnTo>
                  <a:lnTo>
                    <a:pt x="421" y="2395"/>
                  </a:lnTo>
                  <a:lnTo>
                    <a:pt x="847" y="1742"/>
                  </a:lnTo>
                  <a:lnTo>
                    <a:pt x="657" y="1744"/>
                  </a:lnTo>
                  <a:lnTo>
                    <a:pt x="669" y="1550"/>
                  </a:lnTo>
                  <a:lnTo>
                    <a:pt x="693" y="1405"/>
                  </a:lnTo>
                  <a:lnTo>
                    <a:pt x="728" y="1254"/>
                  </a:lnTo>
                  <a:lnTo>
                    <a:pt x="806" y="1044"/>
                  </a:lnTo>
                  <a:lnTo>
                    <a:pt x="857" y="945"/>
                  </a:lnTo>
                  <a:lnTo>
                    <a:pt x="913" y="850"/>
                  </a:lnTo>
                  <a:lnTo>
                    <a:pt x="976" y="771"/>
                  </a:lnTo>
                  <a:lnTo>
                    <a:pt x="1037" y="693"/>
                  </a:lnTo>
                  <a:lnTo>
                    <a:pt x="1097" y="630"/>
                  </a:lnTo>
                  <a:lnTo>
                    <a:pt x="1162" y="578"/>
                  </a:lnTo>
                  <a:lnTo>
                    <a:pt x="1239" y="520"/>
                  </a:lnTo>
                  <a:lnTo>
                    <a:pt x="1330" y="469"/>
                  </a:lnTo>
                  <a:lnTo>
                    <a:pt x="1413" y="433"/>
                  </a:lnTo>
                  <a:lnTo>
                    <a:pt x="1488" y="415"/>
                  </a:lnTo>
                  <a:lnTo>
                    <a:pt x="1583" y="397"/>
                  </a:lnTo>
                  <a:lnTo>
                    <a:pt x="1674" y="395"/>
                  </a:lnTo>
                  <a:lnTo>
                    <a:pt x="1738" y="399"/>
                  </a:lnTo>
                  <a:lnTo>
                    <a:pt x="1805" y="409"/>
                  </a:lnTo>
                  <a:lnTo>
                    <a:pt x="1886" y="433"/>
                  </a:lnTo>
                  <a:lnTo>
                    <a:pt x="1963" y="463"/>
                  </a:lnTo>
                  <a:lnTo>
                    <a:pt x="2037" y="499"/>
                  </a:lnTo>
                  <a:lnTo>
                    <a:pt x="2108" y="548"/>
                  </a:lnTo>
                  <a:lnTo>
                    <a:pt x="2213" y="634"/>
                  </a:lnTo>
                  <a:lnTo>
                    <a:pt x="2282" y="707"/>
                  </a:lnTo>
                  <a:lnTo>
                    <a:pt x="2356" y="802"/>
                  </a:lnTo>
                  <a:lnTo>
                    <a:pt x="2419" y="898"/>
                  </a:lnTo>
                  <a:lnTo>
                    <a:pt x="2459" y="971"/>
                  </a:lnTo>
                  <a:lnTo>
                    <a:pt x="2500" y="1058"/>
                  </a:lnTo>
                  <a:lnTo>
                    <a:pt x="2532" y="1138"/>
                  </a:lnTo>
                  <a:lnTo>
                    <a:pt x="2556" y="1206"/>
                  </a:lnTo>
                  <a:lnTo>
                    <a:pt x="2577" y="1272"/>
                  </a:lnTo>
                  <a:lnTo>
                    <a:pt x="2595" y="1357"/>
                  </a:lnTo>
                  <a:lnTo>
                    <a:pt x="2607" y="1434"/>
                  </a:lnTo>
                  <a:lnTo>
                    <a:pt x="2625" y="1538"/>
                  </a:lnTo>
                  <a:lnTo>
                    <a:pt x="2651" y="1802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67160" y="4678200"/>
              <a:ext cx="954360" cy="862200"/>
            </a:xfrm>
            <a:custGeom>
              <a:avLst/>
              <a:gdLst/>
              <a:ahLst/>
              <a:rect l="0" t="0" r="r" b="b"/>
              <a:pathLst>
                <a:path w="2651" h="2395">
                  <a:moveTo>
                    <a:pt x="0" y="592"/>
                  </a:moveTo>
                  <a:lnTo>
                    <a:pt x="5" y="874"/>
                  </a:lnTo>
                  <a:lnTo>
                    <a:pt x="15" y="971"/>
                  </a:lnTo>
                  <a:lnTo>
                    <a:pt x="35" y="1090"/>
                  </a:lnTo>
                  <a:lnTo>
                    <a:pt x="51" y="1181"/>
                  </a:lnTo>
                  <a:lnTo>
                    <a:pt x="75" y="1272"/>
                  </a:lnTo>
                  <a:lnTo>
                    <a:pt x="102" y="1361"/>
                  </a:lnTo>
                  <a:lnTo>
                    <a:pt x="132" y="1442"/>
                  </a:lnTo>
                  <a:lnTo>
                    <a:pt x="170" y="1538"/>
                  </a:lnTo>
                  <a:lnTo>
                    <a:pt x="221" y="1655"/>
                  </a:lnTo>
                  <a:lnTo>
                    <a:pt x="271" y="1746"/>
                  </a:lnTo>
                  <a:lnTo>
                    <a:pt x="326" y="1835"/>
                  </a:lnTo>
                  <a:lnTo>
                    <a:pt x="372" y="1895"/>
                  </a:lnTo>
                  <a:lnTo>
                    <a:pt x="425" y="1966"/>
                  </a:lnTo>
                  <a:lnTo>
                    <a:pt x="467" y="2016"/>
                  </a:lnTo>
                  <a:lnTo>
                    <a:pt x="526" y="2068"/>
                  </a:lnTo>
                  <a:lnTo>
                    <a:pt x="580" y="2117"/>
                  </a:lnTo>
                  <a:lnTo>
                    <a:pt x="639" y="2165"/>
                  </a:lnTo>
                  <a:lnTo>
                    <a:pt x="687" y="2201"/>
                  </a:lnTo>
                  <a:lnTo>
                    <a:pt x="754" y="2248"/>
                  </a:lnTo>
                  <a:lnTo>
                    <a:pt x="829" y="2292"/>
                  </a:lnTo>
                  <a:lnTo>
                    <a:pt x="903" y="2322"/>
                  </a:lnTo>
                  <a:lnTo>
                    <a:pt x="966" y="2347"/>
                  </a:lnTo>
                  <a:lnTo>
                    <a:pt x="1039" y="2369"/>
                  </a:lnTo>
                  <a:lnTo>
                    <a:pt x="1117" y="2387"/>
                  </a:lnTo>
                  <a:lnTo>
                    <a:pt x="1216" y="2395"/>
                  </a:lnTo>
                  <a:lnTo>
                    <a:pt x="1301" y="2389"/>
                  </a:lnTo>
                  <a:lnTo>
                    <a:pt x="1373" y="2377"/>
                  </a:lnTo>
                  <a:lnTo>
                    <a:pt x="1446" y="2363"/>
                  </a:lnTo>
                  <a:lnTo>
                    <a:pt x="1526" y="2337"/>
                  </a:lnTo>
                  <a:lnTo>
                    <a:pt x="1593" y="2312"/>
                  </a:lnTo>
                  <a:lnTo>
                    <a:pt x="1654" y="2280"/>
                  </a:lnTo>
                  <a:lnTo>
                    <a:pt x="1734" y="2232"/>
                  </a:lnTo>
                  <a:lnTo>
                    <a:pt x="1821" y="2171"/>
                  </a:lnTo>
                  <a:lnTo>
                    <a:pt x="1892" y="2109"/>
                  </a:lnTo>
                  <a:lnTo>
                    <a:pt x="1952" y="2056"/>
                  </a:lnTo>
                  <a:lnTo>
                    <a:pt x="2011" y="1990"/>
                  </a:lnTo>
                  <a:lnTo>
                    <a:pt x="2058" y="1925"/>
                  </a:lnTo>
                  <a:lnTo>
                    <a:pt x="2112" y="1851"/>
                  </a:lnTo>
                  <a:lnTo>
                    <a:pt x="2175" y="1756"/>
                  </a:lnTo>
                  <a:lnTo>
                    <a:pt x="2223" y="1665"/>
                  </a:lnTo>
                  <a:lnTo>
                    <a:pt x="2276" y="1563"/>
                  </a:lnTo>
                  <a:lnTo>
                    <a:pt x="2354" y="1351"/>
                  </a:lnTo>
                  <a:lnTo>
                    <a:pt x="2401" y="1177"/>
                  </a:lnTo>
                  <a:lnTo>
                    <a:pt x="2437" y="989"/>
                  </a:lnTo>
                  <a:lnTo>
                    <a:pt x="2455" y="838"/>
                  </a:lnTo>
                  <a:lnTo>
                    <a:pt x="2467" y="644"/>
                  </a:lnTo>
                  <a:lnTo>
                    <a:pt x="2651" y="644"/>
                  </a:lnTo>
                  <a:lnTo>
                    <a:pt x="2229" y="0"/>
                  </a:lnTo>
                  <a:lnTo>
                    <a:pt x="1803" y="653"/>
                  </a:lnTo>
                  <a:lnTo>
                    <a:pt x="1993" y="651"/>
                  </a:lnTo>
                  <a:lnTo>
                    <a:pt x="1981" y="844"/>
                  </a:lnTo>
                  <a:lnTo>
                    <a:pt x="1957" y="989"/>
                  </a:lnTo>
                  <a:lnTo>
                    <a:pt x="1922" y="1140"/>
                  </a:lnTo>
                  <a:lnTo>
                    <a:pt x="1845" y="1351"/>
                  </a:lnTo>
                  <a:lnTo>
                    <a:pt x="1793" y="1450"/>
                  </a:lnTo>
                  <a:lnTo>
                    <a:pt x="1738" y="1544"/>
                  </a:lnTo>
                  <a:lnTo>
                    <a:pt x="1674" y="1623"/>
                  </a:lnTo>
                  <a:lnTo>
                    <a:pt x="1613" y="1702"/>
                  </a:lnTo>
                  <a:lnTo>
                    <a:pt x="1553" y="1764"/>
                  </a:lnTo>
                  <a:lnTo>
                    <a:pt x="1488" y="1817"/>
                  </a:lnTo>
                  <a:lnTo>
                    <a:pt x="1411" y="1875"/>
                  </a:lnTo>
                  <a:lnTo>
                    <a:pt x="1321" y="1925"/>
                  </a:lnTo>
                  <a:lnTo>
                    <a:pt x="1237" y="1962"/>
                  </a:lnTo>
                  <a:lnTo>
                    <a:pt x="1162" y="1980"/>
                  </a:lnTo>
                  <a:lnTo>
                    <a:pt x="1067" y="1998"/>
                  </a:lnTo>
                  <a:lnTo>
                    <a:pt x="976" y="2000"/>
                  </a:lnTo>
                  <a:lnTo>
                    <a:pt x="913" y="1996"/>
                  </a:lnTo>
                  <a:lnTo>
                    <a:pt x="845" y="1986"/>
                  </a:lnTo>
                  <a:lnTo>
                    <a:pt x="764" y="1962"/>
                  </a:lnTo>
                  <a:lnTo>
                    <a:pt x="687" y="1931"/>
                  </a:lnTo>
                  <a:lnTo>
                    <a:pt x="614" y="1895"/>
                  </a:lnTo>
                  <a:lnTo>
                    <a:pt x="542" y="1847"/>
                  </a:lnTo>
                  <a:lnTo>
                    <a:pt x="437" y="1760"/>
                  </a:lnTo>
                  <a:lnTo>
                    <a:pt x="368" y="1688"/>
                  </a:lnTo>
                  <a:lnTo>
                    <a:pt x="295" y="1593"/>
                  </a:lnTo>
                  <a:lnTo>
                    <a:pt x="231" y="1496"/>
                  </a:lnTo>
                  <a:lnTo>
                    <a:pt x="192" y="1423"/>
                  </a:lnTo>
                  <a:lnTo>
                    <a:pt x="150" y="1337"/>
                  </a:lnTo>
                  <a:lnTo>
                    <a:pt x="118" y="1256"/>
                  </a:lnTo>
                  <a:lnTo>
                    <a:pt x="95" y="1189"/>
                  </a:lnTo>
                  <a:lnTo>
                    <a:pt x="73" y="1122"/>
                  </a:lnTo>
                  <a:lnTo>
                    <a:pt x="55" y="1038"/>
                  </a:lnTo>
                  <a:lnTo>
                    <a:pt x="43" y="961"/>
                  </a:lnTo>
                  <a:lnTo>
                    <a:pt x="25" y="856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 txBox="1"/>
          <p:nvPr/>
        </p:nvSpPr>
        <p:spPr>
          <a:xfrm>
            <a:off x="5149800" y="2244600"/>
            <a:ext cx="38862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onpreemptive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tasking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3.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38120" y="2695680"/>
            <a:ext cx="2057400" cy="1200240"/>
          </a:xfrm>
          <a:prstGeom prst="rect">
            <a:avLst/>
          </a:prstGeom>
          <a:gradFill rotWithShape="0">
            <a:gsLst>
              <a:gs pos="0">
                <a:srgbClr val="006b61"/>
              </a:gs>
              <a:gs pos="100000">
                <a:srgbClr val="004a43"/>
              </a:gs>
            </a:gsLst>
            <a:path path="rect">
              <a:fillToRect l="0" t="0" r="100000" b="100000"/>
            </a:path>
          </a:gradFill>
          <a:ln w="76320">
            <a:solidFill>
              <a:srgbClr val="009688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5648400"/>
            <a:ext cx="2324160" cy="60948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972266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781360" y="5648400"/>
            <a:ext cx="2324160" cy="60948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972266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Environment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(Running on Windows 3.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14400" y="1790640"/>
            <a:ext cx="7315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d memory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rotection from other processes (16 or 32-bi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shared DLL data (no instance dat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 and memory usage of each process affects every other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3 FAT fil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long filenames, async file I/O or AC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relies on Windows 3.1 GD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aths, advanced transforms or bezier cur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Unicod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I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85640" y="228600"/>
            <a:ext cx="8172360" cy="15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1.0 API Features                                  </a:t>
            </a:r>
            <a:r>
              <a:rPr b="1" lang="en-US" sz="2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Powerful Windows NT features provided by Win32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514520" y="1847880"/>
            <a:ext cx="611496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flat address space (512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rse memory (VirtualAllo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 management (HeapAllo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shar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ocal Storage (TL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85640" y="228600"/>
            <a:ext cx="8172360" cy="15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1.0 API Features                               </a:t>
            </a:r>
            <a:r>
              <a:rPr b="1" lang="en-US" sz="2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Powerful Windows NT features provided by Win32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14520" y="1847880"/>
            <a:ext cx="611496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nificant Performance gains runn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message seman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exception handling (SE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28640" y="819000"/>
            <a:ext cx="817236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33360" y="232416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14280" y="228600"/>
            <a:ext cx="85154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ructured Exception Hand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90720" y="1714680"/>
            <a:ext cx="716292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y/except and try/fin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handling of divide by 0, stack under/overflow, wild pointers, application-defined exception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sted exception handling 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uture Win32s API Features (Version 1.1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82600" y="1924200"/>
            <a:ext cx="677880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ps simultaneously with Windows NT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features provided by Win32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ion 1.0 features plus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-mapped files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ked by d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Japanese Suppor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-J For Windows 3.1-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990720" y="2286000"/>
            <a:ext cx="716292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ps with Beta 1 of the Windows NT-J SD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the creation of a DBCS application that will run on both Windows NT-J and Windows 3.1-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85640" y="228600"/>
            <a:ext cx="8172360" cy="13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40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52400" y="2019240"/>
            <a:ext cx="7639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eemptive Multitasking and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 and D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177156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9200" y="228600"/>
            <a:ext cx="898668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eemptive Multitasking Impact 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unning on Windows 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895320" y="1619280"/>
            <a:ext cx="735336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ing DLL resources with critical sections (EnterCriticalSec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C with other processes must be synchron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processing is not atomic during 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to test Win32 applications on BOTH Windows 3.1 and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905040" y="228600"/>
            <a:ext cx="7334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cesses On Windows 3.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247760" y="1123920"/>
            <a:ext cx="664848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nd Win32 processes       coexist seamless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plications see Win32 apps. as other Win16 ap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s. see Win16 applications as other Win32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Win32 applications may be loa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Win32 applications can link to a Win32 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Goals Of Win3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276200" y="1523880"/>
            <a:ext cx="659124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 on ease of porting existing 32-bit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e of porting existing 16-bit Windows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 existing Win16 bin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le on multiple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04880" y="1714680"/>
            <a:ext cx="773424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 and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 and D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20574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ssage Handling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809640" y="1028880"/>
            <a:ext cx="7524720" cy="52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maps messages transparen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order identical on Windows 3.1 and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ate mess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&lt;&gt; Win32: wParam is 0 exten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&lt;&gt; Win16: high-order word of wParam is l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&lt;&gt; Win32: high-order word of wParam is l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aram is unaff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 messages such as WM_COMMAND are not aff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762120" y="1790640"/>
            <a:ext cx="762012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 and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 and D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66680" y="20574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095480" y="228600"/>
            <a:ext cx="6953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990720" y="1295280"/>
            <a:ext cx="716292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nd Win32 applications share virtual address space (2G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has separate 2GB-per-process address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Win32 application instances do not share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referenced by multiple Win32 apps. do share code on Win32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885960" y="228600"/>
            <a:ext cx="73724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ore Memory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295280" y="1447920"/>
            <a:ext cx="655308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sparse memory (reserved/committed memo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supports demand paging for efficient EXE lo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executing data as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execute data on st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438280" y="228600"/>
            <a:ext cx="4267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DL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133640" y="1162080"/>
            <a:ext cx="6877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only shared data (no instance dat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compatibility, DLL data remains shared o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2 secure systems allow shared memory for apps. run under same user 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16-bit style Prolog/Epilog code (DLL function identical to static func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581120" y="1809720"/>
            <a:ext cx="59817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20574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085760" y="228600"/>
            <a:ext cx="69724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inting On Windows 3.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90720" y="1238400"/>
            <a:ext cx="71629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. does not directly link to 16-bit printer driver (D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creates thunk for printer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driver links to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 gets address to thunk from GetProc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Windows 3.1 DevEscapes thunked by Win32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600200" y="1676520"/>
            <a:ext cx="59436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90720" y="20574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143000" y="1504800"/>
            <a:ext cx="6858000" cy="33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are translated before being passed to Windows 3.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head depends on function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tBlt() -- thunking overhead is minimal (less than 1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Version() -- thunking overhead relatively hig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228600"/>
            <a:ext cx="7162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33320" y="1143000"/>
            <a:ext cx="767700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32-bit enhancements to huge Windows 3.1 installed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dge provided for  Windows 3.1 custo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source compatibility across all Windows platfor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binary compatibility on Windows 3.1 and Windows NT on x8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04720" y="43956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76240" y="1676520"/>
            <a:ext cx="739152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calling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s would experience a 10% degra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 apps th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32-bit quant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memory or data int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calculation int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huge or far point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echniques For Improving Performa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90720" y="1733400"/>
            <a:ext cx="716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ing Set Tu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line rather than MoveTo/Line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variables (stack) variables are faster to pass by reference between the Win32 application and 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rew Schulman’s article April Microsoft Systems Journal discusses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95160" y="1828800"/>
            <a:ext cx="77533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 and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 and D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213372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niversal Thun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428840" y="1390680"/>
            <a:ext cx="628668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Win32 application calling into a 16-bit 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s Win32s applications to use 16-bit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16-bit scanner dr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a 16-bit routine to callback to a 32-bit fu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85640" y="228600"/>
            <a:ext cx="817236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plication Using A Win32 Service DLL On Windows NT Or Windows 3.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959120" y="2390760"/>
            <a:ext cx="522756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0520" y="254160"/>
            <a:ext cx="9094680" cy="63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niversal Thunk Desig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800280" y="1200240"/>
            <a:ext cx="75438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translate 32-bit linear pointer to shared memory to a 16:16 segmented pointer for the 16-bit UTFunc rout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ally destroy thunk and Free 16-bit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UTUnRegister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Win32 app termin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IMPORTAN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The Universal Thunk is provided as a stepping st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990720" y="228600"/>
            <a:ext cx="7162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ggested Action It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74840" y="1047600"/>
            <a:ext cx="8194680" cy="56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 current 32-bit applications to Win32 API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get Win32s for products with Windows 3.1 supported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get Windows NT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graphics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client-server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sion critical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-critical applications running on MP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-Engin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 Win32 apps. on Windows 3.1 and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908600" y="2517840"/>
            <a:ext cx="278136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mo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996840" y="1714680"/>
            <a:ext cx="25160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222800" y="2449440"/>
            <a:ext cx="392436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996840" y="1714680"/>
            <a:ext cx="25160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76120" y="228600"/>
            <a:ext cx="8591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uture Windows Platfor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23960" y="1428840"/>
            <a:ext cx="769608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applications will continue to r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OS code converted to 32-b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applications run faster and use memory more efficiently in Windows (now and in the futu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Win32s-based application will be a great “Chicago”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nd Win32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324080" y="1257480"/>
            <a:ext cx="649620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Win32 versions of your applications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/API features determine the platform you deploy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s. have the performance and feature advantages on all Windows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Target Win32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63600" y="1371600"/>
            <a:ext cx="661824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Win32 platform -- Win32s product is shipping 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ge install base to sell into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+ million copies of Windows installed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 1 million shipped each mon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 Windows NT features provided by Win32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Target Win32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90720" y="1276200"/>
            <a:ext cx="716292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/capacity impr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have linear address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gments (0:3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based applications run on Windows 3.1 and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API is fully compatible subset of Win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s written to Win32s API run as native Win32 apps. on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fines An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57160" y="1276200"/>
            <a:ext cx="742968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vi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API stretched to 32-b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et of Win32 API that is compatible with Win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equivalents for Windows 3.1 APIs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s several powerful Windows NT features for Win32 apps.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