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75280" y="23760"/>
            <a:ext cx="3156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1st talk) 6/93 </a:t>
            </a:r>
            <a:fld id="{D0BFA43F-B0D3-497C-A679-2608B70406B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457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09640" y="22716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, secure file and print sharing compatible with Windows for Workgroups and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nd account administration tools which can manage systems remotely (and secure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P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 - Use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1480" y="1733400"/>
            <a:ext cx="8140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account/login facilitates access to all network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dministrative privileges, users can share local drives, files, CD-ROMs, an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mail, scheduling and 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all network resources through common tools - File Manager, Prin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3840" y="228600"/>
            <a:ext cx="8896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09640" y="1733400"/>
            <a:ext cx="75247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is transport-independent, can match the customer’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granular access rights can be applied to network resources as they are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security offers fine-tuning of resource sharing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tools offer very simple network installation, configuration and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ystems can be managed remotely as easily as they are lo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701720"/>
            <a:ext cx="66103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can be placed into groups for simpl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cation for network component installation, and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properties and usage can be controlled through a single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events and critical errors logged centrally and consistently on al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s may graphically monitor remote or loc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67480" y="3797280"/>
            <a:ext cx="2426040" cy="519120"/>
            <a:chOff x="6567480" y="3797280"/>
            <a:chExt cx="2426040" cy="519120"/>
          </a:xfrm>
        </p:grpSpPr>
        <p:sp>
          <p:nvSpPr>
            <p:cNvPr id="67" name=""/>
            <p:cNvSpPr txBox="1"/>
            <p:nvPr/>
          </p:nvSpPr>
          <p:spPr>
            <a:xfrm>
              <a:off x="7402680" y="3855960"/>
              <a:ext cx="1590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Serv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6567480" y="3797280"/>
              <a:ext cx="677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67480" y="4759200"/>
            <a:ext cx="1973520" cy="574560"/>
            <a:chOff x="6567480" y="4759200"/>
            <a:chExt cx="1973520" cy="574560"/>
          </a:xfrm>
        </p:grpSpPr>
        <p:sp>
          <p:nvSpPr>
            <p:cNvPr id="70" name=""/>
            <p:cNvSpPr txBox="1"/>
            <p:nvPr/>
          </p:nvSpPr>
          <p:spPr>
            <a:xfrm>
              <a:off x="7189920" y="4863960"/>
              <a:ext cx="1351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Event Vie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6567480" y="4759200"/>
              <a:ext cx="47160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567480" y="1801800"/>
            <a:ext cx="2135520" cy="595440"/>
            <a:chOff x="6567480" y="1801800"/>
            <a:chExt cx="2135520" cy="595440"/>
          </a:xfrm>
        </p:grpSpPr>
        <p:sp>
          <p:nvSpPr>
            <p:cNvPr id="73" name=""/>
            <p:cNvSpPr txBox="1"/>
            <p:nvPr/>
          </p:nvSpPr>
          <p:spPr>
            <a:xfrm>
              <a:off x="7278840" y="1952640"/>
              <a:ext cx="1424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Us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6567480" y="1801800"/>
              <a:ext cx="6080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6567480" y="5829480"/>
            <a:ext cx="1992240" cy="536400"/>
            <a:chOff x="6567480" y="5829480"/>
            <a:chExt cx="1992240" cy="536400"/>
          </a:xfrm>
        </p:grpSpPr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6567480" y="5829480"/>
              <a:ext cx="539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 txBox="1"/>
            <p:nvPr/>
          </p:nvSpPr>
          <p:spPr>
            <a:xfrm>
              <a:off x="7219800" y="5911920"/>
              <a:ext cx="133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erf. Moni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567480" y="2863800"/>
            <a:ext cx="2514600" cy="641520"/>
            <a:chOff x="6567480" y="2863800"/>
            <a:chExt cx="2514600" cy="641520"/>
          </a:xfrm>
        </p:grpSpPr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6567480" y="2957400"/>
              <a:ext cx="6476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7440480" y="2863800"/>
              <a:ext cx="16416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Network Cont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a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09640" y="217656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rchitecture:  Highl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09640" y="1733400"/>
            <a:ext cx="752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hardware and media independence provided by NDIS 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allows offers network administrators freedom of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vider interface allows other NOS clients to integrate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 architecture leveraged by network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Hardwar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5252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etection of network hardware and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included for many popular network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verse media including ethernet, token ring, FDDI, ISD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based on the NDIS 3.0 specification, source portable to Windows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tocol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193032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77000" y="285264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6480" y="34592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13680" y="335268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09880" y="5526000"/>
            <a:ext cx="3772080" cy="457200"/>
            <a:chOff x="2909880" y="5526000"/>
            <a:chExt cx="3772080" cy="457200"/>
          </a:xfrm>
        </p:grpSpPr>
        <p:sp>
          <p:nvSpPr>
            <p:cNvPr id="92" name=""/>
            <p:cNvSpPr/>
            <p:nvPr/>
          </p:nvSpPr>
          <p:spPr>
            <a:xfrm>
              <a:off x="2909880" y="552600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354480" y="561024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11800" y="3549600"/>
            <a:ext cx="1359000" cy="1782720"/>
            <a:chOff x="5311800" y="3549600"/>
            <a:chExt cx="1359000" cy="1782720"/>
          </a:xfrm>
        </p:grpSpPr>
        <p:sp>
          <p:nvSpPr>
            <p:cNvPr id="95" name=""/>
            <p:cNvSpPr/>
            <p:nvPr/>
          </p:nvSpPr>
          <p:spPr>
            <a:xfrm>
              <a:off x="5311800" y="354960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443560" y="431640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4797360" y="285912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7760" y="285264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4440" y="348300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8480" y="543240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47080" y="526572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6240" y="27766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6960" y="295596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54120" y="1928880"/>
            <a:ext cx="2732040" cy="776160"/>
            <a:chOff x="2454120" y="1928880"/>
            <a:chExt cx="2732040" cy="776160"/>
          </a:xfrm>
        </p:grpSpPr>
        <p:sp>
          <p:nvSpPr>
            <p:cNvPr id="105" name=""/>
            <p:cNvSpPr/>
            <p:nvPr/>
          </p:nvSpPr>
          <p:spPr>
            <a:xfrm>
              <a:off x="2454120" y="192888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057480" y="205740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500800" y="203184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3160" y="392760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89480" y="424008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354960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2480" y="508788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480" y="354960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05280" y="377676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27560" y="392760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70480" y="423072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44760" y="285264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Transport Independ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1480" y="1733400"/>
            <a:ext cx="8140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can run over any network transport conforming to the TDI/NDI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ed and supported over the built-in NetBEUI, TCP/IP and IPX/SPX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etwork administrators to migrate Windows networking into existing infrastructures without changing their topology/routing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73200" y="1542960"/>
            <a:ext cx="7797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Protocols Suppo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2762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EUI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ast protocol for LAN-based file, print, and client-serve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X/SPX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llows NetWare-centric infrastructures to remain on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dely accepted internetworking protocol for enterprise networks and foreign host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eTalk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sed to provide file and print sharing to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Future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0280" y="2552760"/>
            <a:ext cx="75438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internetworking protocol for scalable Windows networ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ulti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1560" y="129528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rovider interface allows multiple network providers to integrate tightly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6200" y="4979880"/>
            <a:ext cx="1725480" cy="822240"/>
          </a:xfrm>
          <a:prstGeom prst="rect">
            <a:avLst/>
          </a:prstGeom>
          <a:gradFill rotWithShape="0">
            <a:gsLst>
              <a:gs pos="0">
                <a:srgbClr val="19327d"/>
              </a:gs>
              <a:gs pos="100000">
                <a:srgbClr val="3365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0240" y="4991040"/>
            <a:ext cx="1714680" cy="800280"/>
          </a:xfrm>
          <a:prstGeom prst="rect">
            <a:avLst/>
          </a:prstGeom>
          <a:gradFill rotWithShape="0">
            <a:gsLst>
              <a:gs pos="0">
                <a:srgbClr val="5f00aa"/>
              </a:gs>
              <a:gs pos="100000">
                <a:srgbClr val="8901f3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2840" y="4991040"/>
            <a:ext cx="1866960" cy="8002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5440" y="3981600"/>
            <a:ext cx="582948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59200" y="4146480"/>
            <a:ext cx="5243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5068f"/>
                </a:solidFill>
                <a:latin typeface="Times New Roman"/>
                <a:ea typeface="Times New Roman"/>
              </a:rPr>
              <a:t>Multiprovider Router (M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0880" y="4495680"/>
            <a:ext cx="1919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17800" y="3048120"/>
            <a:ext cx="234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975360" y="5129280"/>
            <a:ext cx="1235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9360" y="5129280"/>
            <a:ext cx="1919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34000" y="2895480"/>
            <a:ext cx="1943280" cy="685800"/>
          </a:xfrm>
          <a:prstGeom prst="rect">
            <a:avLst/>
          </a:prstGeom>
          <a:gradFill rotWithShape="0">
            <a:gsLst>
              <a:gs pos="0">
                <a:srgbClr val="005a51"/>
              </a:gs>
              <a:gs pos="100000">
                <a:srgbClr val="009688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g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ice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1480" y="1733400"/>
            <a:ext cx="8140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the UNIX inetd/daemon model, offering simpler management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llows system service behavior to be controlled remotely by the network adminis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run as “detached processes” under any account context without requiring an active logi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readily to network services - ftp server, file server, macintosh services, etc., all implemented as syste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2440" y="228600"/>
            <a:ext cx="8439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ing Windows NT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27240" y="1562040"/>
            <a:ext cx="6076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system services easily through a comm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6160" y="2752560"/>
            <a:ext cx="70531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213680" y="1662120"/>
            <a:ext cx="7048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09640" y="225252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4120" y="1835280"/>
            <a:ext cx="83757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oreign-system connectivity products will be developed by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dows NT Advanced Server will offer connectivity services for UNIX and Macintosh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for NetWare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s offers dialin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6440" y="1676520"/>
            <a:ext cx="83311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protocol support facilitates basic connectivity out-of-the-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ies supported include: ftp, tftp, telnet, r* commands, arp, route, f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ly-integrated, easy to manage FTP server service offered in Windows NT and 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developing support for other protocols including X Windows, SMTP, POP, Gopher, and N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6440" y="1809720"/>
            <a:ext cx="77914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support allows NetWare clients to participate with client-server applications (e.g., SQL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redirector under development by Novell (currently in beta) allows NT systems to access NetWare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(file, print, e-mail) can run natively over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intosh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760" y="1657440"/>
            <a:ext cx="82868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 (Advanced Server) offers concurrent file and print sharing with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es are considered equal citizens in Windows NT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printing integration allows Macs to print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er with a Windows NT printer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authentication module allows Macs to login using Windows N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09640" y="21384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228600"/>
            <a:ext cx="8496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 Services For Macinto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51160" y="2265480"/>
            <a:ext cx="1114560" cy="53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63800" y="4175280"/>
            <a:ext cx="8380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623960" y="241452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8800" y="3838680"/>
            <a:ext cx="715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77960" y="3276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1000" y="383868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30240" y="212076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010120" y="4162320"/>
            <a:ext cx="1238400" cy="90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73800" y="384804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62760" y="4253040"/>
            <a:ext cx="8953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91120" y="2647800"/>
            <a:ext cx="1114560" cy="5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73600" y="317016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48520" y="2425680"/>
            <a:ext cx="930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57480" y="5008680"/>
            <a:ext cx="13161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85960" y="2576520"/>
            <a:ext cx="58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43200" y="2806560"/>
            <a:ext cx="8064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alin 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1480" y="1638360"/>
            <a:ext cx="81406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 (RAS) allows MS-DOS, Windows and Windows NT systems to dialin from the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client is an extended node on the network over modem, ISDN and X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etwork resources available remotely, including full administration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architecture allows other dialin protocol support (e.g., PPP) to be added by third parties, or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9120" y="228600"/>
            <a:ext cx="8645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27440" y="4881600"/>
            <a:ext cx="990720" cy="1028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79760" y="5770440"/>
            <a:ext cx="9144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94440" y="5538960"/>
            <a:ext cx="9504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94440" y="4419720"/>
            <a:ext cx="1166760" cy="1104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6400" y="3565440"/>
            <a:ext cx="6007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03720" y="4684680"/>
            <a:ext cx="1735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76640" y="23320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66040" y="357336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539040" y="2085840"/>
            <a:ext cx="754200" cy="114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1680" y="2633760"/>
            <a:ext cx="838080" cy="743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015920" y="2281320"/>
            <a:ext cx="1905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46360" y="1874880"/>
            <a:ext cx="138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297560" y="1901880"/>
            <a:ext cx="83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632640" y="39196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557680" y="370188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77160" y="3233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86320" y="3220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2640" y="32353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09640" y="215748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62160" y="1835280"/>
            <a:ext cx="4819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3040" y="1428840"/>
            <a:ext cx="76582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-style sockets interface “enhanced” for Windows environment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over 30 cooperating vendors in the industry - both stack and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ility allows freedom of choice for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both 16- and 32-bit applications under 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interface can be used to develop TCP/IP, IPX/SPX, and AppleTalk applications unde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13640" y="228600"/>
            <a:ext cx="1103760" cy="976680"/>
            <a:chOff x="7613640" y="228600"/>
            <a:chExt cx="1103760" cy="9766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632720" y="24120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613640" y="95868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98000" y="22860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CE-Compliant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4670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 for distribut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compliance allows interoperability with othe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 framework, used by built-in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architecture independent of security model or network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IOS/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4288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and Named Pipes offer source portability of existing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 offer secure IPC mechanism for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include impersonation and async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as a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09640" y="228600"/>
            <a:ext cx="7524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Net (Win-ne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61960" y="1066680"/>
            <a:ext cx="80200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multipl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consistent APIs and common dialogs for network browsing and connection establ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the Windows 3.x WNet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9640" y="3790800"/>
            <a:ext cx="75247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D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1960" y="4844880"/>
            <a:ext cx="8559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 local DDE (dynamic data exchange) model for network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-leveraged in workgroup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ack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4560" y="1295280"/>
            <a:ext cx="69152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operating system, includes full network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Windows 3.x or OS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enhanced administration tools, and replicated user account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alin and Macintosh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1468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6760" y="1263600"/>
            <a:ext cx="86104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grates ver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facilities as a natural extension of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s Windows NT to participate in existing infra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chitecture allows ease integration of other network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ystem offers a solid framework f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oreign systems - third parties ar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and fault tolerance features makes Windows NT the ideal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55680" y="704880"/>
            <a:ext cx="4832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Plugged In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1760" y="1047600"/>
            <a:ext cx="834084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/MSDN services from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mailing list: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-request@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specification, source, etc. available from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rticle in July Microsoft System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onymous FTP test server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e-mail address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llard@microsoft.c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twork-related issues onl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le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2880" y="1771560"/>
            <a:ext cx="8058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upport is a natural extension of the base system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tools facilitate access to network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can be grouped in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ing for hierarchical browsing of network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nd administration model identical on both local and network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6880" y="1676520"/>
            <a:ext cx="8489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2-certifiable system extends the local security model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database replicated between advanced serv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ile system (NTFS) offers built i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emely flexible access control model allows control of access rights for multiple users and groups on the same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provides secure control of administration tools and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809720"/>
            <a:ext cx="83059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 a plug-and-play architecture allowing support for alternate protocols, networks, an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based on open standa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UI and API support through WNet and common dialo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9360" y="1733400"/>
            <a:ext cx="858528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integration of networking in the base system allows reliability features of Windows NT to apply to networking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ed user account database allows access and authentication should an advanced server go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5 and disk mirroring support provides reliable high-performance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file system offers high recov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UPS support allows network servers to remain online when power is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1800" y="1733400"/>
            <a:ext cx="84200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upport for industry standards allows NT to participate in heterogeneous network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IPX/SPX protocols built-in offering basis for UNIX and NetWare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liant RPC for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mendous third party support in this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, NF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