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73600" y="33480"/>
            <a:ext cx="34574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Lewin93101 Xhibition ‘93 (2nd talk) 6/93 </a:t>
            </a:r>
            <a:fld id="{1915939C-24CD-4AD8-A8D7-590B82135259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1249200"/>
            <a:ext cx="817236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Tuning Your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plication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 Lewin</a:t>
            </a:r>
            <a:br>
              <a:rPr sz="3300"/>
            </a:b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r</a:t>
            </a:r>
            <a:br>
              <a:rPr sz="3300"/>
            </a:b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362240" y="2227320"/>
            <a:ext cx="6419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protection dominates graphics performance issu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ching of calls on client-side for amortizing cost of client-server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ing of values on client side to avoid client-server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19120" y="228600"/>
            <a:ext cx="81057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222800" y="5492880"/>
            <a:ext cx="3886200" cy="569880"/>
          </a:xfrm>
          <a:prstGeom prst="rect">
            <a:avLst/>
          </a:prstGeom>
          <a:gradFill rotWithShape="0">
            <a:gsLst>
              <a:gs pos="0">
                <a:srgbClr val="c55167"/>
              </a:gs>
              <a:gs pos="50000">
                <a:srgbClr val="f76681"/>
              </a:gs>
              <a:gs pos="100000">
                <a:srgbClr val="c5516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22800" y="5492880"/>
            <a:ext cx="636480" cy="279360"/>
          </a:xfrm>
          <a:prstGeom prst="rect">
            <a:avLst/>
          </a:prstGeom>
          <a:gradFill rotWithShape="0">
            <a:gsLst>
              <a:gs pos="0">
                <a:srgbClr val="924cc7"/>
              </a:gs>
              <a:gs pos="100000">
                <a:srgbClr val="b760f9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17600" y="5492880"/>
            <a:ext cx="2905200" cy="569880"/>
          </a:xfrm>
          <a:prstGeom prst="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17600" y="4292640"/>
            <a:ext cx="6791400" cy="1200240"/>
          </a:xfrm>
          <a:prstGeom prst="rect">
            <a:avLst/>
          </a:prstGeom>
          <a:gradFill rotWithShape="0">
            <a:gsLst>
              <a:gs pos="0">
                <a:srgbClr val="b00067"/>
              </a:gs>
              <a:gs pos="50000">
                <a:srgbClr val="dc0081"/>
              </a:gs>
              <a:gs pos="100000">
                <a:srgbClr val="b0006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17600" y="6058080"/>
            <a:ext cx="679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317600" y="5492880"/>
            <a:ext cx="0" cy="565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8109000" y="5492880"/>
            <a:ext cx="0" cy="565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17600" y="5492880"/>
            <a:ext cx="6438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54600" y="5492880"/>
            <a:ext cx="0" cy="28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218120" y="5775480"/>
            <a:ext cx="636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18120" y="5775480"/>
            <a:ext cx="0" cy="28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149880" y="5646600"/>
            <a:ext cx="64944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33840" y="5140440"/>
            <a:ext cx="5375160" cy="352440"/>
          </a:xfrm>
          <a:prstGeom prst="rect">
            <a:avLst/>
          </a:prstGeom>
          <a:gradFill rotWithShape="0">
            <a:gsLst>
              <a:gs pos="0">
                <a:srgbClr val="c8ca00"/>
              </a:gs>
              <a:gs pos="50000">
                <a:srgbClr val="fafd00"/>
              </a:gs>
              <a:gs pos="100000">
                <a:srgbClr val="c8ca0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487760" y="5195880"/>
            <a:ext cx="227952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ive support routin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140600" y="4422600"/>
            <a:ext cx="839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537160" y="4422600"/>
            <a:ext cx="13478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proces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170240" y="4424400"/>
            <a:ext cx="11415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824200" y="4424400"/>
            <a:ext cx="11430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managemen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77160" y="4292640"/>
            <a:ext cx="0" cy="847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21240" y="4292640"/>
            <a:ext cx="0" cy="847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76640" y="4292640"/>
            <a:ext cx="0" cy="847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733840" y="4292640"/>
            <a:ext cx="0" cy="847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17600" y="4857840"/>
            <a:ext cx="920880" cy="635040"/>
          </a:xfrm>
          <a:prstGeom prst="rect">
            <a:avLst/>
          </a:prstGeom>
          <a:gradFill rotWithShape="0">
            <a:gsLst>
              <a:gs pos="0">
                <a:srgbClr val="60205f"/>
              </a:gs>
              <a:gs pos="50000">
                <a:srgbClr val="782977"/>
              </a:gs>
              <a:gs pos="100000">
                <a:srgbClr val="60205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27200" y="4352760"/>
            <a:ext cx="6555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  syste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57200" y="4927680"/>
            <a:ext cx="833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45120" y="3782880"/>
            <a:ext cx="8892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317600" y="3992400"/>
            <a:ext cx="6791400" cy="282600"/>
            <a:chOff x="1317600" y="3992400"/>
            <a:chExt cx="6791400" cy="282600"/>
          </a:xfrm>
        </p:grpSpPr>
        <p:sp>
          <p:nvSpPr>
            <p:cNvPr id="98" name=""/>
            <p:cNvSpPr/>
            <p:nvPr/>
          </p:nvSpPr>
          <p:spPr>
            <a:xfrm>
              <a:off x="1317600" y="3992400"/>
              <a:ext cx="6791400" cy="282600"/>
            </a:xfrm>
            <a:prstGeom prst="rect">
              <a:avLst/>
            </a:prstGeom>
            <a:gradFill rotWithShape="0">
              <a:gsLst>
                <a:gs pos="0">
                  <a:srgbClr val="924cc7"/>
                </a:gs>
                <a:gs pos="50000">
                  <a:srgbClr val="b760f9"/>
                </a:gs>
                <a:gs pos="100000">
                  <a:srgbClr val="924cc7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3905280" y="4010040"/>
              <a:ext cx="175572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ivileged boundary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"/>
          <p:cNvSpPr txBox="1"/>
          <p:nvPr/>
        </p:nvSpPr>
        <p:spPr>
          <a:xfrm>
            <a:off x="1654200" y="5624640"/>
            <a:ext cx="244800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graphical device driver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035000" y="1708200"/>
            <a:ext cx="6954840" cy="2230560"/>
            <a:chOff x="1035000" y="1708200"/>
            <a:chExt cx="6954840" cy="2230560"/>
          </a:xfrm>
        </p:grpSpPr>
        <p:sp>
          <p:nvSpPr>
            <p:cNvPr id="102" name=""/>
            <p:cNvSpPr/>
            <p:nvPr/>
          </p:nvSpPr>
          <p:spPr>
            <a:xfrm>
              <a:off x="3440160" y="2455920"/>
              <a:ext cx="2617920" cy="988920"/>
            </a:xfrm>
            <a:prstGeom prst="ellipse">
              <a:avLst/>
            </a:prstGeom>
            <a:gradFill rotWithShape="0">
              <a:gsLst>
                <a:gs pos="0">
                  <a:srgbClr val="cc9e57"/>
                </a:gs>
                <a:gs pos="100000">
                  <a:srgbClr val="ffc66d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4457880" y="2560680"/>
              <a:ext cx="60336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SRS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3537000" y="2843280"/>
              <a:ext cx="41904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User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4952880" y="2984400"/>
              <a:ext cx="39996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DI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6553080" y="2527200"/>
              <a:ext cx="1436760" cy="776160"/>
            </a:xfrm>
            <a:prstGeom prst="rect">
              <a:avLst/>
            </a:prstGeom>
            <a:gradFill rotWithShape="0">
              <a:gsLst>
                <a:gs pos="0">
                  <a:srgbClr val="4364b1"/>
                </a:gs>
                <a:gs pos="100000">
                  <a:srgbClr val="618ffd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raphical devic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0760" y="1708200"/>
              <a:ext cx="887400" cy="43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5376960" y="3054240"/>
              <a:ext cx="45576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DD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5916600" y="3021120"/>
              <a:ext cx="636480" cy="141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4103640" y="3125880"/>
              <a:ext cx="56520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RNL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13120" y="3444840"/>
              <a:ext cx="0" cy="493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3794040" y="2879640"/>
              <a:ext cx="567000" cy="424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784760" y="2951280"/>
              <a:ext cx="0" cy="493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784760" y="2809800"/>
              <a:ext cx="1203120" cy="141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81280" y="2738520"/>
              <a:ext cx="1203480" cy="212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5349960" y="3021120"/>
              <a:ext cx="637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49960" y="3021120"/>
              <a:ext cx="0" cy="352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035000" y="1820880"/>
              <a:ext cx="1839960" cy="2117880"/>
              <a:chOff x="1035000" y="1820880"/>
              <a:chExt cx="1839960" cy="2117880"/>
            </a:xfrm>
          </p:grpSpPr>
          <p:sp>
            <p:nvSpPr>
              <p:cNvPr id="119" name=""/>
              <p:cNvSpPr/>
              <p:nvPr/>
            </p:nvSpPr>
            <p:spPr>
              <a:xfrm>
                <a:off x="1035000" y="1820880"/>
                <a:ext cx="1414440" cy="1271520"/>
              </a:xfrm>
              <a:prstGeom prst="ellipse">
                <a:avLst/>
              </a:prstGeom>
              <a:gradFill rotWithShape="0">
                <a:gsLst>
                  <a:gs pos="0">
                    <a:srgbClr val="10a89a"/>
                  </a:gs>
                  <a:gs pos="100000">
                    <a:srgbClr val="14d3c1"/>
                  </a:gs>
                </a:gsLst>
                <a:lin ang="2700000"/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76480" y="1962000"/>
                <a:ext cx="1414440" cy="1270080"/>
              </a:xfrm>
              <a:prstGeom prst="ellipse">
                <a:avLst/>
              </a:prstGeom>
              <a:gradFill rotWithShape="0">
                <a:gsLst>
                  <a:gs pos="0">
                    <a:srgbClr val="10a89a"/>
                  </a:gs>
                  <a:gs pos="100000">
                    <a:srgbClr val="14d3c1"/>
                  </a:gs>
                </a:gsLst>
                <a:lin ang="2700000"/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317600" y="2103480"/>
                <a:ext cx="1415880" cy="1270080"/>
              </a:xfrm>
              <a:prstGeom prst="ellipse">
                <a:avLst/>
              </a:prstGeom>
              <a:gradFill rotWithShape="0">
                <a:gsLst>
                  <a:gs pos="0">
                    <a:srgbClr val="10a89a"/>
                  </a:gs>
                  <a:gs pos="100000">
                    <a:srgbClr val="14d3c1"/>
                  </a:gs>
                </a:gsLst>
                <a:lin ang="2700000"/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459080" y="2244600"/>
                <a:ext cx="1415880" cy="1270080"/>
              </a:xfrm>
              <a:prstGeom prst="ellipse">
                <a:avLst/>
              </a:prstGeom>
              <a:gradFill rotWithShape="0">
                <a:gsLst>
                  <a:gs pos="0">
                    <a:srgbClr val="10a89a"/>
                  </a:gs>
                  <a:gs pos="100000">
                    <a:srgbClr val="14d3c1"/>
                  </a:gs>
                </a:gsLst>
                <a:lin ang="2700000"/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1909800" y="2347920"/>
                <a:ext cx="45072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APP.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 txBox="1"/>
              <p:nvPr/>
            </p:nvSpPr>
            <p:spPr>
              <a:xfrm>
                <a:off x="2343240" y="2984400"/>
                <a:ext cx="41904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User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 txBox="1"/>
              <p:nvPr/>
            </p:nvSpPr>
            <p:spPr>
              <a:xfrm>
                <a:off x="1981080" y="3195720"/>
                <a:ext cx="39996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GDI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 txBox="1"/>
              <p:nvPr/>
            </p:nvSpPr>
            <p:spPr>
              <a:xfrm>
                <a:off x="1486080" y="2984400"/>
                <a:ext cx="56520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KRNL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166840" y="3514680"/>
                <a:ext cx="0" cy="424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1743120" y="3092400"/>
                <a:ext cx="352440" cy="281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095560" y="3092400"/>
                <a:ext cx="566640" cy="211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2238480" y="2951280"/>
                <a:ext cx="0" cy="183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238480" y="2951280"/>
                <a:ext cx="636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2025720" y="2951280"/>
                <a:ext cx="0" cy="210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1459080" y="2951280"/>
                <a:ext cx="566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30360" y="2668680"/>
                <a:ext cx="1273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 txBox="1"/>
              <p:nvPr/>
            </p:nvSpPr>
            <p:spPr>
              <a:xfrm>
                <a:off x="1698480" y="2706840"/>
                <a:ext cx="103824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Win 32</a:t>
                </a:r>
                <a:r>
                  <a:rPr b="1" lang="en-US" sz="13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™</a:t>
                </a: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API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"/>
          <p:cNvSpPr txBox="1"/>
          <p:nvPr/>
        </p:nvSpPr>
        <p:spPr>
          <a:xfrm>
            <a:off x="779400" y="228600"/>
            <a:ext cx="7585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503360" y="2085840"/>
            <a:ext cx="613728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put functions that return a Boolean can be batc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PIs GdiGetBatchLimit, GdiSetBatchLimit, GdiFlu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limit as high as possible while avoiding jerky dis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1720" y="228600"/>
            <a:ext cx="8080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57360" y="2263680"/>
            <a:ext cx="60292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user calls flush the b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 calls which return a handle or a number flush the b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 the following do not flush the b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ng fo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ng brus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ng p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28720" y="228600"/>
            <a:ext cx="74865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822320" y="2351160"/>
            <a:ext cx="549900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ng bitmaps and regions flush the b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WorldTransform, SetMapMode flush the b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78040" y="228600"/>
            <a:ext cx="7388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919160" y="2351160"/>
            <a:ext cx="5305320" cy="27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batching to one i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want to see error retu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want to profile API calls (covered later in slid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46000" y="228600"/>
            <a:ext cx="7451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946160" y="2244600"/>
            <a:ext cx="5251320" cy="34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he new poly...calls as much as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Poly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line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Dr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Bezier and PolyBezier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92000" y="228600"/>
            <a:ext cx="7559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90720" y="2244600"/>
            <a:ext cx="7162920" cy="30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 private functions to anticipate the following new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Text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BitB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for development now, then discard on release of Win3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08200" y="228600"/>
            <a:ext cx="75279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35120" y="228600"/>
            <a:ext cx="76741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9600" y="2351160"/>
            <a:ext cx="8524800" cy="3797280"/>
          </a:xfrm>
          <a:prstGeom prst="rect">
            <a:avLst/>
          </a:prstGeom>
          <a:gradFill rotWithShape="0">
            <a:gsLst>
              <a:gs pos="0">
                <a:srgbClr val="7b00e4"/>
              </a:gs>
              <a:gs pos="100000">
                <a:srgbClr val="490088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407960" y="2682720"/>
            <a:ext cx="73119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  WINAPI  PolyTextOu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DC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dc,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handle to the DC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TEXT         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lpto,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pointer to array of structur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IN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Strings,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number of the structur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ORD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ptions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option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585800" y="4657680"/>
            <a:ext cx="715968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s are ETO_OPAQUE, ETO_CLIPPED, and ETO_DELTAVECTO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in ExtTextout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TRUE on success, FALSE otherwis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57360" y="228600"/>
            <a:ext cx="7829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3200" y="2016000"/>
            <a:ext cx="8877240" cy="4273560"/>
          </a:xfrm>
          <a:prstGeom prst="rect">
            <a:avLst/>
          </a:prstGeom>
          <a:gradFill rotWithShape="0">
            <a:gsLst>
              <a:gs pos="0">
                <a:srgbClr val="7b00e4"/>
              </a:gs>
              <a:gs pos="100000">
                <a:srgbClr val="490088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05040" y="2151000"/>
            <a:ext cx="74073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def  struct  _POLYTEX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x logical co-ord to start outpu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y logical co-ord for outpu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...behavior controlled by SetTextAlign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...these do not use nor affect the curren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...posit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number of characters in str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TSTR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tstr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pointer to the str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cl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opaqing/clipping rectangle for the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string; ignored if doing neith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dx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widths in logical co-ords of each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string char; ignored if no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ETO_DELTAVECTO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319040" y="2494080"/>
            <a:ext cx="650556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aining high performance in Win32 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easurement tools for tuning applica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68240" y="22860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Tuning Your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pl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335320" y="2144880"/>
            <a:ext cx="4473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voi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following common seq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former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95160" y="228600"/>
            <a:ext cx="7753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839960" y="2316240"/>
            <a:ext cx="546408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ea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the foll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, create, creat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&amp; use, &amp; use, &amp; us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&amp; use, &amp; use, &amp; us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&amp; use, &amp; use, &amp; us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20640" y="228600"/>
            <a:ext cx="7902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90720" y="2044800"/>
            <a:ext cx="7162920" cy="34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each DC, attempt to use the same attributes in a row as much as possibl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y, black, gray, black, g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y, gray, gray, black, bl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avoids cache lookup for pens, fonts, colors, palettes, brus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68440" y="228600"/>
            <a:ext cx="8008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90720" y="2244600"/>
            <a:ext cx="716292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wnDC as much as you 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s need for GetDC and ReleaseD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CreateWindow, Get OwnDC, and proce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43040" y="228600"/>
            <a:ext cx="7658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509840" y="2065320"/>
            <a:ext cx="612468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s are no longer prec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need to use PeekMessage as freque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to UNICODE to avoid translation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93640" y="228600"/>
            <a:ext cx="7956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User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265400" y="2068560"/>
            <a:ext cx="6613560" cy="36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sure to align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ds on word boundaries and double words on doubleword bound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iler pragma for handling misaligned file or network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 handling for data alignment can destroy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2286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MIP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2840" y="2014560"/>
            <a:ext cx="671832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 you did all of the above, and performance is still an iss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 ya gonna ca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erformance Tool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778040" y="1785960"/>
            <a:ext cx="55879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rogram analysis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of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g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resource uti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555920" y="228600"/>
            <a:ext cx="60325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I Statist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58840" y="1857240"/>
            <a:ext cx="682632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over which Win32 calls use time and/or are frequently ca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time in each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calls to each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=&gt; Average time per API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, min., max. call time p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127160" y="228600"/>
            <a:ext cx="6889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I Prof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890880" y="2076480"/>
            <a:ext cx="885960" cy="51444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3414600" y="2678040"/>
            <a:ext cx="565200" cy="493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847960" y="3595680"/>
            <a:ext cx="54000" cy="353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34040" y="2678040"/>
            <a:ext cx="0" cy="493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34040" y="3736800"/>
            <a:ext cx="0" cy="282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7920" y="2678040"/>
            <a:ext cx="530280" cy="424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48480" y="3543480"/>
            <a:ext cx="212760" cy="406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282760" y="3949560"/>
            <a:ext cx="91908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537160" y="3949560"/>
            <a:ext cx="91908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873600" y="4019400"/>
            <a:ext cx="92088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46680" y="2502000"/>
            <a:ext cx="2193840" cy="635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503360" y="2430360"/>
            <a:ext cx="2317680" cy="51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36480" y="2960640"/>
            <a:ext cx="1292400" cy="54756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14440" y="3860640"/>
            <a:ext cx="91908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288200" y="3878280"/>
            <a:ext cx="134316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R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973080" y="3490920"/>
            <a:ext cx="195480" cy="352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58040" y="3595680"/>
            <a:ext cx="477720" cy="282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325600" y="3049560"/>
            <a:ext cx="1292400" cy="54612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749760" y="3171960"/>
            <a:ext cx="1292400" cy="54756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129280" y="2978280"/>
            <a:ext cx="1292400" cy="54756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27760" y="3049560"/>
            <a:ext cx="1290600" cy="54612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62040" y="1828800"/>
            <a:ext cx="6019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ules have chan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ensive Win16 items are cheap on Win32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address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cheap Win16 items are expensive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779400" y="228600"/>
            <a:ext cx="7585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Call Prof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805040" y="1685880"/>
            <a:ext cx="553392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 inter-module calls without recompi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mpile application for complete dynamic call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combine the above two methods in a single 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789120" y="228600"/>
            <a:ext cx="7566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Call Prof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733400" y="1576440"/>
            <a:ext cx="5676840" cy="32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s dynamic program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in each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in function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each callee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calls from each function to each call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838160" y="228600"/>
            <a:ext cx="5467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Call Prof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64120" y="1457280"/>
            <a:ext cx="84924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164120" y="1457280"/>
            <a:ext cx="8492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92360" y="4246560"/>
            <a:ext cx="84780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492360" y="4246560"/>
            <a:ext cx="84780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d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19520" y="2674800"/>
            <a:ext cx="84924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819520" y="2674800"/>
            <a:ext cx="8492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b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82680" y="4229280"/>
            <a:ext cx="84924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182680" y="4228920"/>
            <a:ext cx="8492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95840" y="2711520"/>
            <a:ext cx="849240" cy="6872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595840" y="2711520"/>
            <a:ext cx="84924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03840" y="4229280"/>
            <a:ext cx="84924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603840" y="4228920"/>
            <a:ext cx="8492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f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492360" y="2057400"/>
            <a:ext cx="777960" cy="7063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660760" y="3328920"/>
            <a:ext cx="336600" cy="917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68520" y="3346560"/>
            <a:ext cx="441360" cy="900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71880" y="2092320"/>
            <a:ext cx="884520" cy="7063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03960" y="3328920"/>
            <a:ext cx="584280" cy="93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295880" y="435276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395360" y="4352760"/>
            <a:ext cx="8319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478640" y="4405320"/>
            <a:ext cx="10461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435720" y="281628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22560" y="1579680"/>
            <a:ext cx="9921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755880" y="249876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25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38760" y="345132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6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597120" y="348768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3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241960" y="193356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3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287440" y="350532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9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838760" y="125568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280120" y="328608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253200" y="484020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627280" y="242100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627280" y="485784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151160" y="487512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131920" y="2646360"/>
            <a:ext cx="7300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5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407960" y="228600"/>
            <a:ext cx="6327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911240" y="1517760"/>
            <a:ext cx="5321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 of running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 prior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 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processor 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vs. privileged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memory consum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249120" y="228600"/>
            <a:ext cx="8647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Debugger Performance Comman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90720" y="2209680"/>
            <a:ext cx="71629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t &lt;addr&gt; command for tracing calls and returns and the number of instructions between 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kernel debugger:  wt, and also !time &lt;addr&gt; for timing sections of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1440000" y="228600"/>
            <a:ext cx="6264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90720" y="1976400"/>
            <a:ext cx="7162920" cy="28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resource uti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tleneck detection and capacity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 graphing, alerts, logging, and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monitoring of multipl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562040" y="228600"/>
            <a:ext cx="6019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353960" y="1857240"/>
            <a:ext cx="6435720" cy="37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nters maintained by system are polled at user selectable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vailable through a registry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, memory, disk, cache, 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,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2 counters so f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795240" y="228600"/>
            <a:ext cx="7553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068560" y="2104920"/>
            <a:ext cx="1909800" cy="1901880"/>
          </a:xfrm>
          <a:prstGeom prst="roundRect">
            <a:avLst/>
          </a:prstGeom>
          <a:gradFill rotWithShape="0">
            <a:gsLst>
              <a:gs pos="0">
                <a:srgbClr val="cc9e57"/>
              </a:gs>
              <a:gs pos="50000">
                <a:srgbClr val="ffc66d"/>
              </a:gs>
              <a:gs pos="100000">
                <a:srgbClr val="cc9e5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84840" y="2811600"/>
            <a:ext cx="1909800" cy="1200240"/>
          </a:xfrm>
          <a:prstGeom prst="round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201760" y="2171520"/>
            <a:ext cx="16398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25960" y="2952720"/>
            <a:ext cx="1909800" cy="1200240"/>
          </a:xfrm>
          <a:prstGeom prst="round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67440" y="3094200"/>
            <a:ext cx="1909800" cy="1200240"/>
          </a:xfrm>
          <a:prstGeom prst="round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281560" y="3178080"/>
            <a:ext cx="17035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sur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363760" y="2865600"/>
            <a:ext cx="13082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005360" y="2881440"/>
            <a:ext cx="849240" cy="282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4005360" y="3164040"/>
            <a:ext cx="990360" cy="353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4005360" y="3446640"/>
            <a:ext cx="1133280" cy="423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812880" y="228600"/>
            <a:ext cx="75182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92120" y="2475000"/>
            <a:ext cx="2038320" cy="1670040"/>
          </a:xfrm>
          <a:prstGeom prst="roundRect">
            <a:avLst/>
          </a:prstGeom>
          <a:gradFill rotWithShape="0">
            <a:gsLst>
              <a:gs pos="0">
                <a:srgbClr val="cc9e57"/>
              </a:gs>
              <a:gs pos="50000">
                <a:srgbClr val="ffc66d"/>
              </a:gs>
              <a:gs pos="100000">
                <a:srgbClr val="cc9e5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590840" y="2550960"/>
            <a:ext cx="16398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187880" y="2449440"/>
            <a:ext cx="3687840" cy="2952720"/>
          </a:xfrm>
          <a:prstGeom prst="round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319640" y="2546280"/>
            <a:ext cx="340992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under measur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89240" y="3282840"/>
            <a:ext cx="202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521000" y="3363840"/>
            <a:ext cx="178128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187880" y="3057480"/>
            <a:ext cx="2033640" cy="723960"/>
          </a:xfrm>
          <a:prstGeom prst="rect">
            <a:avLst/>
          </a:prstGeom>
          <a:gradFill rotWithShape="0">
            <a:gsLst>
              <a:gs pos="0">
                <a:srgbClr val="8901f3"/>
              </a:gs>
              <a:gs pos="100000">
                <a:srgbClr val="5f00aa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227480" y="3054240"/>
            <a:ext cx="139716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187880" y="4587840"/>
            <a:ext cx="1033560" cy="528480"/>
          </a:xfrm>
          <a:prstGeom prst="rect">
            <a:avLst/>
          </a:prstGeom>
          <a:gradFill rotWithShape="0">
            <a:gsLst>
              <a:gs pos="0">
                <a:srgbClr val="60205f"/>
              </a:gs>
              <a:gs pos="50000">
                <a:srgbClr val="782977"/>
              </a:gs>
              <a:gs pos="100000">
                <a:srgbClr val="60205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332240" y="4578480"/>
            <a:ext cx="74772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k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527800" y="4594320"/>
            <a:ext cx="1285920" cy="517680"/>
          </a:xfrm>
          <a:prstGeom prst="rect">
            <a:avLst/>
          </a:prstGeom>
          <a:gradFill rotWithShape="0">
            <a:gsLst>
              <a:gs pos="0">
                <a:srgbClr val="60205f"/>
              </a:gs>
              <a:gs pos="50000">
                <a:srgbClr val="782977"/>
              </a:gs>
              <a:gs pos="100000">
                <a:srgbClr val="60205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813280" y="4705200"/>
            <a:ext cx="723960" cy="2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375240" y="3786120"/>
            <a:ext cx="690480" cy="676440"/>
          </a:xfrm>
          <a:prstGeom prst="rect">
            <a:avLst/>
          </a:prstGeom>
          <a:gradFill rotWithShape="0">
            <a:gsLst>
              <a:gs pos="0">
                <a:srgbClr val="60205f"/>
              </a:gs>
              <a:gs pos="50000">
                <a:srgbClr val="782977"/>
              </a:gs>
              <a:gs pos="100000">
                <a:srgbClr val="60205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453360" y="3976560"/>
            <a:ext cx="544680" cy="2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298600" y="4626000"/>
            <a:ext cx="144792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6181560" y="3781440"/>
            <a:ext cx="185760" cy="326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5491080" y="3852720"/>
            <a:ext cx="527040" cy="723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740120" y="3781440"/>
            <a:ext cx="398520" cy="795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722760" y="3005280"/>
            <a:ext cx="212760" cy="10587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935520" y="3429000"/>
            <a:ext cx="2826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440160" y="3429000"/>
            <a:ext cx="2826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722760" y="3146400"/>
            <a:ext cx="212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22760" y="3359160"/>
            <a:ext cx="212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22760" y="3498840"/>
            <a:ext cx="212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722760" y="3781440"/>
            <a:ext cx="212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3368520" y="4064040"/>
            <a:ext cx="425520" cy="565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4819680" y="3076560"/>
            <a:ext cx="1060560" cy="704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376960" y="3270240"/>
            <a:ext cx="73656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lib/.dl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833400" y="228600"/>
            <a:ext cx="7478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920880" y="1892160"/>
            <a:ext cx="730260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counters from multiple systems graphed simultaneous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graph, and histogram (for many items, for example, threa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 value, avg., max., min. of selected i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990800" y="2144880"/>
            <a:ext cx="516240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 virtual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ard old custom virtual memory schem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emory-mapping for read-only file acc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41440" y="228600"/>
            <a:ext cx="80614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608040" y="228600"/>
            <a:ext cx="7929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371600" y="1857240"/>
            <a:ext cx="640080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alerts from multiple systems monitored simultaneous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 for counter over/under value across polling inter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s can popup, beep, system event log, or network al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603360" y="228600"/>
            <a:ext cx="7939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486080" y="1857240"/>
            <a:ext cx="61722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 counters from multiple systems simultaneously to one log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ed log file back into Performance Monitor for graphing, alerting, reporting, or filtered log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 logged data for spreadsheet or data base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565200" y="228600"/>
            <a:ext cx="80136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igh-Performance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512720" y="1857240"/>
            <a:ext cx="6118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address space, threads, and file mapp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ing and batching influence choice and order of graphics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nput model  reduces PeekMessage ca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428840" y="228600"/>
            <a:ext cx="62866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90720" y="1790640"/>
            <a:ext cx="7162920" cy="36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rogram analysis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of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resource uti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53960" y="2158920"/>
            <a:ext cx="64357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rve large data address spaces, but only commit what you n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named shared segments (faster than files or named pipe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95160" y="228600"/>
            <a:ext cx="7753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212840" y="2254320"/>
            <a:ext cx="671832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equential I/O, use 4K blocks and parse them your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hreads to utilize multiple processors and enhance concurr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09640" y="228600"/>
            <a:ext cx="7524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92280" y="1900080"/>
            <a:ext cx="595944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files open as opposed to repeated open/use/clo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d in pass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bal and local allocation are the same (except  DDESHA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-critical priority for data communication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-locking API is provided for time-critical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0160" y="228600"/>
            <a:ext cx="7483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17600" y="1849320"/>
            <a:ext cx="470844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new data type MULTI_SZ in configuration reg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22160" y="228600"/>
            <a:ext cx="7699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93760" y="3622680"/>
            <a:ext cx="6756480" cy="1343160"/>
          </a:xfrm>
          <a:prstGeom prst="rect">
            <a:avLst/>
          </a:prstGeom>
          <a:gradFill rotWithShape="0">
            <a:gsLst>
              <a:gs pos="0">
                <a:srgbClr val="7b00e4"/>
              </a:gs>
              <a:gs pos="100000">
                <a:srgbClr val="490088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992240" y="3686040"/>
            <a:ext cx="14130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\AppValu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240" y="4075200"/>
            <a:ext cx="530712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Properties = “Black border” “Red Pointer” “Inverted”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05240" y="4411800"/>
            <a:ext cx="4265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Timing = “Slow Blinking” “Rapid Update”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2209680"/>
            <a:ext cx="716292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the application using UNICODE to avoid translation lay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d in pa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iskcache tuning required:  Pageable memory not in use by apps. is used for a single disk cache by all fil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73160" y="228600"/>
            <a:ext cx="7740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