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F46AC9-5E6B-4475-878B-59A39B4E7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 also defining embedded SQL.  This is an alternative programming method.  Makes more sense for apps talking to multiple D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is based on SQL, but in no way means that only talks to SQL or relational dbms.  Just a good choice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ata is remote, need comm /networking (asynch, 3270, named pipes, net bios)....ODBC spec designe d to work with vendor-supplied communic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s for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DBC get implemented in Applications?  Again, let's go back to the printer ana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YF vision means ability to browse, manipulate all data from you PC. It's the main "window" to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a get to it.  Many different kinds of data, different formats, from SQL to file-based, to hierarchical to home-br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ta, server-based, mini, or mainfra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ifferent OS's, communication/net to get there......it's a complicated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application developers, corporate developers (lots of proprietary data), and people who need to install, support, and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% of S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urnout given that design review las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what support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pplications that make ODBC calls to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, inst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at Microsoft is developing a few drivers ourselves to bootstrap the driver effort, but expect lots of third-party work (reference lessons of early Win/OS/2 printer driv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an ope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other environm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Macinto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  talk to dBase, SQL Server, Oracle, Paradox, but not alot of support for others.  Far from getting at all data within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PI's and APP api's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pp vendor, each database is a new, uniqu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beginning of a standard, but are differences  in 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db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SQL doesn't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existing solutions: DAL, EDA, Datalens, SQL-Link.  All do about same thing,  but suffer from one or mor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t open (not a system SW mind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n't generated critical mass (resources, commitment, strate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 ultimately a sys sw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00600" y="33480"/>
            <a:ext cx="3481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 ‘93 (2rd talk) 6/93 </a:t>
            </a:r>
            <a:fld id="{0BF47C3E-5459-4D78-A2EB-EDFE6BFB40F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74680"/>
            <a:ext cx="817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7800" y="228600"/>
            <a:ext cx="85294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 (ODBC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040" y="194328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for connecting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SQL Access Group (SAG) C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industr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API in a future version of Wind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8680" y="1293840"/>
            <a:ext cx="202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35080" y="228600"/>
            <a:ext cx="5073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Provide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22480" y="1436760"/>
            <a:ext cx="6821640" cy="4886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62400" y="3532320"/>
            <a:ext cx="2257560" cy="8794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84360" y="2824200"/>
            <a:ext cx="25970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27800" y="2631960"/>
            <a:ext cx="1419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3360" y="2438280"/>
            <a:ext cx="8287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0040" y="1366920"/>
            <a:ext cx="12096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27800" y="1409760"/>
            <a:ext cx="18399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84480" y="1389240"/>
            <a:ext cx="1133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90680" y="5481720"/>
            <a:ext cx="11714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70040" y="6167520"/>
            <a:ext cx="1285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0280" y="5289480"/>
            <a:ext cx="1514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27680" y="6167520"/>
            <a:ext cx="17049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920" y="5524560"/>
            <a:ext cx="1504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55800" y="228600"/>
            <a:ext cx="72327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A Standard AP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9242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databas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calability fo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ens application support for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development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I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0960" y="22860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Technical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8400" y="1333440"/>
            <a:ext cx="66675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Level Interface (C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QL and non-SQ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 spec plus enhancemen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38280" y="228600"/>
            <a:ext cx="606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2240" y="1589040"/>
            <a:ext cx="3254400" cy="8110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2880" y="3386160"/>
            <a:ext cx="3262320" cy="8809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2240" y="2486160"/>
            <a:ext cx="3244680" cy="81432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3160" y="2443320"/>
            <a:ext cx="4538880" cy="7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3341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75240" y="2214720"/>
            <a:ext cx="19335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53000" y="303372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98480" y="4348080"/>
            <a:ext cx="3257640" cy="817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8480" y="43052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4960" y="4011480"/>
            <a:ext cx="3036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6400" y="5819760"/>
            <a:ext cx="19461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00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7240" y="228600"/>
            <a:ext cx="903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2240" y="1389240"/>
            <a:ext cx="3297240" cy="83340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2880" y="3108240"/>
            <a:ext cx="3305160" cy="7524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2240" y="2293920"/>
            <a:ext cx="3287880" cy="75708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03160" y="2251080"/>
            <a:ext cx="453888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308448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18080" y="2021040"/>
            <a:ext cx="20257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32480" y="279720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2880" y="3875040"/>
            <a:ext cx="3305160" cy="7016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3400" y="4656240"/>
            <a:ext cx="3286080" cy="701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1320" y="38988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3400" y="4608360"/>
            <a:ext cx="456732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551560" y="4264200"/>
            <a:ext cx="219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70640" y="3540240"/>
            <a:ext cx="1830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86400" y="5911920"/>
            <a:ext cx="246708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18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4320" y="228600"/>
            <a:ext cx="7515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 Tier Driver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09520" y="1143000"/>
            <a:ext cx="8724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file access (dBASE,    Paradox) "Engine in a Driver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nd thre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database servers, intelligent backends, gateways (Oracle, SQL Server, DEC Rdb, Ingres, Teradat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Passthru" logic (where appli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7600" y="700200"/>
            <a:ext cx="6462720" cy="4832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17800" y="4191120"/>
            <a:ext cx="15382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5160" y="2608200"/>
            <a:ext cx="987480" cy="1382760"/>
          </a:xfrm>
          <a:prstGeom prst="rect">
            <a:avLst/>
          </a:prstGeom>
          <a:gradFill rotWithShape="0">
            <a:gsLst>
              <a:gs pos="0">
                <a:srgbClr val="36001f"/>
              </a:gs>
              <a:gs pos="100000">
                <a:srgbClr val="b500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36960" y="1508040"/>
            <a:ext cx="2952720" cy="487440"/>
          </a:xfrm>
          <a:prstGeom prst="rect">
            <a:avLst/>
          </a:prstGeom>
          <a:gradFill rotWithShape="0">
            <a:gsLst>
              <a:gs pos="0">
                <a:srgbClr val="063f39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00040" y="454644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860480" y="5494320"/>
            <a:ext cx="1371600" cy="65736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AX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10080" y="2608200"/>
            <a:ext cx="1003320" cy="1382760"/>
          </a:xfrm>
          <a:prstGeom prst="rect">
            <a:avLst/>
          </a:prstGeom>
          <a:gradFill rotWithShape="0">
            <a:gsLst>
              <a:gs pos="0">
                <a:srgbClr val="00201d"/>
              </a:gs>
              <a:gs pos="100000">
                <a:srgbClr val="006b6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34080" y="487692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562720" y="5613480"/>
            <a:ext cx="1943280" cy="34920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6320" y="2025720"/>
            <a:ext cx="2954160" cy="625320"/>
          </a:xfrm>
          <a:prstGeom prst="rect">
            <a:avLst/>
          </a:prstGeom>
          <a:gradFill rotWithShape="0">
            <a:gsLst>
              <a:gs pos="0">
                <a:srgbClr val="0034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43160" y="14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5276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4520" y="228600"/>
            <a:ext cx="7915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 Architectur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71560" y="1947960"/>
            <a:ext cx="3247920" cy="1481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732200"/>
            <a:ext cx="3233880" cy="987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river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60400" y="5695920"/>
            <a:ext cx="3254400" cy="7840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88840" y="3443400"/>
            <a:ext cx="3214800" cy="1282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.k.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3457440"/>
            <a:ext cx="44816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00" y="4694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040" y="3241800"/>
            <a:ext cx="312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lient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546880" y="4402080"/>
            <a:ext cx="200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27440" y="2073240"/>
            <a:ext cx="4168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- calls ODBC fns - to submit SQL stmts/retrieve resul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76760" y="4959360"/>
            <a:ext cx="4170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ODBC fn calls, submits SQL requests to a specific database &amp; returns results to an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13320" y="3716280"/>
            <a:ext cx="4168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the ODBC Driver for ap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2120" y="5122800"/>
            <a:ext cx="4507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62040" y="11793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08000" y="1876320"/>
            <a:ext cx="3565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76200" y="228600"/>
            <a:ext cx="659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23760" y="228600"/>
            <a:ext cx="7296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At Your Fingert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4243320"/>
            <a:ext cx="1992240" cy="10717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40" y="3152880"/>
            <a:ext cx="190332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9080" y="1076400"/>
            <a:ext cx="18478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00640" y="990720"/>
            <a:ext cx="134316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4160" y="2533680"/>
            <a:ext cx="17524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3765600"/>
            <a:ext cx="866880" cy="153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6320" y="3898800"/>
            <a:ext cx="3668760" cy="215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95640" y="5627520"/>
            <a:ext cx="256716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3314880" y="3479760"/>
            <a:ext cx="83628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6840" y="3457440"/>
            <a:ext cx="33516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43320" y="2808360"/>
            <a:ext cx="1228680" cy="69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14880" y="3429000"/>
            <a:ext cx="671400" cy="63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857840" y="3414600"/>
            <a:ext cx="42840" cy="17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57840" y="281448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86360" y="4243320"/>
            <a:ext cx="10429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5080" y="4243320"/>
            <a:ext cx="2142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15080" y="4143240"/>
            <a:ext cx="127152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24560" y="1494000"/>
            <a:ext cx="861840" cy="15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89840" y="3117960"/>
            <a:ext cx="147636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293840" y="1503360"/>
            <a:ext cx="1192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670040" y="120168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7024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5236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71720" y="1898640"/>
            <a:ext cx="354636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7012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9536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38400" y="228600"/>
            <a:ext cx="666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8920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59100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14680" y="2562120"/>
            <a:ext cx="1108080" cy="133344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8944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3989520" y="4191120"/>
            <a:ext cx="1199880" cy="12380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75280" y="3546360"/>
            <a:ext cx="1657440" cy="106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00320" y="228600"/>
            <a:ext cx="654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7520" y="12081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17720" y="523872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035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5910120"/>
            <a:ext cx="194796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403440" y="526716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4046400" y="5272200"/>
            <a:ext cx="1271880" cy="2142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5480" y="1892160"/>
            <a:ext cx="3700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2760" y="3924360"/>
            <a:ext cx="75960" cy="1361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3640" y="3924360"/>
            <a:ext cx="180720" cy="132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99120" y="5286240"/>
            <a:ext cx="90360" cy="20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89400" y="5124600"/>
            <a:ext cx="1343160" cy="399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280200" y="4691160"/>
            <a:ext cx="833400" cy="158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6823080" y="463248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289560" y="2798640"/>
            <a:ext cx="838080" cy="1581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894360" y="2981160"/>
            <a:ext cx="1695600" cy="665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5280" y="4222800"/>
            <a:ext cx="95040" cy="387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22800" y="6024600"/>
            <a:ext cx="2438280" cy="64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4644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89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88960" y="39434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36600" y="228600"/>
            <a:ext cx="6670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onnectivit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0040" y="917640"/>
            <a:ext cx="6370560" cy="5121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46200" y="1476360"/>
            <a:ext cx="448776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25360" y="228600"/>
            <a:ext cx="6892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0040" y="895320"/>
            <a:ext cx="6370560" cy="512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38480" y="1476360"/>
            <a:ext cx="112392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303800" y="1481040"/>
            <a:ext cx="128124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73560" y="1476360"/>
            <a:ext cx="92880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59480" y="1476360"/>
            <a:ext cx="141588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32280" y="228600"/>
            <a:ext cx="3079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276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review held November '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Spec available now (in 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release SDK shipped March ‘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SDK shipped September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Conference March 9-10,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ckaged product Windows in '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85840" y="228600"/>
            <a:ext cx="6773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Microsoft Commitm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14520" y="203832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Btr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d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Fox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d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X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dri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Text (ASCII delim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5680" y="22860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ted ODBC Suppor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680" y="1162080"/>
            <a:ext cx="80010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Andy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 H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incom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man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DE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Ea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field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Fulcrum Technolog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Gup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wlett-Pack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ation Build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Q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Lo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db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Decision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ri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ust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ov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Or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Ahea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ione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ower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ai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et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eime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oftware 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b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Tand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Uni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Vertisoft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W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527200" y="228600"/>
            <a:ext cx="408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ODB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76320" y="1733400"/>
            <a:ext cx="5391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technic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reviewed by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by X/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P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9280" y="228600"/>
            <a:ext cx="8247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Resour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4080" y="488628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48400" y="179064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234324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97160" y="414504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78680" y="36766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635800" y="5600520"/>
            <a:ext cx="15429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257960" y="44146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86640" y="4711680"/>
            <a:ext cx="11955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1200" y="5724360"/>
            <a:ext cx="113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3156120"/>
            <a:ext cx="1017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022720"/>
            <a:ext cx="124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476440" y="3290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1360" y="265752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5040" y="298116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920" y="33004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35290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120" y="37576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97480" y="2595600"/>
            <a:ext cx="961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1320" y="3486240"/>
            <a:ext cx="1143360" cy="1200600"/>
          </a:xfrm>
          <a:custGeom>
            <a:avLst/>
            <a:gdLst/>
            <a:ahLst/>
            <a:rect l="0" t="0" r="r" b="b"/>
            <a:pathLst>
              <a:path w="3176" h="3335">
                <a:moveTo>
                  <a:pt x="0" y="841"/>
                </a:moveTo>
                <a:lnTo>
                  <a:pt x="1012" y="841"/>
                </a:lnTo>
                <a:lnTo>
                  <a:pt x="1342" y="549"/>
                </a:lnTo>
                <a:lnTo>
                  <a:pt x="1150" y="357"/>
                </a:lnTo>
                <a:lnTo>
                  <a:pt x="2461" y="0"/>
                </a:lnTo>
                <a:lnTo>
                  <a:pt x="1826" y="1032"/>
                </a:lnTo>
                <a:lnTo>
                  <a:pt x="1634" y="841"/>
                </a:lnTo>
                <a:lnTo>
                  <a:pt x="1342" y="1079"/>
                </a:lnTo>
                <a:lnTo>
                  <a:pt x="1342" y="1462"/>
                </a:lnTo>
                <a:lnTo>
                  <a:pt x="1826" y="1462"/>
                </a:lnTo>
                <a:lnTo>
                  <a:pt x="1826" y="1171"/>
                </a:lnTo>
                <a:lnTo>
                  <a:pt x="3176" y="1734"/>
                </a:lnTo>
                <a:lnTo>
                  <a:pt x="1826" y="2137"/>
                </a:lnTo>
                <a:lnTo>
                  <a:pt x="1826" y="1846"/>
                </a:lnTo>
                <a:lnTo>
                  <a:pt x="1342" y="1846"/>
                </a:lnTo>
                <a:lnTo>
                  <a:pt x="1342" y="2183"/>
                </a:lnTo>
                <a:lnTo>
                  <a:pt x="1634" y="2468"/>
                </a:lnTo>
                <a:lnTo>
                  <a:pt x="1826" y="2276"/>
                </a:lnTo>
                <a:lnTo>
                  <a:pt x="2342" y="3335"/>
                </a:lnTo>
                <a:lnTo>
                  <a:pt x="1111" y="2899"/>
                </a:lnTo>
                <a:lnTo>
                  <a:pt x="1342" y="2713"/>
                </a:lnTo>
                <a:lnTo>
                  <a:pt x="1012" y="2375"/>
                </a:lnTo>
                <a:lnTo>
                  <a:pt x="0" y="2375"/>
                </a:lnTo>
                <a:lnTo>
                  <a:pt x="0" y="841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3776760"/>
            <a:ext cx="754560" cy="536760"/>
          </a:xfrm>
          <a:custGeom>
            <a:avLst/>
            <a:gdLst/>
            <a:ahLst/>
            <a:rect l="0" t="0" r="r" b="b"/>
            <a:pathLst>
              <a:path w="2096" h="1491">
                <a:moveTo>
                  <a:pt x="1332" y="351"/>
                </a:moveTo>
                <a:lnTo>
                  <a:pt x="0" y="351"/>
                </a:lnTo>
                <a:lnTo>
                  <a:pt x="0" y="1140"/>
                </a:lnTo>
                <a:lnTo>
                  <a:pt x="1367" y="1140"/>
                </a:lnTo>
                <a:lnTo>
                  <a:pt x="1367" y="1491"/>
                </a:lnTo>
                <a:lnTo>
                  <a:pt x="2096" y="760"/>
                </a:lnTo>
                <a:lnTo>
                  <a:pt x="1332" y="0"/>
                </a:lnTo>
                <a:lnTo>
                  <a:pt x="1332" y="35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50840" y="228600"/>
            <a:ext cx="704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vity Toda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6240" y="1790640"/>
            <a:ext cx="739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ity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re not widely 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development i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8520" y="228600"/>
            <a:ext cx="83487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For An Open Services Archite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4680" y="496584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56160" y="279072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19760" y="334332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90600" y="42451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15280" y="45910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508720" y="5637240"/>
            <a:ext cx="154296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37360" y="3433680"/>
            <a:ext cx="6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80360" y="552276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655040" y="5626080"/>
            <a:ext cx="13874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86480" y="5888160"/>
            <a:ext cx="13050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8086680" y="2212920"/>
            <a:ext cx="5652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548480" y="3257640"/>
            <a:ext cx="156528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105760" y="3505320"/>
            <a:ext cx="7063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905280"/>
            <a:ext cx="646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51760" y="2833560"/>
            <a:ext cx="6303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4120" y="5119560"/>
            <a:ext cx="566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29440" y="3768840"/>
            <a:ext cx="1017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4757760"/>
            <a:ext cx="124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70240" y="339084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357200" y="1246320"/>
            <a:ext cx="6431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need standard API to access services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t systems have to work in a heterogeneous world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0" y="275760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8480" y="308124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34005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36291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60" y="38577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3990960"/>
            <a:ext cx="957600" cy="462240"/>
          </a:xfrm>
          <a:custGeom>
            <a:avLst/>
            <a:gdLst/>
            <a:ahLst/>
            <a:rect l="0" t="0" r="r" b="b"/>
            <a:pathLst>
              <a:path w="2660" h="1284">
                <a:moveTo>
                  <a:pt x="1688" y="302"/>
                </a:moveTo>
                <a:lnTo>
                  <a:pt x="0" y="302"/>
                </a:lnTo>
                <a:lnTo>
                  <a:pt x="0" y="982"/>
                </a:lnTo>
                <a:lnTo>
                  <a:pt x="1739" y="982"/>
                </a:lnTo>
                <a:lnTo>
                  <a:pt x="1739" y="1284"/>
                </a:lnTo>
                <a:lnTo>
                  <a:pt x="2660" y="655"/>
                </a:lnTo>
                <a:lnTo>
                  <a:pt x="1688" y="0"/>
                </a:lnTo>
                <a:lnTo>
                  <a:pt x="1688" y="302"/>
                </a:lnTo>
                <a:close/>
              </a:path>
            </a:pathLst>
          </a:custGeom>
          <a:solidFill>
            <a:srgbClr val="ffbb5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7560" y="228600"/>
            <a:ext cx="7510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ervices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42000" y="375588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85880" y="4908600"/>
            <a:ext cx="1442880" cy="6588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2789280"/>
            <a:ext cx="6386400" cy="90648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85880" y="1008000"/>
            <a:ext cx="172260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94240" y="1000080"/>
            <a:ext cx="177804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47760" y="4680000"/>
            <a:ext cx="1566720" cy="7444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0440" y="4900680"/>
            <a:ext cx="1463760" cy="603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41840" y="4672080"/>
            <a:ext cx="1463760" cy="717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0" y="4965840"/>
            <a:ext cx="1608120" cy="571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6033960"/>
            <a:ext cx="851364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27720" y="5541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0960" y="1914480"/>
            <a:ext cx="0" cy="91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56080" y="3784680"/>
            <a:ext cx="0" cy="911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188604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94320" y="188424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48040" y="377208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41400" y="2184480"/>
            <a:ext cx="73342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3814920"/>
            <a:ext cx="7257960" cy="426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76760" y="1012680"/>
            <a:ext cx="1736640" cy="843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54400" y="2959200"/>
            <a:ext cx="4567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/MS-DOS and Windows 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62320" y="580068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905440" y="4657680"/>
            <a:ext cx="1574640" cy="7174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98680" y="5570640"/>
            <a:ext cx="180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4840" y="5484960"/>
            <a:ext cx="0" cy="55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48480" y="5800680"/>
            <a:ext cx="1395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1840" y="577224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28800" y="5935680"/>
            <a:ext cx="14191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71680" y="5935680"/>
            <a:ext cx="1380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43680" y="5992920"/>
            <a:ext cx="8668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640" y="228600"/>
            <a:ext cx="7580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 Heterogeneou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1320" y="35593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19160" y="2705040"/>
            <a:ext cx="932040" cy="731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7760" y="2395440"/>
            <a:ext cx="229392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56080" y="1355760"/>
            <a:ext cx="982800" cy="1628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19800" y="1136520"/>
            <a:ext cx="1541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979960" y="3398760"/>
            <a:ext cx="73836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72160" y="312912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375240" y="5659560"/>
            <a:ext cx="6508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0" y="1438200"/>
            <a:ext cx="790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94440" y="3367080"/>
            <a:ext cx="771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51440" y="5433840"/>
            <a:ext cx="480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222880" y="49942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5427720" y="5208480"/>
            <a:ext cx="15177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7840" y="2776680"/>
            <a:ext cx="1824480" cy="1729080"/>
          </a:xfrm>
          <a:custGeom>
            <a:avLst/>
            <a:gdLst/>
            <a:ahLst/>
            <a:rect l="0" t="0" r="r" b="b"/>
            <a:pathLst>
              <a:path w="5068" h="4803">
                <a:moveTo>
                  <a:pt x="3368" y="18"/>
                </a:moveTo>
                <a:lnTo>
                  <a:pt x="4464" y="0"/>
                </a:lnTo>
                <a:lnTo>
                  <a:pt x="4102" y="1033"/>
                </a:lnTo>
                <a:lnTo>
                  <a:pt x="3909" y="811"/>
                </a:lnTo>
                <a:lnTo>
                  <a:pt x="3644" y="1040"/>
                </a:lnTo>
                <a:lnTo>
                  <a:pt x="3325" y="1276"/>
                </a:lnTo>
                <a:lnTo>
                  <a:pt x="3085" y="1461"/>
                </a:lnTo>
                <a:lnTo>
                  <a:pt x="2780" y="1662"/>
                </a:lnTo>
                <a:lnTo>
                  <a:pt x="2397" y="1879"/>
                </a:lnTo>
                <a:lnTo>
                  <a:pt x="1985" y="2048"/>
                </a:lnTo>
                <a:lnTo>
                  <a:pt x="4188" y="2050"/>
                </a:lnTo>
                <a:lnTo>
                  <a:pt x="4185" y="1773"/>
                </a:lnTo>
                <a:lnTo>
                  <a:pt x="5068" y="2390"/>
                </a:lnTo>
                <a:lnTo>
                  <a:pt x="4185" y="3011"/>
                </a:lnTo>
                <a:lnTo>
                  <a:pt x="4190" y="2738"/>
                </a:lnTo>
                <a:lnTo>
                  <a:pt x="1959" y="2738"/>
                </a:lnTo>
                <a:lnTo>
                  <a:pt x="2383" y="2918"/>
                </a:lnTo>
                <a:lnTo>
                  <a:pt x="2716" y="3089"/>
                </a:lnTo>
                <a:lnTo>
                  <a:pt x="3023" y="3293"/>
                </a:lnTo>
                <a:lnTo>
                  <a:pt x="3339" y="3531"/>
                </a:lnTo>
                <a:lnTo>
                  <a:pt x="3589" y="3709"/>
                </a:lnTo>
                <a:lnTo>
                  <a:pt x="3909" y="3975"/>
                </a:lnTo>
                <a:lnTo>
                  <a:pt x="4102" y="3772"/>
                </a:lnTo>
                <a:lnTo>
                  <a:pt x="4471" y="4803"/>
                </a:lnTo>
                <a:lnTo>
                  <a:pt x="3368" y="4777"/>
                </a:lnTo>
                <a:lnTo>
                  <a:pt x="3530" y="4521"/>
                </a:lnTo>
                <a:lnTo>
                  <a:pt x="3220" y="4322"/>
                </a:lnTo>
                <a:lnTo>
                  <a:pt x="2890" y="4086"/>
                </a:lnTo>
                <a:lnTo>
                  <a:pt x="2585" y="3892"/>
                </a:lnTo>
                <a:lnTo>
                  <a:pt x="2304" y="3721"/>
                </a:lnTo>
                <a:lnTo>
                  <a:pt x="2040" y="3575"/>
                </a:lnTo>
                <a:lnTo>
                  <a:pt x="1762" y="3434"/>
                </a:lnTo>
                <a:lnTo>
                  <a:pt x="1417" y="3281"/>
                </a:lnTo>
                <a:lnTo>
                  <a:pt x="1063" y="3212"/>
                </a:lnTo>
                <a:lnTo>
                  <a:pt x="0" y="3210"/>
                </a:lnTo>
                <a:lnTo>
                  <a:pt x="0" y="1604"/>
                </a:lnTo>
                <a:lnTo>
                  <a:pt x="1061" y="1604"/>
                </a:lnTo>
                <a:lnTo>
                  <a:pt x="1417" y="1532"/>
                </a:lnTo>
                <a:lnTo>
                  <a:pt x="1845" y="1341"/>
                </a:lnTo>
                <a:lnTo>
                  <a:pt x="2126" y="1181"/>
                </a:lnTo>
                <a:lnTo>
                  <a:pt x="2364" y="1045"/>
                </a:lnTo>
                <a:lnTo>
                  <a:pt x="2642" y="878"/>
                </a:lnTo>
                <a:lnTo>
                  <a:pt x="2906" y="707"/>
                </a:lnTo>
                <a:lnTo>
                  <a:pt x="3197" y="506"/>
                </a:lnTo>
                <a:lnTo>
                  <a:pt x="3539" y="272"/>
                </a:lnTo>
                <a:lnTo>
                  <a:pt x="3368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7520" y="228600"/>
            <a:ext cx="8508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roprietary databas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each database must be specially c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support popular databas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 not support al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7240" y="1733400"/>
            <a:ext cx="5429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critical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ystem softwar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limita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