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5691240" y="0"/>
            <a:ext cx="344016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rk Lewin93101 Xhibition ‘93 (3rd talk) 6/93 </a:t>
            </a:r>
            <a:fld id="{6D02F2BB-E9AB-4608-905B-BA0053293EE7}" type="slidenum"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1457280" y="1112760"/>
            <a:ext cx="622944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aking Advantage of the Win32</a:t>
            </a:r>
            <a:r>
              <a:rPr b="1" lang="en-US" sz="4800" spc="-1" strike="noStrike" baseline="30000">
                <a:solidFill>
                  <a:srgbClr val="fafd00"/>
                </a:solidFill>
                <a:latin typeface="Times New Roman"/>
                <a:ea typeface="Times New Roman"/>
              </a:rPr>
              <a:t>™</a:t>
            </a: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API</a:t>
            </a:r>
            <a:br>
              <a:rPr sz="4800"/>
            </a:br>
            <a:br>
              <a:rPr sz="4800"/>
            </a:br>
            <a:br>
              <a:rPr sz="48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ark Lewin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anager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 Corpor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1390680" y="228600"/>
            <a:ext cx="63626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emory Mana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781200" y="1467000"/>
            <a:ext cx="758196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ace in paging file reserved for each potentially writable page (commitmen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ocation APIs will fail if space cannot be committed in paging 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unexpected failures, for example, won’t fail when touching mem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mory mapped files don’t need paging file sp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2019240" y="228600"/>
            <a:ext cx="51055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ynchroniza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181160" y="1371600"/>
            <a:ext cx="6781680" cy="50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itical sections - fast mutual exclusion for threads within a 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nt - signals the occurrence of an event; sharable between proces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tex - sharable critical s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maphore - traditional counting semaphore; shar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eric wait on single/multi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1733400" y="228600"/>
            <a:ext cx="56768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/O API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352520" y="1428840"/>
            <a:ext cx="6438960" cy="40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code and ANSI entry poi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ng file names (on appropriate F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ynchronous I/O support via ReadFile, ReadFileEx, WriteFile, and WriteFileE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lbacks and waitable objects, not Signa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2771640" y="228600"/>
            <a:ext cx="3600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ol API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990720" y="1390680"/>
            <a:ext cx="7162920" cy="27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nt-driven debug AP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bug att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d/Write/Query/Set memory of another 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uplicateHandle to another 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2819520" y="228600"/>
            <a:ext cx="35053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r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885960" y="1428840"/>
            <a:ext cx="7372440" cy="48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eralized, structured repository for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iminates the need for text fi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uctured as a multiway tree of nodes called ke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ch key has an access control list (AC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ch key is time-stamped (last writte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y contain child keys and multiple values per k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2343240" y="228600"/>
            <a:ext cx="44578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ry API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990720" y="1447920"/>
            <a:ext cx="716292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OpenKeyEx - Opens key relative to a predefined handle (for example, HKEY_CURRENT_USER) or previously opened hand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CreateKeyEx - Opens or creates k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SetValueEx - Writes values for specified k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2209680" y="228600"/>
            <a:ext cx="47242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ry API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1162080" y="1409760"/>
            <a:ext cx="6819840" cy="40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QueryValueEx - Reads values for specified k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QueryInfoKey - Returns information for specified k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FlushKey - Commits changes to backing sto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CloseKey - Closes specified k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etwork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657440" y="1676520"/>
            <a:ext cx="582948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Sockets - Berkeley flavo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med pipes, mailslo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 txBox="1"/>
          <p:nvPr/>
        </p:nvSpPr>
        <p:spPr>
          <a:xfrm>
            <a:off x="1419120" y="228600"/>
            <a:ext cx="63054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hat’s Interest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2162160" y="1352520"/>
            <a:ext cx="4819680" cy="40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ception hand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mory Manag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nchroniz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/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scellane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3191040" y="228600"/>
            <a:ext cx="27622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hread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143000" y="1390680"/>
            <a:ext cx="6858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ple threads per 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threads are pe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threads may make graphics and window management ca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al thread local storage AP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itical Sections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o synchronize thread access to memory (multiprocessor saf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3181320" y="228600"/>
            <a:ext cx="2781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hread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990720" y="1467000"/>
            <a:ext cx="7162920" cy="27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emptive schedu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s priority contr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LLs have per-process initialization and termination routi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-thread error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2529000" y="228600"/>
            <a:ext cx="4086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hread API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533600" y="1371600"/>
            <a:ext cx="6076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Thread/WaitForEx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ThreadExitStat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rminateThread/ExitThre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spend/ResumeThre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/SetThreadContex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/SetThreadPrio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1495440" y="228600"/>
            <a:ext cx="61531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xception Handl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025640" y="1542960"/>
            <a:ext cx="709452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49280" indent="-4492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y {                                                   try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try body                                         // finally bod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                                                       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cept ( expression() ) {                   finally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exception handler                         // finally handl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                                                       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2190600" y="228600"/>
            <a:ext cx="47624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emory Mana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209600" y="1981080"/>
            <a:ext cx="6724800" cy="24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ap AP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ple, growable hea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e, low overhead, thread-saf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LLs can use these for per-process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1400040" y="228600"/>
            <a:ext cx="63435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emory Mana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085760" y="1409760"/>
            <a:ext cx="6972480" cy="30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Is support sparse allocation of address space and provide control of page protection and attribu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med shared mem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c stack expansion (can fail due to commitmen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1400040" y="228600"/>
            <a:ext cx="63435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emory Mapped Fil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743040" y="1428840"/>
            <a:ext cx="7658280" cy="454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FileMapping - returns handle to mapping 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 used to create named shared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pViewOfFile - maps virtual memory to specified mapping 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mapViewOfFile - unmaps specified mapp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oseHandle - close handle to file mapping 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