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292E3D-E973-49B4-910B-84FE4890F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s must be Release’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it, Revert, and Release all work in low memory without consuming additional file hand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ethods under ‘Never’ are used internally by 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 1.0 Container ha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 embedding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 within a single stream (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 1.0 Embedding Server ha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oad all its data on ac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write all its data on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the above Common operations work in low memory without additional file hand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ethods under ‘Never’ exist because the implementation provided by OLE is not the only possible implem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tat to determin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t’s take a look at some exampl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rows represent interface instances held by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iner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bedding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context switch during stream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the storage is transa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example shows that releasing a stream doesn’t cause its changes to be lost, nor does it commit them to the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Revert discards the changes AND disconnects the child from the parent (as shown by no connection between the tw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ually all children will be closed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preload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mental update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x Tilles(3) 93006 OLE 2.0 PDC 5/93 </a:t>
            </a:r>
            <a:fld id="{10B7BB44-8928-48A7-9875-5A1F1FAC8A5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4080" y="955800"/>
            <a:ext cx="8836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 Model And Compound File Implementation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ex Tille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Team Lead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Root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080" y="1736640"/>
            <a:ext cx="75772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reateDoc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mo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reateDocfileOn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n ILockBytes instance instead of path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72880" y="493560"/>
            <a:ext cx="859788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CreateDoc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ample.dfl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FAILIF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e Op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25600" y="1736640"/>
            <a:ext cx="629460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FAILIF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ls if file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CRE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ways creates (even if file exi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s file into compound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GM_CONVE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720" y="1981080"/>
            <a:ext cx="2705040" cy="23432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9000" y="27795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886200"/>
            <a:ext cx="2705040" cy="23432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46560" y="46846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81760" y="1066680"/>
            <a:ext cx="2914560" cy="167652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58080" y="2666880"/>
            <a:ext cx="68580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339084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461280" y="3313080"/>
            <a:ext cx="2394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08920" y="1579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2280" y="2084400"/>
            <a:ext cx="38419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MoveElemen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name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Element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75200" y="2065320"/>
            <a:ext cx="359892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tate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03200" y="1122480"/>
            <a:ext cx="2838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ss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75480" y="1141560"/>
            <a:ext cx="135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47840" y="528480"/>
            <a:ext cx="825012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reateStream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Data stream #1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FAILIF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St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906640" y="147492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47840" y="561960"/>
            <a:ext cx="825012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OpenStream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Data stream #1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St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Storage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33480" y="1733400"/>
            <a:ext cx="7277040" cy="40575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362320"/>
            <a:ext cx="2590920" cy="28576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2705040" cy="28764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43640" y="3733920"/>
            <a:ext cx="182880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74880" y="16938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41600" y="2341440"/>
            <a:ext cx="71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80120" y="2303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641920" y="36939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733920"/>
            <a:ext cx="2610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41600" y="3846600"/>
            <a:ext cx="71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55800" y="2008080"/>
            <a:ext cx="1647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75200" y="2065320"/>
            <a:ext cx="35989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03200" y="1122480"/>
            <a:ext cx="2838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ss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775480" y="1141560"/>
            <a:ext cx="135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65240" y="933480"/>
            <a:ext cx="88153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define DATASIZE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BY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bData[DATASIZE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ONG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bWrit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fill in abData (not show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abData, DATASIZE, &amp;cbWritte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cbWritten will always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31720" y="1143000"/>
            <a:ext cx="80820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define DATASIZE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BY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bData[DATASIZE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ONG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bWrit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Read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abData, DATASIZE, &amp;cb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cbRead will always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22440" y="228600"/>
            <a:ext cx="789948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stm is a valid IStream in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ek to beginning of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0, STREAM_SEEK_SET, 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ek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22, STREAM_SEEK_CU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ulNewPositio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tSiz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9007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-7, STREAM_SEEK_E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ulNewPositio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runcate the stream to 0 by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tSiz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dvanced Stream O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17480" y="1736640"/>
            <a:ext cx="771048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ream::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n IStream instance with a new seek pointer (same 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ream::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data between streams (can be   same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gether, these methods can create and remove space within a 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9400" y="1054080"/>
            <a:ext cx="8847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ream *pstmClon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ARGE_INTEGER ulicb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0xffffffff, 0xffffffff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Clone(&amp;pstmClon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Clone-&gt;Seek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1000, STREAM_SEEK_CUR, 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CopyTo(pstmClone, ulicb, NULL,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We’ve now created a 1000 byte g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Clone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71760" y="11239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9718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10120" y="29718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34000" y="47815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360" y="17524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4152960"/>
            <a:ext cx="2152800" cy="7048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48040" y="4114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58672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10000" y="169560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914560" y="1943280"/>
            <a:ext cx="1219320" cy="10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15080" y="1943280"/>
            <a:ext cx="876240" cy="10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19280" y="3790800"/>
            <a:ext cx="476280" cy="3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181480" y="3772080"/>
            <a:ext cx="64800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8040" y="3790800"/>
            <a:ext cx="106668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095880" y="5543640"/>
            <a:ext cx="104796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4960" y="1179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2720" y="1808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74760" y="3103560"/>
            <a:ext cx="488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6880" y="4189320"/>
            <a:ext cx="169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870520" y="30463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84480" y="41133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413480" y="48751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8968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086440"/>
            <a:ext cx="2152800" cy="7048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41600" y="5122800"/>
            <a:ext cx="169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3809880"/>
            <a:ext cx="152280" cy="127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8280" y="6094440"/>
            <a:ext cx="366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pound 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65240" y="76320"/>
            <a:ext cx="8815320" cy="74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reateStorag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 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 | STGM_CREA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Embedding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Give pEmbeddingStg to server via OLE 2.0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Embedding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rver will also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65240" y="193680"/>
            <a:ext cx="8815320" cy="74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OpenStorag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Embedding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Give pEmbeddingStg to server via OLE 2.0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Embedding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rver will also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1720" y="669960"/>
            <a:ext cx="808200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destroying a child storage causes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of its child streams and substor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o also be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DestroyElem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   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the same method to destroy str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DestroyElem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   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Just a data stream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action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55600" y="1736640"/>
            <a:ext cx="683244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Storages buff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l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anges until client Com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on Direct objects is 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ffered changes can be discarded by calling 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0200" y="120024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3800" y="1828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248440" y="177156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953400" y="1255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51160" y="188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0200" y="3067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3800" y="36957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248440" y="363852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953400" y="3122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51160" y="37512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0200" y="52005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3800" y="582948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248440" y="577224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53400" y="5256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5116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4600" y="169380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93680" y="375120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4600" y="5865840"/>
            <a:ext cx="1784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00880" y="1047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95520" y="148608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57360" y="3333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95520" y="54864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29160" y="29718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24560" y="502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9960" y="11811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33560" y="18097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48200" y="175248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53160" y="12366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050920" y="18651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9960" y="30481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33560" y="3676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048200" y="361944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53160" y="31035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050920" y="37321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09960" y="518148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33560" y="581040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048200" y="575316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753160" y="5237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50920" y="58658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Advant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57400" y="1736640"/>
            <a:ext cx="68310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embeddings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old and new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ave/Can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s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user overwrite pro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91120" y="10288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14479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477120" y="10843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660840" y="1484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2760" y="146520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5520" y="285588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31840" y="4075200"/>
            <a:ext cx="1657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72280" y="95256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76400" y="1123920"/>
            <a:ext cx="64800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648400" y="15620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48360" y="249552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2200" y="29145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534000" y="25509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8080" y="2951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29160" y="241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33640" y="25909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705640" y="30290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6520" y="40384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00360" y="445788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72160" y="4094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660840" y="449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67320" y="39625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743440" y="4572000"/>
            <a:ext cx="400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4680" y="552456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38520" y="59436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610320" y="55800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794040" y="59799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781600" y="605808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9080" y="5560920"/>
            <a:ext cx="1682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00640" y="97164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4480" y="1390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86280" y="10270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970360" y="14270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957920" y="150480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57880" y="24382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71720" y="2857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843520" y="24940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27240" y="28940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014800" y="2971800"/>
            <a:ext cx="400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040" y="398160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09880" y="440064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881680" y="40370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65400" y="44370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052960" y="451476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33840" y="546732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48040" y="588636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919840" y="55227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103560" y="59230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091120" y="60008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114720" y="1828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0200" y="120024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248440" y="177156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953400" y="1255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51160" y="188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0200" y="3067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33800" y="36957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248440" y="363852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953400" y="3122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51160" y="37512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0200" y="52005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33800" y="5829480"/>
            <a:ext cx="2133720" cy="7239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953400" y="5256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5116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93680" y="375120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31840" y="5408640"/>
            <a:ext cx="1682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00880" y="1047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29160" y="29718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24560" y="502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920" y="184644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57360" y="14479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57360" y="335268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57360" y="54864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9960" y="11811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33560" y="18097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048200" y="175248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53160" y="12366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050920" y="18651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09960" y="30481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33560" y="3676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048200" y="361944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53160" y="31035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050920" y="37321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09960" y="518148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33560" y="58104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048200" y="575316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753160" y="5237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050920" y="58658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/Canc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0960" y="974880"/>
            <a:ext cx="87217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Save == TR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Make all changes to data stream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embeddings visible to container (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file system if this is the roo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Commit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Discards all changes to data stream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embeddings.  Also invalidates all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Stream and IStorage inst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Rever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mis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93680" y="1736640"/>
            <a:ext cx="6956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direct storages must be at least as restri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transacted storages can have any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read-only storages are modifiable but not Comm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thod returns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Restri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528920" y="1143000"/>
            <a:ext cx="608796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EXCLU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DIR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able, direct root storages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EXCLU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root open modes require copying the underly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DENY_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DENY_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 Parame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173664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bitwise or’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DEFAULT (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TGC_ONLYIFCUR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OVER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DANGEROUSLYCOMMIT-      MERELYTODISK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41360" y="776160"/>
            <a:ext cx="826128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“sample.dfl”, 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| STGM_SHARE_DENY_NON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, NULL, 0, 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Make change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Commit(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C_ONLYIFCURR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GetScode(hr) == STG_E_NOTCURR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omeone else saved after we op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we can now prompt the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(if we care 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Commit(0);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mbedding Advant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736640"/>
            <a:ext cx="716292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data streams per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 on open/up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ccess to data during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Set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ntext switching in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IStorage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349280" y="1736640"/>
            <a:ext cx="644508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contents to anothe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Copy, Sav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MoveElemen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child to anothe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90560" y="1736640"/>
            <a:ext cx="756432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Element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numerate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name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Element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reate/modif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get name, mode,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 It A Compound Fi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84080" y="1736640"/>
            <a:ext cx="75754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IsStorage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applications which support a variety of file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IsStorageFileOn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bove, except takes an ILockBytes instance instead of a fi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69960" y="272880"/>
            <a:ext cx="780408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IsStorage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“sample.dfl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GetScode(hr) == S_O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t’s a Compoun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 if (GetScode(sc) == S_FAL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t’s not a Compoun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nable to determine what it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(e.g. doesn’t exist, couldn’t op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ority And Exclu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90720" y="173664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GM_PRIORITY to open a Compound File brie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Direct, Read-Only, Deny-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others from modifyin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quent reopen with exclusions prevents some cop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55600" y="444600"/>
            <a:ext cx="863280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ransacted, Read-Write, Deny-Write fa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M_PRIORITY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| STGM_DIRECT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    | STGM_SHARE_DENY_N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..., &amp;pStgPriority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Read in primary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Priorit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| STGM_TRANSACTED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SHARE_DENY_N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psnbExclud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,  //  children to ex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gRoo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mporary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3880" y="1736640"/>
            <a:ext cx="7356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DELETEON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s underlying file after root storage is completely Release’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 when creating or opening 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pathname for Compound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NULL fo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d in temporary file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41360" y="641520"/>
            <a:ext cx="826128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CreateDocfil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M_DELETEONRELEAS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nderlying file will be de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ing Read-On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90720" y="173664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, Read-Only, Deny-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other writers from op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derlying file 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, Read-Only, Deny-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other writers to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lying file is cop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schemes allow other r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96720" y="584280"/>
            <a:ext cx="835020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CODE s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c = StgOpenStorag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ample.dfl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  | STGM_SHARE_DENY_WRIT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 And 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809720"/>
            <a:ext cx="71629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streams and sub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transacted chang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19880" y="1600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362720" y="16747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72160" y="440064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89880" y="44560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90720" y="1736640"/>
            <a:ext cx="7162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new Compound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Storage::Copy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RootStorage::SwitchT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if transa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entially s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65240" y="541440"/>
            <a:ext cx="88153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Root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g-&gt;QueryInterface(IID_IRootStorag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witchTo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pszSaveAsFile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stg now refers to pszSaveAsFil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ommi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STGC_DEFAUL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LockBy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73280" y="1736640"/>
            <a:ext cx="7597800" cy="36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of a resizable byte ar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ound Files to be placed anywhere such a byte array can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ek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used for serializing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- if not available, OLE 2.0 assumes implementor controls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773440" y="833400"/>
            <a:ext cx="359892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Fl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90720" y="173664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file format specification included in your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mplementation source code available after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ound Files to be read and written on other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on an ILockBytes instance (sample provid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ximiz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197000" y="1736640"/>
            <a:ext cx="67500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backwards is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orage::Enum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ded for debugging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 very expensive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 names of children in your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supports large numbers of children effici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85640" y="12668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990720" y="1343160"/>
            <a:ext cx="71629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 provi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for embed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/Revert - aids Save/Can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ing to open emb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ing to update emb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ccess to data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eloading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saves and overwrite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OLE Provid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4280" y="1736640"/>
            <a:ext cx="67150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on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provides pathnam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on 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provides ILockBytes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, database binary recor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ckBytes on global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590920"/>
            <a:ext cx="360036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41320" y="2970360"/>
            <a:ext cx="2762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10120" y="2629080"/>
            <a:ext cx="360036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51480" y="3008160"/>
            <a:ext cx="2762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7800" y="1465200"/>
            <a:ext cx="3689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, I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56120" y="1522440"/>
            <a:ext cx="3689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, I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71880" y="2095560"/>
            <a:ext cx="0" cy="514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62600" y="2095560"/>
            <a:ext cx="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22840" y="4836960"/>
            <a:ext cx="241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ckBy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0760" y="422928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51120" y="4799160"/>
            <a:ext cx="793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0600" y="417204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38920" y="5353200"/>
            <a:ext cx="0" cy="247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0120" y="5619600"/>
            <a:ext cx="3657600" cy="743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51720" y="5656320"/>
            <a:ext cx="412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OLE Requi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62040" y="1736640"/>
            <a:ext cx="6019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 (or OleInitiali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file-based compound fi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hare.exe in autoexec.b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per compound file, plus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