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97040" cy="6553440"/>
            <a:chOff x="0" y="0"/>
            <a:chExt cx="8897040" cy="65534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534360" cy="6553440"/>
            </a:xfrm>
            <a:custGeom>
              <a:avLst/>
              <a:gdLst/>
              <a:ahLst/>
              <a:rect l="0" t="0" r="r" b="b"/>
              <a:pathLst>
                <a:path w="18151" h="18204">
                  <a:moveTo>
                    <a:pt x="18151" y="15981"/>
                  </a:moveTo>
                  <a:lnTo>
                    <a:pt x="2169" y="0"/>
                  </a:lnTo>
                  <a:lnTo>
                    <a:pt x="0" y="0"/>
                  </a:lnTo>
                  <a:lnTo>
                    <a:pt x="0" y="2275"/>
                  </a:lnTo>
                  <a:lnTo>
                    <a:pt x="15928" y="18204"/>
                  </a:lnTo>
                  <a:lnTo>
                    <a:pt x="18151" y="15981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14360" y="0"/>
              <a:ext cx="5810760" cy="5467680"/>
            </a:xfrm>
            <a:custGeom>
              <a:avLst/>
              <a:gdLst/>
              <a:ahLst/>
              <a:rect l="0" t="0" r="r" b="b"/>
              <a:pathLst>
                <a:path w="16141" h="15188">
                  <a:moveTo>
                    <a:pt x="1905" y="0"/>
                  </a:moveTo>
                  <a:lnTo>
                    <a:pt x="16141" y="14235"/>
                  </a:lnTo>
                  <a:lnTo>
                    <a:pt x="15189" y="15188"/>
                  </a:lnTo>
                  <a:lnTo>
                    <a:pt x="0" y="0"/>
                  </a:lnTo>
                  <a:lnTo>
                    <a:pt x="1905" y="0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48080" y="0"/>
              <a:ext cx="5029560" cy="4420080"/>
            </a:xfrm>
            <a:custGeom>
              <a:avLst/>
              <a:gdLst/>
              <a:ahLst/>
              <a:rect l="0" t="0" r="r" b="b"/>
              <a:pathLst>
                <a:path w="13971" h="12278">
                  <a:moveTo>
                    <a:pt x="3386" y="0"/>
                  </a:moveTo>
                  <a:lnTo>
                    <a:pt x="13971" y="10585"/>
                  </a:lnTo>
                  <a:lnTo>
                    <a:pt x="12277" y="12278"/>
                  </a:lnTo>
                  <a:lnTo>
                    <a:pt x="0" y="0"/>
                  </a:lnTo>
                  <a:lnTo>
                    <a:pt x="3386" y="0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96000" y="0"/>
              <a:ext cx="4001040" cy="3696120"/>
            </a:xfrm>
            <a:custGeom>
              <a:avLst/>
              <a:gdLst/>
              <a:ahLst/>
              <a:rect l="0" t="0" r="r" b="b"/>
              <a:pathLst>
                <a:path w="11114" h="10267">
                  <a:moveTo>
                    <a:pt x="0" y="0"/>
                  </a:moveTo>
                  <a:lnTo>
                    <a:pt x="10267" y="10267"/>
                  </a:lnTo>
                  <a:lnTo>
                    <a:pt x="11114" y="9421"/>
                  </a:lnTo>
                  <a:lnTo>
                    <a:pt x="16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” Fundament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 Mat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, Matison Consulting Group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7 Dunblaine A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ronto, On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5M 2S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16)-256-44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imple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ociate your get variable with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you display may not have anything directly to do with the field where your data re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 the data in logical manner for your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 the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what you want to accomplish before h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any optional clauses to enable you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outs, validations, etc should be know before you go ahe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 the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the read using terminate options, keyboard options or field vali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something as a result of the 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the data, discard, perform another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 Cla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expn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efined functions can control the behavior of the 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ype of activity could be imbedded within these rout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expl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f the screen is left to functions that return logical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nce and exit are 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application can be embedded in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can’t get there from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generator direc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key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several read clauses to create a reusable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MOD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VA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SS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 Cla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828800"/>
            <a:ext cx="7162920" cy="48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ad is not terminated when you reach the last g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E &lt;exp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is to alter aspects of the scree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/disable butt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CTIVATE &lt;exp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function so you can embed a great deal of setup within the cl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is evaluates to true, the read is termin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hing else is accessible during the read including the me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enu is accessible if you run a menu.mpr routine as part of the when cl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modal screen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ndation read 1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mainmenu.m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valid my_hand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mhit in mainmenu with “ACCOUNT.SP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c_nxtproc =  “NEXT WINDOW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( NEXT WINDOW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Foundation read 1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ggle between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ctivate clause must evaluate to .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mplicit clear read is per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release your window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vent handler kicks in with WONTO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 Cla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&lt;exp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is to update screen variables that aren't part of your library rout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reen generator will create the refresh code for your related tab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 &lt;exp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p for escape sequences and ask if the user wants to le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this returns false the read is not termin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ad is always terminated from the pushbutt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 Cla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&lt;exp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ode that establishes browse 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nvironment set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and disable clauses based on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ets have to be defined before you can do anything to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|NO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 Clauses available through dir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EAD, NOREAD P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KEY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modal example Accounts during the invo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CL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&lt;exp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|COLOR SCHEME &lt;expn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OUT &lt;expn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&lt;expn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le screen s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they function under one re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activate clause and deactivate for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” - Today’s se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overiew of what READ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clauses associated with the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dailog box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 more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xPro’s most fundamental com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out it your applications are fairly limited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 READ allow you to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allows you to interact with the scre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on is the in the form of G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control is also enabled  with activate/deactivate cla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control via foundation 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nd result is that you can interact with data hidden in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 defined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rb to read means to assimilate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nning device such as our e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cal character r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code system, or other electronic 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you reading in FoxPr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wait state that allows you to interact with the sc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does not necessarily have anything to do with g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on via get objects, windows, proced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more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828800"/>
            <a:ext cx="7162920" cy="456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types, One with gets the other with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ond type is know as the foundation 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ypes: memory variables, push buttons, lists, popup box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pportunities because of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E &amp; OLE links create a large range of opportunities to accept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Levels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 many read levels in eff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dequate for most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read when you are d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s can span multiple 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.name = space( 20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@ 5,5 get m.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re anything mo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uses permit you to control every aspect of the user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re available directly through the screen buil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gs r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 Clause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F or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use expressions can return a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s can control the behavior of the 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a behavior associated with the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uses affect both the read and the window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eps to Imp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must be something available to store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variables with blanks, existing data or defaul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and activate a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 writing to the 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are more flex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are easier to manipu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ociate your get variable with a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user should know something about the variable that they’re working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descriptions if possible such as formatting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messages to your variables if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