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5454720" y="3824280"/>
            <a:ext cx="3198960" cy="2819520"/>
          </a:xfrm>
          <a:prstGeom prst="rect">
            <a:avLst/>
          </a:prstGeom>
          <a:ln w="0">
            <a:noFill/>
          </a:ln>
        </p:spPr>
      </p:pic>
      <p:sp>
        <p:nvSpPr>
          <p:cNvPr id="39" name=""/>
          <p:cNvSpPr txBox="1"/>
          <p:nvPr/>
        </p:nvSpPr>
        <p:spPr>
          <a:xfrm>
            <a:off x="114480" y="4071960"/>
            <a:ext cx="51516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sentatio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Jim Boo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serve ID: 72130,25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one: (203)758-69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X: (203)758-62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0" y="781200"/>
            <a:ext cx="9112320" cy="306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FoxTOOLS.FLL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Windows DLL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fo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FoxP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7240" y="3600360"/>
            <a:ext cx="9010440" cy="38160"/>
            <a:chOff x="57240" y="3600360"/>
            <a:chExt cx="9010440" cy="38160"/>
          </a:xfrm>
        </p:grpSpPr>
        <p:sp>
          <p:nvSpPr>
            <p:cNvPr id="42" name=""/>
            <p:cNvSpPr/>
            <p:nvPr/>
          </p:nvSpPr>
          <p:spPr>
            <a:xfrm>
              <a:off x="57240" y="3600360"/>
              <a:ext cx="90104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7240" y="3638520"/>
              <a:ext cx="9010440" cy="0"/>
            </a:xfrm>
            <a:prstGeom prst="line">
              <a:avLst/>
            </a:prstGeom>
            <a:ln w="255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33480" y="2514600"/>
            <a:ext cx="7105680" cy="21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67000" y="324000"/>
            <a:ext cx="6210360" cy="9716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71640" y="2667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hange the Mouse Cur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165320" y="2646360"/>
            <a:ext cx="6824520" cy="207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⇦ ⟨ ⟧ ⇩ ⬄ ⇳ ⬀ ⬁ ⬃ 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304920"/>
            <a:ext cx="7543800" cy="11430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14400" y="304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Windows Message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2343240"/>
            <a:ext cx="7162920" cy="259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2343240"/>
            <a:ext cx="7162920" cy="304920"/>
          </a:xfrm>
          <a:prstGeom prst="rect">
            <a:avLst/>
          </a:prstGeom>
          <a:solidFill>
            <a:srgbClr val="0000f5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2362320"/>
            <a:ext cx="304920" cy="3049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74880" y="2208240"/>
            <a:ext cx="336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489480" y="2338560"/>
            <a:ext cx="1873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 Message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498760" y="3405240"/>
            <a:ext cx="5367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 can make use of Windows message box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432080" y="3094200"/>
            <a:ext cx="48888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86240" y="4343400"/>
            <a:ext cx="1981080" cy="380880"/>
          </a:xfrm>
          <a:prstGeom prst="roundRect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194000" y="4376880"/>
            <a:ext cx="527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09760" y="2971800"/>
            <a:ext cx="6400800" cy="209556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28880" y="266760"/>
            <a:ext cx="7124760" cy="140976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09800" y="4190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Windows Setting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84360" y="3222720"/>
            <a:ext cx="606096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 the Windows Home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 the Windows 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 and Change the settings in WIN.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286000" y="228600"/>
            <a:ext cx="4191120" cy="1219320"/>
            <a:chOff x="2286000" y="228600"/>
            <a:chExt cx="4191120" cy="1219320"/>
          </a:xfrm>
        </p:grpSpPr>
        <p:sp>
          <p:nvSpPr>
            <p:cNvPr id="45" name=""/>
            <p:cNvSpPr/>
            <p:nvPr/>
          </p:nvSpPr>
          <p:spPr>
            <a:xfrm>
              <a:off x="2286000" y="228600"/>
              <a:ext cx="4191120" cy="1219320"/>
            </a:xfrm>
            <a:prstGeom prst="rect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 txBox="1"/>
            <p:nvPr/>
          </p:nvSpPr>
          <p:spPr>
            <a:xfrm>
              <a:off x="2438280" y="380880"/>
              <a:ext cx="39625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at is a DLL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990720" y="2514600"/>
            <a:ext cx="6629400" cy="3325680"/>
            <a:chOff x="990720" y="2514600"/>
            <a:chExt cx="6629400" cy="3325680"/>
          </a:xfrm>
        </p:grpSpPr>
        <p:sp>
          <p:nvSpPr>
            <p:cNvPr id="48" name=""/>
            <p:cNvSpPr/>
            <p:nvPr/>
          </p:nvSpPr>
          <p:spPr>
            <a:xfrm>
              <a:off x="990720" y="2514600"/>
              <a:ext cx="6629400" cy="320040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 txBox="1"/>
            <p:nvPr/>
          </p:nvSpPr>
          <p:spPr>
            <a:xfrm>
              <a:off x="2651040" y="2727360"/>
              <a:ext cx="328464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ynamic Link Libr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 txBox="1"/>
            <p:nvPr/>
          </p:nvSpPr>
          <p:spPr>
            <a:xfrm>
              <a:off x="1203480" y="3557520"/>
              <a:ext cx="6264360" cy="228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vides a library of functions which can be linked at runtime rather than at compile tim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is Dynamic Linking is a service provided by the Windows API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1409760" y="533520"/>
            <a:ext cx="6477120" cy="1218960"/>
            <a:chOff x="1409760" y="533520"/>
            <a:chExt cx="6477120" cy="1218960"/>
          </a:xfrm>
        </p:grpSpPr>
        <p:sp>
          <p:nvSpPr>
            <p:cNvPr id="52" name=""/>
            <p:cNvSpPr/>
            <p:nvPr/>
          </p:nvSpPr>
          <p:spPr>
            <a:xfrm>
              <a:off x="1409760" y="533520"/>
              <a:ext cx="6477120" cy="114300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1447920" y="609480"/>
              <a:ext cx="640080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xPro for Windows Library FoxTOOLS.FL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1028880" y="2133720"/>
            <a:ext cx="7238880" cy="38862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143000" y="228600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T LIBRARY TO C:\FoxproW\FoxTOOLS.F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xTOOLS.FLL contains 2  documented and supporte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gFN() - Used to register a DLL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llFN() - Used to call a previously registered DLL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066680" y="304920"/>
            <a:ext cx="7238880" cy="1143000"/>
            <a:chOff x="1066680" y="304920"/>
            <a:chExt cx="7238880" cy="1143000"/>
          </a:xfrm>
        </p:grpSpPr>
        <p:sp>
          <p:nvSpPr>
            <p:cNvPr id="57" name=""/>
            <p:cNvSpPr/>
            <p:nvPr/>
          </p:nvSpPr>
          <p:spPr>
            <a:xfrm>
              <a:off x="1066680" y="304920"/>
              <a:ext cx="7238880" cy="1143000"/>
            </a:xfrm>
            <a:prstGeom prst="rect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 txBox="1"/>
            <p:nvPr/>
          </p:nvSpPr>
          <p:spPr>
            <a:xfrm>
              <a:off x="1066680" y="304920"/>
              <a:ext cx="716292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ll any Windows DLL function that meets these requiremen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066680" y="2819520"/>
            <a:ext cx="7162920" cy="220968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143000" y="297180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) Take arguments which are of the types integer, long, float, double, string/buff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) Return a value of the type integer, long, float, double, string/buff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152280" y="1676520"/>
            <a:ext cx="4495680" cy="3809880"/>
            <a:chOff x="152280" y="1676520"/>
            <a:chExt cx="4495680" cy="3809880"/>
          </a:xfrm>
        </p:grpSpPr>
        <p:sp>
          <p:nvSpPr>
            <p:cNvPr id="62" name=""/>
            <p:cNvSpPr/>
            <p:nvPr/>
          </p:nvSpPr>
          <p:spPr>
            <a:xfrm>
              <a:off x="152280" y="1676520"/>
              <a:ext cx="4495680" cy="365760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6760" y="2629080"/>
              <a:ext cx="4248000" cy="8571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 txBox="1"/>
            <p:nvPr/>
          </p:nvSpPr>
          <p:spPr>
            <a:xfrm>
              <a:off x="228600" y="1752480"/>
              <a:ext cx="4343400" cy="3733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tionName -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name or the ordinal value of the function to be registered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gTypes -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string of characters which describe what arguments the function will accep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turnType -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character representing the return type of the functi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LLName -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name of the DLL library that contains the functi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28600" y="380880"/>
            <a:ext cx="8610480" cy="838080"/>
          </a:xfrm>
          <a:prstGeom prst="rect">
            <a:avLst/>
          </a:prstGeom>
          <a:solidFill>
            <a:srgbClr val="7f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8600" y="2286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gFn(FunctionName, ArgTypes, ReturnType, DLLNa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933800" y="3009960"/>
            <a:ext cx="4114800" cy="2616120"/>
            <a:chOff x="4933800" y="3009960"/>
            <a:chExt cx="4114800" cy="2616120"/>
          </a:xfrm>
        </p:grpSpPr>
        <p:sp>
          <p:nvSpPr>
            <p:cNvPr id="68" name=""/>
            <p:cNvSpPr/>
            <p:nvPr/>
          </p:nvSpPr>
          <p:spPr>
            <a:xfrm>
              <a:off x="4933800" y="3009960"/>
              <a:ext cx="3962520" cy="23623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4994280" y="3062160"/>
              <a:ext cx="4054320" cy="2563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aracters for designating Typ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- Inte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- Lo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- String of charac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- Floating point 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- Double precision floating point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80880" y="5867280"/>
            <a:ext cx="8534520" cy="457200"/>
            <a:chOff x="380880" y="5867280"/>
            <a:chExt cx="8534520" cy="457200"/>
          </a:xfrm>
        </p:grpSpPr>
        <p:sp>
          <p:nvSpPr>
            <p:cNvPr id="71" name=""/>
            <p:cNvSpPr/>
            <p:nvPr/>
          </p:nvSpPr>
          <p:spPr>
            <a:xfrm>
              <a:off x="380880" y="5867280"/>
              <a:ext cx="8458200" cy="45720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 txBox="1"/>
            <p:nvPr/>
          </p:nvSpPr>
          <p:spPr>
            <a:xfrm>
              <a:off x="441360" y="5919840"/>
              <a:ext cx="8474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TURNS -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 integer representing the handle for the function or -1 for an erro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514760" y="2647800"/>
            <a:ext cx="22291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24800" y="2724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76320" y="0"/>
            <a:ext cx="8915400" cy="1295280"/>
            <a:chOff x="76320" y="0"/>
            <a:chExt cx="8915400" cy="1295280"/>
          </a:xfrm>
        </p:grpSpPr>
        <p:sp>
          <p:nvSpPr>
            <p:cNvPr id="76" name=""/>
            <p:cNvSpPr/>
            <p:nvPr/>
          </p:nvSpPr>
          <p:spPr>
            <a:xfrm>
              <a:off x="171360" y="260280"/>
              <a:ext cx="8724960" cy="774720"/>
            </a:xfrm>
            <a:prstGeom prst="rect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 txBox="1"/>
            <p:nvPr/>
          </p:nvSpPr>
          <p:spPr>
            <a:xfrm>
              <a:off x="76320" y="0"/>
              <a:ext cx="891540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llFN(FnNum, Arg1, Arg2, ...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1676520" y="1828800"/>
            <a:ext cx="5562720" cy="23623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828800" y="1981080"/>
            <a:ext cx="53341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nNum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unction handle from a previous call to RegFn(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g1-n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arguments must match their declare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62120" y="5410080"/>
            <a:ext cx="7620120" cy="990720"/>
            <a:chOff x="762120" y="5410080"/>
            <a:chExt cx="7620120" cy="990720"/>
          </a:xfrm>
        </p:grpSpPr>
        <p:sp>
          <p:nvSpPr>
            <p:cNvPr id="81" name=""/>
            <p:cNvSpPr/>
            <p:nvPr/>
          </p:nvSpPr>
          <p:spPr>
            <a:xfrm>
              <a:off x="762120" y="5410080"/>
              <a:ext cx="7620120" cy="99072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898560" y="5462640"/>
              <a:ext cx="748332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TURNS -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value returned by the function that was registered with the handle FnNum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990720" y="304920"/>
            <a:ext cx="7162920" cy="1219320"/>
            <a:chOff x="990720" y="304920"/>
            <a:chExt cx="7162920" cy="1219320"/>
          </a:xfrm>
        </p:grpSpPr>
        <p:sp>
          <p:nvSpPr>
            <p:cNvPr id="84" name=""/>
            <p:cNvSpPr/>
            <p:nvPr/>
          </p:nvSpPr>
          <p:spPr>
            <a:xfrm>
              <a:off x="1066680" y="304920"/>
              <a:ext cx="7010280" cy="12193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990720" y="304920"/>
              <a:ext cx="716292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documented Function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1143000" y="1828800"/>
            <a:ext cx="7543800" cy="1752480"/>
            <a:chOff x="1143000" y="1828800"/>
            <a:chExt cx="7543800" cy="1752480"/>
          </a:xfrm>
        </p:grpSpPr>
        <p:sp>
          <p:nvSpPr>
            <p:cNvPr id="87" name=""/>
            <p:cNvSpPr/>
            <p:nvPr/>
          </p:nvSpPr>
          <p:spPr>
            <a:xfrm>
              <a:off x="1143000" y="1828800"/>
              <a:ext cx="6934320" cy="175248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1203480" y="1957320"/>
              <a:ext cx="7483320" cy="1552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xTOOLS.FL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contains a number of functions which are undocumented and not supported by Microsoft.  Among these undocumented functions are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990720" y="3886200"/>
            <a:ext cx="7238880" cy="2362320"/>
            <a:chOff x="990720" y="3886200"/>
            <a:chExt cx="7238880" cy="2362320"/>
          </a:xfrm>
        </p:grpSpPr>
        <p:sp>
          <p:nvSpPr>
            <p:cNvPr id="90" name=""/>
            <p:cNvSpPr/>
            <p:nvPr/>
          </p:nvSpPr>
          <p:spPr>
            <a:xfrm>
              <a:off x="990720" y="3886200"/>
              <a:ext cx="7238880" cy="236232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1050840" y="3938760"/>
              <a:ext cx="7130880" cy="2289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BS(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JUSTEXT(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DUCE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EANPATH(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JUSTFNAME(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MDIR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IVETYPE(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JUSTPATH(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RFILTER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FAULTEXT(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JUSTSTEM(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LIDPATH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CEEXT(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NHWND(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ORDNUM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CEPATH(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KDIR(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ORDS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XTOOLVER(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SGBOX(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JUSTDRIVE(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XTWORD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86000" y="228600"/>
            <a:ext cx="4419720" cy="9907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14400" y="2286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Windows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38080" y="2514600"/>
            <a:ext cx="7848720" cy="2438280"/>
            <a:chOff x="838080" y="2514600"/>
            <a:chExt cx="7848720" cy="2438280"/>
          </a:xfrm>
        </p:grpSpPr>
        <p:sp>
          <p:nvSpPr>
            <p:cNvPr id="95" name=""/>
            <p:cNvSpPr/>
            <p:nvPr/>
          </p:nvSpPr>
          <p:spPr>
            <a:xfrm>
              <a:off x="838080" y="2514600"/>
              <a:ext cx="7696080" cy="2438280"/>
            </a:xfrm>
            <a:prstGeom prst="rect">
              <a:avLst/>
            </a:prstGeom>
            <a:solidFill>
              <a:srgbClr val="b3b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974880" y="2795760"/>
              <a:ext cx="7711920" cy="1917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Windows API provides a number of DLLs with useful functions in them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se functions are documented in the Windows API documentat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38080" y="2514600"/>
            <a:ext cx="7238880" cy="1828800"/>
          </a:xfrm>
          <a:prstGeom prst="rect">
            <a:avLst/>
          </a:prstGeom>
          <a:solidFill>
            <a:srgbClr val="b3b9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228600"/>
            <a:ext cx="5562720" cy="129528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90720" y="304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ird Party DL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203480" y="2803680"/>
            <a:ext cx="66880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y third party vendors provide D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DLLs are documented by the vend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