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609480"/>
            <a:ext cx="9123120" cy="5638680"/>
            <a:chOff x="3240" y="609480"/>
            <a:chExt cx="9123120" cy="5638680"/>
          </a:xfrm>
        </p:grpSpPr>
        <p:grpSp>
          <p:nvGrpSpPr>
            <p:cNvPr id="1" name=""/>
            <p:cNvGrpSpPr/>
            <p:nvPr/>
          </p:nvGrpSpPr>
          <p:grpSpPr>
            <a:xfrm>
              <a:off x="3240" y="4286160"/>
              <a:ext cx="9123120" cy="1528920"/>
              <a:chOff x="3240" y="4286160"/>
              <a:chExt cx="9123120" cy="152892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3240" y="4286160"/>
                <a:ext cx="91231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3240" y="4438800"/>
                <a:ext cx="91231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3240" y="4591080"/>
                <a:ext cx="9123120" cy="0"/>
              </a:xfrm>
              <a:prstGeom prst="line">
                <a:avLst/>
              </a:prstGeom>
              <a:ln w="2556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3240" y="4743360"/>
                <a:ext cx="9123120" cy="0"/>
              </a:xfrm>
              <a:prstGeom prst="line">
                <a:avLst/>
              </a:prstGeom>
              <a:ln w="2556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3240" y="4896000"/>
                <a:ext cx="9123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3240" y="5048280"/>
                <a:ext cx="9123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3240" y="5200560"/>
                <a:ext cx="9123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3240" y="5353200"/>
                <a:ext cx="912312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3240" y="5505480"/>
                <a:ext cx="912312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3240" y="5657760"/>
                <a:ext cx="912312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flipV="1">
                <a:off x="3240" y="5810400"/>
                <a:ext cx="9120240" cy="4680"/>
              </a:xfrm>
              <a:prstGeom prst="line">
                <a:avLst/>
              </a:prstGeom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2920" bIns="-52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728640" y="609480"/>
              <a:ext cx="7686720" cy="563868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7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197160" y="1001880"/>
            <a:ext cx="2749680" cy="58572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NSCR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133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71600" y="2362320"/>
            <a:ext cx="2438280" cy="6858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x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creen 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371600" y="3657600"/>
            <a:ext cx="2438280" cy="76212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SCRN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23880" y="5181480"/>
            <a:ext cx="2209680" cy="53352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oxP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urc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3200400"/>
            <a:ext cx="533880" cy="305280"/>
          </a:xfrm>
          <a:custGeom>
            <a:avLst/>
            <a:gdLst/>
            <a:ahLst/>
            <a:rect l="0" t="0" r="r" b="b"/>
            <a:pathLst>
              <a:path w="1483" h="848">
                <a:moveTo>
                  <a:pt x="494" y="0"/>
                </a:moveTo>
                <a:lnTo>
                  <a:pt x="987" y="0"/>
                </a:lnTo>
                <a:lnTo>
                  <a:pt x="987" y="593"/>
                </a:lnTo>
                <a:lnTo>
                  <a:pt x="1483" y="593"/>
                </a:lnTo>
                <a:lnTo>
                  <a:pt x="741" y="848"/>
                </a:lnTo>
                <a:lnTo>
                  <a:pt x="0" y="593"/>
                </a:lnTo>
                <a:lnTo>
                  <a:pt x="494" y="593"/>
                </a:lnTo>
                <a:lnTo>
                  <a:pt x="494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4648320"/>
            <a:ext cx="533880" cy="305280"/>
          </a:xfrm>
          <a:custGeom>
            <a:avLst/>
            <a:gdLst/>
            <a:ahLst/>
            <a:rect l="0" t="0" r="r" b="b"/>
            <a:pathLst>
              <a:path w="1483" h="848">
                <a:moveTo>
                  <a:pt x="494" y="0"/>
                </a:moveTo>
                <a:lnTo>
                  <a:pt x="987" y="0"/>
                </a:lnTo>
                <a:lnTo>
                  <a:pt x="987" y="593"/>
                </a:lnTo>
                <a:lnTo>
                  <a:pt x="1483" y="593"/>
                </a:lnTo>
                <a:lnTo>
                  <a:pt x="741" y="848"/>
                </a:lnTo>
                <a:lnTo>
                  <a:pt x="0" y="593"/>
                </a:lnTo>
                <a:lnTo>
                  <a:pt x="494" y="593"/>
                </a:lnTo>
                <a:lnTo>
                  <a:pt x="494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638680" y="3657600"/>
            <a:ext cx="2438280" cy="76212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ENSC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3962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848" y="282"/>
                </a:moveTo>
                <a:lnTo>
                  <a:pt x="848" y="564"/>
                </a:lnTo>
                <a:lnTo>
                  <a:pt x="255" y="564"/>
                </a:lnTo>
                <a:lnTo>
                  <a:pt x="255" y="848"/>
                </a:lnTo>
                <a:lnTo>
                  <a:pt x="0" y="424"/>
                </a:lnTo>
                <a:lnTo>
                  <a:pt x="255" y="0"/>
                </a:lnTo>
                <a:lnTo>
                  <a:pt x="255" y="282"/>
                </a:lnTo>
                <a:lnTo>
                  <a:pt x="848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3657600"/>
            <a:ext cx="381240" cy="305280"/>
          </a:xfrm>
          <a:custGeom>
            <a:avLst/>
            <a:gdLst/>
            <a:ahLst/>
            <a:rect l="0" t="0" r="r" b="b"/>
            <a:pathLst>
              <a:path w="1059" h="848">
                <a:moveTo>
                  <a:pt x="0" y="282"/>
                </a:moveTo>
                <a:lnTo>
                  <a:pt x="0" y="564"/>
                </a:lnTo>
                <a:lnTo>
                  <a:pt x="741" y="564"/>
                </a:lnTo>
                <a:lnTo>
                  <a:pt x="741" y="848"/>
                </a:lnTo>
                <a:lnTo>
                  <a:pt x="1059" y="424"/>
                </a:lnTo>
                <a:lnTo>
                  <a:pt x="741" y="0"/>
                </a:lnTo>
                <a:lnTo>
                  <a:pt x="741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00400" y="464832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ified ASCII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114800" y="373392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ified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8120" y="320040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tatic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495680" y="403848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tatic ASCII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638680" y="4800600"/>
            <a:ext cx="1447920" cy="60948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SPR dr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638680" y="2590920"/>
            <a:ext cx="1447920" cy="60948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SCX dr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038480" y="2362320"/>
            <a:ext cx="1371600" cy="6858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SCX 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048120"/>
            <a:ext cx="2057760" cy="609840"/>
          </a:xfrm>
          <a:custGeom>
            <a:avLst/>
            <a:gdLst/>
            <a:ahLst/>
            <a:rect l="0" t="0" r="r" b="b"/>
            <a:pathLst>
              <a:path fill="none" w="5716" h="1694">
                <a:moveTo>
                  <a:pt x="0" y="1694"/>
                </a:moveTo>
                <a:lnTo>
                  <a:pt x="0" y="1694"/>
                </a:lnTo>
                <a:cubicBezTo>
                  <a:pt x="1003" y="1694"/>
                  <a:pt x="1989" y="1616"/>
                  <a:pt x="2857" y="1467"/>
                </a:cubicBezTo>
                <a:cubicBezTo>
                  <a:pt x="3727" y="1318"/>
                  <a:pt x="4448" y="1105"/>
                  <a:pt x="4950" y="847"/>
                </a:cubicBezTo>
                <a:cubicBezTo>
                  <a:pt x="5452" y="589"/>
                  <a:pt x="5716" y="297"/>
                  <a:pt x="5716" y="0"/>
                </a:cubicBezTo>
                <a:lnTo>
                  <a:pt x="5716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2895480"/>
            <a:ext cx="3048480" cy="762480"/>
          </a:xfrm>
          <a:custGeom>
            <a:avLst/>
            <a:gdLst/>
            <a:ahLst/>
            <a:rect l="0" t="0" r="r" b="b"/>
            <a:pathLst>
              <a:path fill="none" w="8468" h="2118">
                <a:moveTo>
                  <a:pt x="0" y="2118"/>
                </a:moveTo>
                <a:lnTo>
                  <a:pt x="0" y="2118"/>
                </a:lnTo>
                <a:cubicBezTo>
                  <a:pt x="1486" y="2118"/>
                  <a:pt x="2947" y="2020"/>
                  <a:pt x="4234" y="1834"/>
                </a:cubicBezTo>
                <a:cubicBezTo>
                  <a:pt x="5521" y="1648"/>
                  <a:pt x="6590" y="1381"/>
                  <a:pt x="7334" y="1059"/>
                </a:cubicBezTo>
                <a:cubicBezTo>
                  <a:pt x="8077" y="737"/>
                  <a:pt x="8468" y="372"/>
                  <a:pt x="8468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4419720"/>
            <a:ext cx="3048480" cy="762480"/>
          </a:xfrm>
          <a:custGeom>
            <a:avLst/>
            <a:gdLst/>
            <a:ahLst/>
            <a:rect l="0" t="0" r="r" b="b"/>
            <a:pathLst>
              <a:path fill="none" w="8468" h="2118">
                <a:moveTo>
                  <a:pt x="8468" y="2118"/>
                </a:moveTo>
                <a:lnTo>
                  <a:pt x="8468" y="2118"/>
                </a:lnTo>
                <a:lnTo>
                  <a:pt x="8468" y="2118"/>
                </a:lnTo>
                <a:cubicBezTo>
                  <a:pt x="8468" y="1746"/>
                  <a:pt x="8077" y="1381"/>
                  <a:pt x="7334" y="1059"/>
                </a:cubicBezTo>
                <a:cubicBezTo>
                  <a:pt x="6590" y="737"/>
                  <a:pt x="5521" y="470"/>
                  <a:pt x="4234" y="284"/>
                </a:cubicBezTo>
                <a:cubicBezTo>
                  <a:pt x="2947" y="98"/>
                  <a:pt x="148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7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97160" y="1001880"/>
            <a:ext cx="2749680" cy="58572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NSCR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133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371600" y="2362320"/>
            <a:ext cx="2438280" cy="6858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x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creen 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71600" y="3657600"/>
            <a:ext cx="2438280" cy="76212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SCRN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23880" y="5181480"/>
            <a:ext cx="2209680" cy="53352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oxP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urc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3200400"/>
            <a:ext cx="533880" cy="305280"/>
          </a:xfrm>
          <a:custGeom>
            <a:avLst/>
            <a:gdLst/>
            <a:ahLst/>
            <a:rect l="0" t="0" r="r" b="b"/>
            <a:pathLst>
              <a:path w="1483" h="848">
                <a:moveTo>
                  <a:pt x="494" y="0"/>
                </a:moveTo>
                <a:lnTo>
                  <a:pt x="987" y="0"/>
                </a:lnTo>
                <a:lnTo>
                  <a:pt x="987" y="593"/>
                </a:lnTo>
                <a:lnTo>
                  <a:pt x="1483" y="593"/>
                </a:lnTo>
                <a:lnTo>
                  <a:pt x="741" y="848"/>
                </a:lnTo>
                <a:lnTo>
                  <a:pt x="0" y="593"/>
                </a:lnTo>
                <a:lnTo>
                  <a:pt x="494" y="593"/>
                </a:lnTo>
                <a:lnTo>
                  <a:pt x="494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4648320"/>
            <a:ext cx="533880" cy="305280"/>
          </a:xfrm>
          <a:custGeom>
            <a:avLst/>
            <a:gdLst/>
            <a:ahLst/>
            <a:rect l="0" t="0" r="r" b="b"/>
            <a:pathLst>
              <a:path w="1483" h="848">
                <a:moveTo>
                  <a:pt x="494" y="0"/>
                </a:moveTo>
                <a:lnTo>
                  <a:pt x="987" y="0"/>
                </a:lnTo>
                <a:lnTo>
                  <a:pt x="987" y="593"/>
                </a:lnTo>
                <a:lnTo>
                  <a:pt x="1483" y="593"/>
                </a:lnTo>
                <a:lnTo>
                  <a:pt x="741" y="848"/>
                </a:lnTo>
                <a:lnTo>
                  <a:pt x="0" y="593"/>
                </a:lnTo>
                <a:lnTo>
                  <a:pt x="494" y="593"/>
                </a:lnTo>
                <a:lnTo>
                  <a:pt x="494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638680" y="3657600"/>
            <a:ext cx="2438280" cy="76212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ENSC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3962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848" y="282"/>
                </a:moveTo>
                <a:lnTo>
                  <a:pt x="848" y="564"/>
                </a:lnTo>
                <a:lnTo>
                  <a:pt x="255" y="564"/>
                </a:lnTo>
                <a:lnTo>
                  <a:pt x="255" y="848"/>
                </a:lnTo>
                <a:lnTo>
                  <a:pt x="0" y="424"/>
                </a:lnTo>
                <a:lnTo>
                  <a:pt x="255" y="0"/>
                </a:lnTo>
                <a:lnTo>
                  <a:pt x="255" y="282"/>
                </a:lnTo>
                <a:lnTo>
                  <a:pt x="848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3657600"/>
            <a:ext cx="381240" cy="305280"/>
          </a:xfrm>
          <a:custGeom>
            <a:avLst/>
            <a:gdLst/>
            <a:ahLst/>
            <a:rect l="0" t="0" r="r" b="b"/>
            <a:pathLst>
              <a:path w="1059" h="848">
                <a:moveTo>
                  <a:pt x="0" y="282"/>
                </a:moveTo>
                <a:lnTo>
                  <a:pt x="0" y="564"/>
                </a:lnTo>
                <a:lnTo>
                  <a:pt x="741" y="564"/>
                </a:lnTo>
                <a:lnTo>
                  <a:pt x="741" y="848"/>
                </a:lnTo>
                <a:lnTo>
                  <a:pt x="1059" y="424"/>
                </a:lnTo>
                <a:lnTo>
                  <a:pt x="741" y="0"/>
                </a:lnTo>
                <a:lnTo>
                  <a:pt x="741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00400" y="464832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ified ASCII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14800" y="373392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ified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8120" y="320040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tatic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95680" y="403848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tatic ASCII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38680" y="4800600"/>
            <a:ext cx="1447920" cy="60948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SPR dr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2895480"/>
            <a:ext cx="3048480" cy="762480"/>
          </a:xfrm>
          <a:custGeom>
            <a:avLst/>
            <a:gdLst/>
            <a:ahLst/>
            <a:rect l="0" t="0" r="r" b="b"/>
            <a:pathLst>
              <a:path fill="none" w="8468" h="2118">
                <a:moveTo>
                  <a:pt x="0" y="2118"/>
                </a:moveTo>
                <a:lnTo>
                  <a:pt x="0" y="2118"/>
                </a:lnTo>
                <a:cubicBezTo>
                  <a:pt x="1486" y="2118"/>
                  <a:pt x="2947" y="2020"/>
                  <a:pt x="4234" y="1834"/>
                </a:cubicBezTo>
                <a:cubicBezTo>
                  <a:pt x="5521" y="1648"/>
                  <a:pt x="6590" y="1381"/>
                  <a:pt x="7334" y="1059"/>
                </a:cubicBezTo>
                <a:cubicBezTo>
                  <a:pt x="8077" y="737"/>
                  <a:pt x="8468" y="372"/>
                  <a:pt x="8468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419720"/>
            <a:ext cx="3048480" cy="762480"/>
          </a:xfrm>
          <a:custGeom>
            <a:avLst/>
            <a:gdLst/>
            <a:ahLst/>
            <a:rect l="0" t="0" r="r" b="b"/>
            <a:pathLst>
              <a:path fill="none" w="8468" h="2118">
                <a:moveTo>
                  <a:pt x="8468" y="2118"/>
                </a:moveTo>
                <a:lnTo>
                  <a:pt x="8468" y="2118"/>
                </a:lnTo>
                <a:lnTo>
                  <a:pt x="8468" y="2118"/>
                </a:lnTo>
                <a:cubicBezTo>
                  <a:pt x="8468" y="1746"/>
                  <a:pt x="8077" y="1381"/>
                  <a:pt x="7334" y="1059"/>
                </a:cubicBezTo>
                <a:cubicBezTo>
                  <a:pt x="6590" y="737"/>
                  <a:pt x="5521" y="470"/>
                  <a:pt x="4234" y="284"/>
                </a:cubicBezTo>
                <a:cubicBezTo>
                  <a:pt x="2947" y="98"/>
                  <a:pt x="148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38680" y="2590920"/>
            <a:ext cx="1447920" cy="60948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SCX dr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038480" y="2362320"/>
            <a:ext cx="1371600" cy="6858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SCX 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048120"/>
            <a:ext cx="2057760" cy="609840"/>
          </a:xfrm>
          <a:custGeom>
            <a:avLst/>
            <a:gdLst/>
            <a:ahLst/>
            <a:rect l="0" t="0" r="r" b="b"/>
            <a:pathLst>
              <a:path fill="none" w="5716" h="1694">
                <a:moveTo>
                  <a:pt x="0" y="1694"/>
                </a:moveTo>
                <a:lnTo>
                  <a:pt x="0" y="1694"/>
                </a:lnTo>
                <a:cubicBezTo>
                  <a:pt x="1003" y="1694"/>
                  <a:pt x="1989" y="1616"/>
                  <a:pt x="2857" y="1467"/>
                </a:cubicBezTo>
                <a:cubicBezTo>
                  <a:pt x="3727" y="1318"/>
                  <a:pt x="4448" y="1105"/>
                  <a:pt x="4950" y="847"/>
                </a:cubicBezTo>
                <a:cubicBezTo>
                  <a:pt x="5452" y="589"/>
                  <a:pt x="5716" y="297"/>
                  <a:pt x="5716" y="0"/>
                </a:cubicBezTo>
                <a:lnTo>
                  <a:pt x="5716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