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1657440" y="912960"/>
            <a:ext cx="163440" cy="1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"/>
          <p:cNvSpPr/>
          <p:nvPr/>
        </p:nvSpPr>
        <p:spPr>
          <a:xfrm>
            <a:off x="1720800" y="1630440"/>
            <a:ext cx="163440" cy="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"/>
          <p:cNvSpPr txBox="1"/>
          <p:nvPr/>
        </p:nvSpPr>
        <p:spPr>
          <a:xfrm>
            <a:off x="53172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i="1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Visual C++ Wizard Gene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1657440" y="912960"/>
            <a:ext cx="163440" cy="1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235160" y="689040"/>
            <a:ext cx="5183280" cy="194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KnowledgeSoft, Inc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Book Antiqua"/>
                <a:ea typeface="Book Antiqua"/>
              </a:rPr>
              <a:t>Presents SoftM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629400" y="0"/>
            <a:ext cx="2286000" cy="1981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642000" y="23760"/>
            <a:ext cx="2235240" cy="19875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5516640" y="5164200"/>
            <a:ext cx="3489480" cy="93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  <a:ea typeface="Book Antiqua"/>
              </a:rPr>
              <a:t>Press Enter to Continue on each slid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  <a:ea typeface="Book Antiqua"/>
              </a:rPr>
              <a:t>ESC Key to cance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270000" y="4035600"/>
            <a:ext cx="3882960" cy="248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  <a:ea typeface="Book Antiqua"/>
              </a:rPr>
              <a:t>Slide Show is desig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  <a:ea typeface="Book Antiqua"/>
              </a:rPr>
              <a:t>to give you a snap sh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  <a:ea typeface="Book Antiqua"/>
              </a:rPr>
              <a:t>view of the SoftMate Produ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  <a:ea typeface="Book Antiqua"/>
              </a:rPr>
              <a:t>We elimanted color and backgr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  <a:ea typeface="Book Antiqua"/>
              </a:rPr>
              <a:t>bitmaps to make efficient .zip fi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  <a:ea typeface="Book Antiqua"/>
              </a:rPr>
              <a:t>download for yo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33480" y="442800"/>
            <a:ext cx="9097920" cy="60912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 txBox="1"/>
          <p:nvPr/>
        </p:nvSpPr>
        <p:spPr>
          <a:xfrm>
            <a:off x="3211560" y="119160"/>
            <a:ext cx="20368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  <a:ea typeface="Book Antiqua"/>
              </a:rPr>
              <a:t>Add Initial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676840" y="2124000"/>
            <a:ext cx="3305520" cy="929160"/>
          </a:xfrm>
          <a:custGeom>
            <a:avLst/>
            <a:gdLst/>
            <a:ahLst/>
            <a:rect l="0" t="0" r="r" b="b"/>
            <a:pathLst>
              <a:path w="9182" h="2581">
                <a:moveTo>
                  <a:pt x="0" y="257"/>
                </a:moveTo>
                <a:lnTo>
                  <a:pt x="0" y="2065"/>
                </a:lnTo>
                <a:lnTo>
                  <a:pt x="918" y="2323"/>
                </a:lnTo>
                <a:lnTo>
                  <a:pt x="1836" y="2323"/>
                </a:lnTo>
                <a:lnTo>
                  <a:pt x="918" y="2581"/>
                </a:lnTo>
                <a:lnTo>
                  <a:pt x="2754" y="2323"/>
                </a:lnTo>
                <a:lnTo>
                  <a:pt x="8263" y="2323"/>
                </a:lnTo>
                <a:lnTo>
                  <a:pt x="9182" y="2065"/>
                </a:lnTo>
                <a:lnTo>
                  <a:pt x="9182" y="257"/>
                </a:lnTo>
                <a:lnTo>
                  <a:pt x="8263" y="0"/>
                </a:lnTo>
                <a:lnTo>
                  <a:pt x="918" y="0"/>
                </a:lnTo>
                <a:lnTo>
                  <a:pt x="0" y="257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5891040" y="2165400"/>
            <a:ext cx="2811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919191"/>
                </a:solidFill>
                <a:latin typeface="Book Antiqua"/>
                <a:ea typeface="Book Antiqua"/>
              </a:rPr>
              <a:t>You can add initial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919191"/>
                </a:solidFill>
                <a:latin typeface="Book Antiqua"/>
                <a:ea typeface="Book Antiqua"/>
              </a:rPr>
              <a:t>for each of your contro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2351160" y="177840"/>
            <a:ext cx="6013440" cy="93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  <a:ea typeface="Book Antiqua"/>
              </a:rPr>
              <a:t>Developer can view applications created from one scre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  <a:ea typeface="Book Antiqua"/>
              </a:rPr>
              <a:t>Click on ICON representing 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806400"/>
            <a:ext cx="9086760" cy="57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219240"/>
            <a:ext cx="7991640" cy="65851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4983120" y="193680"/>
            <a:ext cx="4148280" cy="60930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4878360" y="4640400"/>
            <a:ext cx="4253040" cy="2205000"/>
          </a:xfrm>
          <a:prstGeom prst="rect">
            <a:avLst/>
          </a:prstGeom>
          <a:solidFill>
            <a:srgbClr val="000000"/>
          </a:solidFill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973760" y="5175360"/>
            <a:ext cx="4059360" cy="96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919191"/>
                </a:solidFill>
                <a:latin typeface="Book Antiqua"/>
                <a:ea typeface="Book Antiqua"/>
              </a:rPr>
              <a:t>After Clicking on an ICON, you can view 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919191"/>
                </a:solidFill>
                <a:latin typeface="Book Antiqua"/>
                <a:ea typeface="Book Antiqua"/>
              </a:rPr>
              <a:t>edit the .CPP application and the .H file alo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919191"/>
                </a:solidFill>
                <a:latin typeface="Book Antiqua"/>
                <a:ea typeface="Book Antiqua"/>
              </a:rPr>
              <a:t>with inserting from Hundreds of Plug In Prebuil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919191"/>
                </a:solidFill>
                <a:latin typeface="Book Antiqua"/>
                <a:ea typeface="Book Antiqua"/>
              </a:rPr>
              <a:t>Functio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1066680"/>
            <a:ext cx="8610480" cy="49528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 txBox="1"/>
          <p:nvPr/>
        </p:nvSpPr>
        <p:spPr>
          <a:xfrm>
            <a:off x="2398680" y="119160"/>
            <a:ext cx="2617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  <a:ea typeface="Book Antiqua"/>
              </a:rPr>
              <a:t>True Class Grid 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535720" y="184320"/>
            <a:ext cx="3564360" cy="1786320"/>
          </a:xfrm>
          <a:custGeom>
            <a:avLst/>
            <a:gdLst/>
            <a:ahLst/>
            <a:rect l="0" t="0" r="r" b="b"/>
            <a:pathLst>
              <a:path w="9901" h="4962">
                <a:moveTo>
                  <a:pt x="0" y="496"/>
                </a:moveTo>
                <a:lnTo>
                  <a:pt x="0" y="3970"/>
                </a:lnTo>
                <a:lnTo>
                  <a:pt x="989" y="4466"/>
                </a:lnTo>
                <a:lnTo>
                  <a:pt x="1979" y="4466"/>
                </a:lnTo>
                <a:lnTo>
                  <a:pt x="989" y="4962"/>
                </a:lnTo>
                <a:lnTo>
                  <a:pt x="2970" y="4466"/>
                </a:lnTo>
                <a:lnTo>
                  <a:pt x="8911" y="4466"/>
                </a:lnTo>
                <a:lnTo>
                  <a:pt x="9901" y="3970"/>
                </a:lnTo>
                <a:lnTo>
                  <a:pt x="9901" y="496"/>
                </a:lnTo>
                <a:lnTo>
                  <a:pt x="8911" y="0"/>
                </a:lnTo>
                <a:lnTo>
                  <a:pt x="989" y="0"/>
                </a:lnTo>
                <a:lnTo>
                  <a:pt x="0" y="496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5843520" y="330120"/>
            <a:ext cx="289260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919191"/>
                </a:solidFill>
                <a:latin typeface="Book Antiqua"/>
                <a:ea typeface="Book Antiqua"/>
              </a:rPr>
              <a:t>Enter the number of rows on a p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919191"/>
              </a:buClr>
              <a:buFont typeface="Monotype Sorts"/>
              <a:buChar char=""/>
            </a:pPr>
            <a:r>
              <a:rPr b="0" lang="en-US" sz="1200" spc="-1" strike="noStrike">
                <a:solidFill>
                  <a:srgbClr val="919191"/>
                </a:solidFill>
                <a:latin typeface="Book Antiqua"/>
                <a:ea typeface="Book Antiqua"/>
              </a:rPr>
              <a:t>Member names to bind fro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919191"/>
              </a:buClr>
              <a:buFont typeface="Monotype Sorts"/>
              <a:buChar char=""/>
            </a:pPr>
            <a:r>
              <a:rPr b="0" lang="en-US" sz="1200" spc="-1" strike="noStrike">
                <a:solidFill>
                  <a:srgbClr val="919191"/>
                </a:solidFill>
                <a:latin typeface="Book Antiqua"/>
                <a:ea typeface="Book Antiqua"/>
              </a:rPr>
              <a:t>Member Ty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919191"/>
              </a:buClr>
              <a:buFont typeface="Monotype Sorts"/>
              <a:buChar char=""/>
            </a:pPr>
            <a:r>
              <a:rPr b="0" lang="en-US" sz="1200" spc="-1" strike="noStrike">
                <a:solidFill>
                  <a:srgbClr val="919191"/>
                </a:solidFill>
                <a:latin typeface="Book Antiqua"/>
                <a:ea typeface="Book Antiqua"/>
              </a:rPr>
              <a:t>ODBC Field Na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919191"/>
                </a:solidFill>
                <a:latin typeface="Book Antiqua"/>
                <a:ea typeface="Book Antiqua"/>
              </a:rPr>
              <a:t>Browse for complete ODBC in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535800" y="5522760"/>
            <a:ext cx="2517840" cy="1150920"/>
          </a:xfrm>
          <a:prstGeom prst="rect">
            <a:avLst/>
          </a:prstGeom>
          <a:solidFill>
            <a:srgbClr val="000000"/>
          </a:solidFill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497640" y="5592600"/>
            <a:ext cx="2482920" cy="82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919191"/>
                </a:solidFill>
                <a:latin typeface="Book Antiqua"/>
                <a:ea typeface="Book Antiqua"/>
              </a:rPr>
              <a:t>SQL Select, Update, Delete, Add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919191"/>
                </a:solidFill>
                <a:latin typeface="Book Antiqua"/>
                <a:ea typeface="Book Antiqua"/>
              </a:rPr>
              <a:t>is automatically added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919191"/>
                </a:solidFill>
                <a:latin typeface="Book Antiqua"/>
                <a:ea typeface="Book Antiqua"/>
              </a:rPr>
              <a:t>Grid Contro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44440" y="6356520"/>
            <a:ext cx="5173560" cy="37620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76200" y="6397560"/>
            <a:ext cx="5046840" cy="4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919191"/>
                </a:solidFill>
                <a:latin typeface="Book Antiqua"/>
                <a:ea typeface="Book Antiqua"/>
              </a:rPr>
              <a:t>Use the SoftMate Grid Plug In Functions to quickly  develop ap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03320" y="88920"/>
            <a:ext cx="2104920" cy="92880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104760" y="95400"/>
            <a:ext cx="216360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919191"/>
                </a:solidFill>
                <a:latin typeface="Book Antiqua"/>
                <a:ea typeface="Book Antiqua"/>
              </a:rPr>
              <a:t>Grid is created with stand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919191"/>
                </a:solidFill>
                <a:latin typeface="Book Antiqua"/>
                <a:ea typeface="Book Antiqua"/>
              </a:rPr>
              <a:t>Navigation  controls to scro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919191"/>
                </a:solidFill>
                <a:latin typeface="Book Antiqua"/>
                <a:ea typeface="Book Antiqua"/>
              </a:rPr>
              <a:t>through Gri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124000" y="141120"/>
            <a:ext cx="1847880" cy="105408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 txBox="1"/>
          <p:nvPr/>
        </p:nvSpPr>
        <p:spPr>
          <a:xfrm>
            <a:off x="4203720" y="-182520"/>
            <a:ext cx="3206880" cy="704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Hundreds of Plug In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Calenda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y - Month - Year Numb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String a Valid D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Year  a LeapYe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umber of  Days Af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y After DOS Promp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vert Date to a Str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nth, Day, Year Descrip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ll Calendar Descrip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DOS and X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ose File, Delete File, ExistsFile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ngth of File, Open File, Read a File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tion To File, Writ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On-Line Windows Hel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b7a5"/>
                </a:solidFill>
                <a:latin typeface="Times New Roman"/>
                <a:ea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 Keywor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 Ind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 Mess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Miscellanou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b7a5"/>
                </a:solidFill>
                <a:latin typeface="Times New Roman"/>
                <a:ea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solute Valu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ulus Valu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ndom Numb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und Up Numb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quare Roo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py a String toClipboar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ort String From Clipboar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-Und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d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l an Ex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b7a5"/>
                </a:solidFill>
                <a:latin typeface="Times New Roman"/>
                <a:ea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aw T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ssageB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K_Func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acter Key 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354720" y="457200"/>
            <a:ext cx="2744640" cy="64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ListBo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 Elements, Clear Elements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py Elements to a Str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t Elements, Directory, Find Item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an Item, Start of Selection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d of Selection, IsItem Selected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tal Items, Insert an I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I Fil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Ini Value Str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t Ini Value Str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Ini Value Numb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t Ini Value Numb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MANIPULATE                         Gri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gn                                 Protect Cel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ing to Number          Protect Colum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String a Number        Protect a Ro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ing to Date                Highlight &amp; Selec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String  a Date             Scroll To Ro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Month a Date             Insert A Row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ing to Time               Get Cell Valu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ing to Decimal          Delete a Ro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cimal to Str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ing to DateTi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String a DateTi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apYear 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umber to Str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e to Str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me to Str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eTime toStr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String Nu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and  more. . . . . 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906560" y="1111320"/>
            <a:ext cx="239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ant Sol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035080" y="1566720"/>
            <a:ext cx="2210040" cy="0"/>
          </a:xfrm>
          <a:prstGeom prst="line">
            <a:avLst/>
          </a:prstGeom>
          <a:ln w="25560">
            <a:solidFill>
              <a:srgbClr val="00279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xt Ste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1981080"/>
            <a:ext cx="7772400" cy="27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ue Class Grid 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ODBC auto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CX Controls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plug in functions to inse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95 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SN and CompuServe NetWork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0" y="76320"/>
            <a:ext cx="8858160" cy="117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Book Antiqua"/>
                <a:ea typeface="Book Antiqua"/>
              </a:rPr>
              <a:t>SoftMate From KnowledgeSof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193760" y="1147680"/>
            <a:ext cx="6400800" cy="132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ank You for Viewing our Snap Shot Slide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1633680" y="4610160"/>
            <a:ext cx="7007400" cy="186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  <a:ea typeface="Book Antiqua"/>
              </a:rPr>
              <a:t>To Order SoftMate:  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  <a:ea typeface="Book Antiqu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  <a:ea typeface="Book Antiqu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  <a:ea typeface="Book Antiqua"/>
              </a:rPr>
              <a:t>Call 708-637-139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  <a:ea typeface="Book Antiqua"/>
              </a:rPr>
              <a:t>KnowledgeSoft, Inc.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  <a:ea typeface="Book Antiqu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  <a:ea typeface="Book Antiqu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  <a:ea typeface="Book Antiqua"/>
              </a:rPr>
              <a:t>Fax  708-637-139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  <a:ea typeface="Book Antiqua"/>
              </a:rPr>
              <a:t>105 Robin Hill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  <a:ea typeface="Book Antiqu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  <a:ea typeface="Book Antiqu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  <a:ea typeface="Book Antiqu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mpuServe - GO SOFTM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  <a:ea typeface="Book Antiqua"/>
              </a:rPr>
              <a:t>Naperville, IL 605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  <a:ea typeface="Book Antiqua"/>
              </a:rPr>
              <a:t>Product price $395.00.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492200" y="2543040"/>
            <a:ext cx="7077240" cy="24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  <a:ea typeface="Book Antiqua"/>
              </a:rPr>
              <a:t>What you’ll find at KnowledgeSoft is a real commi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  <a:ea typeface="Book Antiqua"/>
              </a:rPr>
              <a:t>to answering the needs of today’s developers.  We w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  <a:ea typeface="Book Antiqua"/>
              </a:rPr>
              <a:t>to make Native MS-Visual C++ as easy to use as any 4G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  <a:ea typeface="Book Antiqua"/>
              </a:rPr>
              <a:t>or 3GL solution on the market today.  Painlessly, let SoftM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  <a:ea typeface="Book Antiqua"/>
              </a:rPr>
              <a:t>show you how with real source code that’s yours!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  <a:ea typeface="Book Antiqua"/>
              </a:rPr>
              <a:t>A tool to learn from and use everyday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714680" y="2664000"/>
            <a:ext cx="5784840" cy="27748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 txBox="1"/>
          <p:nvPr/>
        </p:nvSpPr>
        <p:spPr>
          <a:xfrm>
            <a:off x="1371600" y="476280"/>
            <a:ext cx="7759800" cy="12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ickly Create State of the Art MFC  Windows Applic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        </a:t>
            </a:r>
            <a:r>
              <a:rPr b="0" lang="en-US" sz="32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t’s easy when you know how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79200" y="3498840"/>
            <a:ext cx="4156200" cy="29289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87480" y="3825720"/>
            <a:ext cx="5580000" cy="2570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2616120" y="3251160"/>
            <a:ext cx="2673360" cy="27273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5"/>
          <a:stretch/>
        </p:blipFill>
        <p:spPr>
          <a:xfrm>
            <a:off x="3349800" y="4016520"/>
            <a:ext cx="499104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1477800" y="5256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eak down the learning cur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503280" y="1285920"/>
            <a:ext cx="7772400" cy="41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controls and bind to any ODBC 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just SQL Stat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Events, Edit Masks  and Initial val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 Additional Custom Controls (11) including True Class Gr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ew Applications with project represented as IC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ert Plug In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e new project file in Native MS-Visual C++ and your don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98600" y="3978360"/>
            <a:ext cx="7034040" cy="15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2151000" y="1082520"/>
            <a:ext cx="55497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  <a:ea typeface="Book Antiqua"/>
              </a:rPr>
              <a:t>Wizard builds a dialog within a MDI Frame.  Dialo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ntains standard controls as well as custom contr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  <a:ea typeface="Book Antiqua"/>
              </a:rPr>
              <a:t>that can be binded to multiple ODBC record se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1760400" y="277920"/>
            <a:ext cx="681048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eting the Need to Quickly Expand Knowled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66600" y="2306520"/>
            <a:ext cx="2460600" cy="28843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 txBox="1"/>
          <p:nvPr/>
        </p:nvSpPr>
        <p:spPr>
          <a:xfrm>
            <a:off x="2712960" y="1843200"/>
            <a:ext cx="6370560" cy="232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mediate Understand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ant Navigation of MF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wareness to look bey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 more with Less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% Microsoft Visual C++ 1.51 - 4.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Third party libraries to buy i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3092400" y="0"/>
            <a:ext cx="19890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  <a:ea typeface="Book Antiqua"/>
              </a:rPr>
              <a:t>Fill in Prefere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301680"/>
            <a:ext cx="9131400" cy="625464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6191280" y="2019240"/>
            <a:ext cx="2787480" cy="2575080"/>
          </a:xfrm>
          <a:prstGeom prst="rect">
            <a:avLst/>
          </a:prstGeom>
          <a:solidFill>
            <a:srgbClr val="000000"/>
          </a:solidFill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6208560" y="2170080"/>
            <a:ext cx="2867040" cy="26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1400" spc="-1" strike="noStrike">
                <a:solidFill>
                  <a:srgbClr val="919191"/>
                </a:solidFill>
                <a:latin typeface="Book Antiqua"/>
                <a:ea typeface="Book Antiqua"/>
              </a:rPr>
              <a:t>Enter Title Bar Descrip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1400" spc="-1" strike="noStrike">
                <a:solidFill>
                  <a:srgbClr val="919191"/>
                </a:solidFill>
                <a:latin typeface="Book Antiqua"/>
                <a:ea typeface="Book Antiqua"/>
              </a:rPr>
              <a:t>Project Na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1400" spc="-1" strike="noStrike">
                <a:solidFill>
                  <a:srgbClr val="919191"/>
                </a:solidFill>
                <a:latin typeface="Book Antiqua"/>
                <a:ea typeface="Book Antiqua"/>
              </a:rPr>
              <a:t>Select Application 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1400" spc="-1" strike="noStrike">
                <a:solidFill>
                  <a:srgbClr val="919191"/>
                </a:solidFill>
                <a:latin typeface="Book Antiqua"/>
                <a:ea typeface="Book Antiqua"/>
              </a:rPr>
              <a:t>Optional Splash Windo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1400" spc="-1" strike="noStrike">
                <a:solidFill>
                  <a:srgbClr val="919191"/>
                </a:solidFill>
                <a:latin typeface="Book Antiqua"/>
                <a:ea typeface="Book Antiqua"/>
              </a:rPr>
              <a:t>Optional Bitmap Backgrou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919191"/>
                </a:solidFill>
                <a:latin typeface="Book Antiqua"/>
                <a:ea typeface="Book Antiqua"/>
              </a:rPr>
              <a:t>  </a:t>
            </a:r>
            <a:r>
              <a:rPr b="0" lang="en-US" sz="1400" spc="-1" strike="noStrike">
                <a:solidFill>
                  <a:srgbClr val="919191"/>
                </a:solidFill>
                <a:latin typeface="Book Antiqua"/>
                <a:ea typeface="Book Antiqua"/>
              </a:rPr>
              <a:t>on Dialo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1400" spc="-1" strike="noStrike">
                <a:solidFill>
                  <a:srgbClr val="919191"/>
                </a:solidFill>
                <a:latin typeface="Book Antiqua"/>
                <a:ea typeface="Book Antiqua"/>
              </a:rPr>
              <a:t>Optional Window Bitmap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919191"/>
                </a:solidFill>
                <a:latin typeface="Book Antiqua"/>
                <a:ea typeface="Book Antiqua"/>
              </a:rPr>
              <a:t>  </a:t>
            </a:r>
            <a:r>
              <a:rPr b="0" lang="en-US" sz="1400" spc="-1" strike="noStrike">
                <a:solidFill>
                  <a:srgbClr val="919191"/>
                </a:solidFill>
                <a:latin typeface="Book Antiqua"/>
                <a:ea typeface="Book Antiqua"/>
              </a:rPr>
              <a:t>Background on MDI Fra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1400" spc="-1" strike="noStrike">
                <a:solidFill>
                  <a:srgbClr val="919191"/>
                </a:solidFill>
                <a:latin typeface="Book Antiqua"/>
                <a:ea typeface="Book Antiqua"/>
              </a:rPr>
              <a:t>Main Dialog is displayed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919191"/>
                </a:solidFill>
                <a:latin typeface="Book Antiqua"/>
                <a:ea typeface="Book Antiqua"/>
              </a:rPr>
              <a:t> </a:t>
            </a:r>
            <a:r>
              <a:rPr b="0" lang="en-US" sz="1400" spc="-1" strike="noStrike">
                <a:solidFill>
                  <a:srgbClr val="919191"/>
                </a:solidFill>
                <a:latin typeface="Book Antiqua"/>
                <a:ea typeface="Book Antiqua"/>
              </a:rPr>
              <a:t>on start-up or displayed from a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919191"/>
                </a:solidFill>
                <a:latin typeface="Book Antiqua"/>
                <a:ea typeface="Book Antiqua"/>
              </a:rPr>
              <a:t> </a:t>
            </a:r>
            <a:r>
              <a:rPr b="0" lang="en-US" sz="1400" spc="-1" strike="noStrike">
                <a:solidFill>
                  <a:srgbClr val="919191"/>
                </a:solidFill>
                <a:latin typeface="Book Antiqua"/>
                <a:ea typeface="Book Antiqua"/>
              </a:rPr>
              <a:t>Menu bar op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3360" y="3852720"/>
            <a:ext cx="2787480" cy="1892160"/>
          </a:xfrm>
          <a:prstGeom prst="rect">
            <a:avLst/>
          </a:prstGeom>
          <a:solidFill>
            <a:srgbClr val="000000"/>
          </a:solidFill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7520" y="3921120"/>
            <a:ext cx="2795760" cy="200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1400" spc="-1" strike="noStrike">
                <a:solidFill>
                  <a:srgbClr val="919191"/>
                </a:solidFill>
                <a:latin typeface="Book Antiqua"/>
                <a:ea typeface="Book Antiqua"/>
              </a:rPr>
              <a:t>Application Typ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919191"/>
              </a:buClr>
              <a:buFont typeface="Monotype Sorts"/>
              <a:buChar char=""/>
            </a:pPr>
            <a:r>
              <a:rPr b="0" lang="en-US" sz="1400" spc="-1" strike="noStrike">
                <a:solidFill>
                  <a:srgbClr val="919191"/>
                </a:solidFill>
                <a:latin typeface="Book Antiqua"/>
                <a:ea typeface="Book Antiqua"/>
              </a:rPr>
              <a:t> </a:t>
            </a:r>
            <a:r>
              <a:rPr b="0" lang="en-US" sz="1400" spc="-1" strike="noStrike">
                <a:solidFill>
                  <a:srgbClr val="919191"/>
                </a:solidFill>
                <a:latin typeface="Book Antiqua"/>
                <a:ea typeface="Book Antiqua"/>
              </a:rPr>
              <a:t>Visual for custom appl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919191"/>
                </a:solidFill>
                <a:latin typeface="Book Antiqua"/>
                <a:ea typeface="Book Antiqua"/>
              </a:rPr>
              <a:t>    </a:t>
            </a:r>
            <a:r>
              <a:rPr b="0" lang="en-US" sz="1400" spc="-1" strike="noStrike">
                <a:solidFill>
                  <a:srgbClr val="919191"/>
                </a:solidFill>
                <a:latin typeface="Book Antiqua"/>
                <a:ea typeface="Book Antiqua"/>
              </a:rPr>
              <a:t>Standard Controls, 11 Cust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919191"/>
                </a:solidFill>
                <a:latin typeface="Book Antiqua"/>
                <a:ea typeface="Book Antiqua"/>
              </a:rPr>
              <a:t>    </a:t>
            </a:r>
            <a:r>
              <a:rPr b="0" lang="en-US" sz="1400" spc="-1" strike="noStrike">
                <a:solidFill>
                  <a:srgbClr val="919191"/>
                </a:solidFill>
                <a:latin typeface="Book Antiqua"/>
                <a:ea typeface="Book Antiqua"/>
              </a:rPr>
              <a:t>Controls, including a Tr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919191"/>
                </a:solidFill>
                <a:latin typeface="Book Antiqua"/>
                <a:ea typeface="Book Antiqua"/>
              </a:rPr>
              <a:t>    </a:t>
            </a:r>
            <a:r>
              <a:rPr b="0" lang="en-US" sz="1400" spc="-1" strike="noStrike">
                <a:solidFill>
                  <a:srgbClr val="919191"/>
                </a:solidFill>
                <a:latin typeface="Book Antiqua"/>
                <a:ea typeface="Book Antiqua"/>
              </a:rPr>
              <a:t>Class Grid Contr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919191"/>
              </a:buClr>
              <a:buFont typeface="Monotype Sorts"/>
              <a:buChar char=""/>
            </a:pPr>
            <a:r>
              <a:rPr b="0" lang="en-US" sz="1400" spc="-1" strike="noStrike">
                <a:solidFill>
                  <a:srgbClr val="919191"/>
                </a:solidFill>
                <a:latin typeface="Book Antiqua"/>
                <a:ea typeface="Book Antiqua"/>
              </a:rPr>
              <a:t>Detail Report, Labels  an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919191"/>
                </a:solidFill>
                <a:latin typeface="Book Antiqua"/>
                <a:ea typeface="Book Antiqua"/>
              </a:rPr>
              <a:t>   </a:t>
            </a:r>
            <a:r>
              <a:rPr b="0" lang="en-US" sz="1400" spc="-1" strike="noStrike">
                <a:solidFill>
                  <a:srgbClr val="919191"/>
                </a:solidFill>
                <a:latin typeface="Book Antiqua"/>
                <a:ea typeface="Book Antiqua"/>
              </a:rPr>
              <a:t>Animation are separate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919191"/>
                </a:solidFill>
                <a:latin typeface="Book Antiqua"/>
                <a:ea typeface="Book Antiqua"/>
              </a:rPr>
              <a:t>   </a:t>
            </a:r>
            <a:r>
              <a:rPr b="0" lang="en-US" sz="1400" spc="-1" strike="noStrike">
                <a:solidFill>
                  <a:srgbClr val="919191"/>
                </a:solidFill>
                <a:latin typeface="Book Antiqua"/>
                <a:ea typeface="Book Antiqua"/>
              </a:rPr>
              <a:t>Generation  option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395280"/>
            <a:ext cx="9131400" cy="64501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 txBox="1"/>
          <p:nvPr/>
        </p:nvSpPr>
        <p:spPr>
          <a:xfrm>
            <a:off x="3092400" y="119160"/>
            <a:ext cx="2678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  <a:ea typeface="Book Antiqua"/>
              </a:rPr>
              <a:t>Select Standard Contr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888160" y="30240"/>
            <a:ext cx="3081600" cy="1929240"/>
          </a:xfrm>
          <a:custGeom>
            <a:avLst/>
            <a:gdLst/>
            <a:ahLst/>
            <a:rect l="0" t="0" r="r" b="b"/>
            <a:pathLst>
              <a:path w="8560" h="5359">
                <a:moveTo>
                  <a:pt x="0" y="535"/>
                </a:moveTo>
                <a:lnTo>
                  <a:pt x="0" y="4288"/>
                </a:lnTo>
                <a:lnTo>
                  <a:pt x="855" y="4824"/>
                </a:lnTo>
                <a:lnTo>
                  <a:pt x="1711" y="4824"/>
                </a:lnTo>
                <a:lnTo>
                  <a:pt x="855" y="5359"/>
                </a:lnTo>
                <a:lnTo>
                  <a:pt x="2567" y="4824"/>
                </a:lnTo>
                <a:lnTo>
                  <a:pt x="7704" y="4824"/>
                </a:lnTo>
                <a:lnTo>
                  <a:pt x="8560" y="4288"/>
                </a:lnTo>
                <a:lnTo>
                  <a:pt x="8560" y="535"/>
                </a:lnTo>
                <a:lnTo>
                  <a:pt x="7704" y="0"/>
                </a:lnTo>
                <a:lnTo>
                  <a:pt x="855" y="0"/>
                </a:lnTo>
                <a:lnTo>
                  <a:pt x="0" y="535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089760" y="93600"/>
            <a:ext cx="279396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919191"/>
                </a:solidFill>
                <a:latin typeface="Book Antiqua"/>
                <a:ea typeface="Book Antiqua"/>
              </a:rPr>
              <a:t>Select Control Type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1400" spc="-1" strike="noStrike">
                <a:solidFill>
                  <a:srgbClr val="919191"/>
                </a:solidFill>
                <a:latin typeface="Book Antiqua"/>
                <a:ea typeface="Book Antiqua"/>
              </a:rPr>
              <a:t>Enter Control ID &amp; Resource 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1400" spc="-1" strike="noStrike">
                <a:solidFill>
                  <a:srgbClr val="919191"/>
                </a:solidFill>
                <a:latin typeface="Book Antiqua"/>
                <a:ea typeface="Book Antiqua"/>
              </a:rPr>
              <a:t>Member Na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1400" spc="-1" strike="noStrike">
                <a:solidFill>
                  <a:srgbClr val="919191"/>
                </a:solidFill>
                <a:latin typeface="Book Antiqua"/>
                <a:ea typeface="Book Antiqua"/>
              </a:rPr>
              <a:t>Member 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1400" spc="-1" strike="noStrike">
                <a:solidFill>
                  <a:srgbClr val="919191"/>
                </a:solidFill>
                <a:latin typeface="Book Antiqua"/>
                <a:ea typeface="Book Antiqua"/>
              </a:rPr>
              <a:t>ODBC Table Field to Bind t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1400" spc="-1" strike="noStrike">
                <a:solidFill>
                  <a:srgbClr val="919191"/>
                </a:solidFill>
                <a:latin typeface="Book Antiqua"/>
                <a:ea typeface="Book Antiqua"/>
              </a:rPr>
              <a:t>Min and Max Range for Long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724360" y="6060960"/>
            <a:ext cx="3211560" cy="67140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5715000" y="6149880"/>
            <a:ext cx="3241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919191"/>
                </a:solidFill>
                <a:latin typeface="Book Antiqua"/>
                <a:ea typeface="Book Antiqua"/>
              </a:rPr>
              <a:t>ODBC Browse Button Pulls in all your ODB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919191"/>
                </a:solidFill>
                <a:latin typeface="Book Antiqua"/>
                <a:ea typeface="Book Antiqua"/>
              </a:rPr>
              <a:t>information for yo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33480" y="560520"/>
            <a:ext cx="9097920" cy="621972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 txBox="1"/>
          <p:nvPr/>
        </p:nvSpPr>
        <p:spPr>
          <a:xfrm>
            <a:off x="3092400" y="119160"/>
            <a:ext cx="2678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  <a:ea typeface="Book Antiqua"/>
              </a:rPr>
              <a:t>Select Standard Contr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726080" y="2782800"/>
            <a:ext cx="4243680" cy="2683080"/>
          </a:xfrm>
          <a:custGeom>
            <a:avLst/>
            <a:gdLst/>
            <a:ahLst/>
            <a:rect l="0" t="0" r="r" b="b"/>
            <a:pathLst>
              <a:path w="11788" h="7453">
                <a:moveTo>
                  <a:pt x="0" y="745"/>
                </a:moveTo>
                <a:lnTo>
                  <a:pt x="0" y="5962"/>
                </a:lnTo>
                <a:lnTo>
                  <a:pt x="1178" y="6708"/>
                </a:lnTo>
                <a:lnTo>
                  <a:pt x="2357" y="6708"/>
                </a:lnTo>
                <a:lnTo>
                  <a:pt x="1178" y="7453"/>
                </a:lnTo>
                <a:lnTo>
                  <a:pt x="3536" y="6708"/>
                </a:lnTo>
                <a:lnTo>
                  <a:pt x="10609" y="6708"/>
                </a:lnTo>
                <a:lnTo>
                  <a:pt x="11788" y="5962"/>
                </a:lnTo>
                <a:lnTo>
                  <a:pt x="11788" y="745"/>
                </a:lnTo>
                <a:lnTo>
                  <a:pt x="10609" y="0"/>
                </a:lnTo>
                <a:lnTo>
                  <a:pt x="1178" y="0"/>
                </a:lnTo>
                <a:lnTo>
                  <a:pt x="0" y="745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995720" y="3105000"/>
            <a:ext cx="38559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919191"/>
                </a:solidFill>
                <a:latin typeface="Book Antiqua"/>
                <a:ea typeface="Book Antiqua"/>
              </a:rPr>
              <a:t>Check SQL Command Buttons.  Checked  Buttons create associated SQL Select, Update, Delete Pu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919191"/>
                </a:solidFill>
                <a:latin typeface="Book Antiqua"/>
                <a:ea typeface="Book Antiqua"/>
              </a:rPr>
              <a:t>Buttons on the main Dialog</a:t>
            </a:r>
            <a:r>
              <a:rPr b="0" lang="en-US" sz="1200" spc="-1" strike="noStrike">
                <a:solidFill>
                  <a:srgbClr val="919191"/>
                </a:solidFill>
                <a:latin typeface="Book Antiqua"/>
                <a:ea typeface="Book Antiqu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430200"/>
            <a:ext cx="9131400" cy="638496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2398680" y="119160"/>
            <a:ext cx="3587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  <a:ea typeface="Book Antiqua"/>
              </a:rPr>
              <a:t>Add Additional Custom Contr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877000" y="2724120"/>
            <a:ext cx="2975400" cy="2540520"/>
          </a:xfrm>
          <a:custGeom>
            <a:avLst/>
            <a:gdLst/>
            <a:ahLst/>
            <a:rect l="0" t="0" r="r" b="b"/>
            <a:pathLst>
              <a:path w="8265" h="7057">
                <a:moveTo>
                  <a:pt x="0" y="705"/>
                </a:moveTo>
                <a:lnTo>
                  <a:pt x="0" y="5646"/>
                </a:lnTo>
                <a:lnTo>
                  <a:pt x="826" y="6352"/>
                </a:lnTo>
                <a:lnTo>
                  <a:pt x="1652" y="6352"/>
                </a:lnTo>
                <a:lnTo>
                  <a:pt x="826" y="7057"/>
                </a:lnTo>
                <a:lnTo>
                  <a:pt x="2480" y="6352"/>
                </a:lnTo>
                <a:lnTo>
                  <a:pt x="7439" y="6352"/>
                </a:lnTo>
                <a:lnTo>
                  <a:pt x="8265" y="5646"/>
                </a:lnTo>
                <a:lnTo>
                  <a:pt x="8265" y="705"/>
                </a:lnTo>
                <a:lnTo>
                  <a:pt x="7439" y="0"/>
                </a:lnTo>
                <a:lnTo>
                  <a:pt x="826" y="0"/>
                </a:lnTo>
                <a:lnTo>
                  <a:pt x="0" y="705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5985000" y="3259080"/>
            <a:ext cx="2798640" cy="93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919191"/>
                </a:solidFill>
                <a:latin typeface="Book Antiqua"/>
                <a:ea typeface="Book Antiqua"/>
              </a:rPr>
              <a:t>Click on a desired cus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919191"/>
                </a:solidFill>
                <a:latin typeface="Book Antiqua"/>
                <a:ea typeface="Book Antiqua"/>
              </a:rPr>
              <a:t>control to add on to 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919191"/>
                </a:solidFill>
                <a:latin typeface="Book Antiqua"/>
                <a:ea typeface="Book Antiqua"/>
              </a:rPr>
              <a:t>dialo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457200"/>
            <a:ext cx="9067680" cy="632448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 txBox="1"/>
          <p:nvPr/>
        </p:nvSpPr>
        <p:spPr>
          <a:xfrm>
            <a:off x="2398680" y="119160"/>
            <a:ext cx="32306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  <a:ea typeface="Book Antiqua"/>
              </a:rPr>
              <a:t>Add Initial Values to Contr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275440" y="1935000"/>
            <a:ext cx="2529360" cy="1916640"/>
          </a:xfrm>
          <a:custGeom>
            <a:avLst/>
            <a:gdLst/>
            <a:ahLst/>
            <a:rect l="0" t="0" r="r" b="b"/>
            <a:pathLst>
              <a:path w="7026" h="5324">
                <a:moveTo>
                  <a:pt x="0" y="532"/>
                </a:moveTo>
                <a:lnTo>
                  <a:pt x="0" y="4260"/>
                </a:lnTo>
                <a:lnTo>
                  <a:pt x="702" y="4792"/>
                </a:lnTo>
                <a:lnTo>
                  <a:pt x="1404" y="4792"/>
                </a:lnTo>
                <a:lnTo>
                  <a:pt x="702" y="5324"/>
                </a:lnTo>
                <a:lnTo>
                  <a:pt x="2108" y="4792"/>
                </a:lnTo>
                <a:lnTo>
                  <a:pt x="6324" y="4792"/>
                </a:lnTo>
                <a:lnTo>
                  <a:pt x="7026" y="4260"/>
                </a:lnTo>
                <a:lnTo>
                  <a:pt x="7026" y="532"/>
                </a:lnTo>
                <a:lnTo>
                  <a:pt x="6324" y="0"/>
                </a:lnTo>
                <a:lnTo>
                  <a:pt x="702" y="0"/>
                </a:lnTo>
                <a:lnTo>
                  <a:pt x="0" y="532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583240" y="2028960"/>
            <a:ext cx="1936800" cy="146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919191"/>
                </a:solidFill>
                <a:latin typeface="Book Antiqua"/>
                <a:ea typeface="Book Antiqua"/>
              </a:rPr>
              <a:t>For each control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919191"/>
                </a:solidFill>
                <a:latin typeface="Book Antiqua"/>
                <a:ea typeface="Book Antiqua"/>
              </a:rPr>
              <a:t>You can enter 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919191"/>
                </a:solidFill>
                <a:latin typeface="Book Antiqua"/>
                <a:ea typeface="Book Antiqua"/>
              </a:rPr>
              <a:t>initial value to 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919191"/>
                </a:solidFill>
                <a:latin typeface="Book Antiqua"/>
                <a:ea typeface="Book Antiqua"/>
              </a:rPr>
              <a:t>display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Thomas Feldmeier</dc:creator>
  <dc:description/>
  <dc:language>en-US</dc:language>
  <cp:lastModifiedBy>Thomas Feldmeier</cp:lastModifiedBy>
  <cp:revision>0</cp:revision>
  <dc:subject/>
  <dc:title>Visual C++ Wizard Generation</dc:title>
</cp:coreProperties>
</file>