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.wmf" ContentType="image/x-wmf"/>
  <Override PartName="/ppt/media/image34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972640" y="6675480"/>
            <a:ext cx="361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92BEB855-997D-40BF-805E-A92171EF9B67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4480" y="142920"/>
            <a:ext cx="9677520" cy="708660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974880" y="1133640"/>
            <a:ext cx="7881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ELECTED OFTEN-USED CLIP 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CK CONN AND HAL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400480" y="3876840"/>
            <a:ext cx="51814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ptember 28, 19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5118120" y="3648240"/>
            <a:ext cx="10968120" cy="2305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89120" y="371520"/>
            <a:ext cx="465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AIGHT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076640" y="2028960"/>
            <a:ext cx="1600200" cy="1181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48240" y="2695680"/>
            <a:ext cx="268596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619440" y="3476520"/>
            <a:ext cx="2514600" cy="2038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562040" y="2676600"/>
            <a:ext cx="2647800" cy="127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915080" y="364824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67160" y="113364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IRCULAR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62280" y="1895400"/>
            <a:ext cx="2019240" cy="318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1838160"/>
            <a:ext cx="17146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09920" y="295200"/>
            <a:ext cx="4657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ING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67000" y="1476360"/>
            <a:ext cx="72010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14720" y="1133640"/>
            <a:ext cx="54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HECK AND NO 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7640" y="2200320"/>
            <a:ext cx="1962000" cy="262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1680" y="2181240"/>
            <a:ext cx="1790640" cy="2800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7480" y="-37136520"/>
            <a:ext cx="1665360" cy="40887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55880" y="1133640"/>
            <a:ext cx="411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R ON A 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76680" y="1876320"/>
            <a:ext cx="217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24440" y="1133640"/>
            <a:ext cx="17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1680" y="1781280"/>
            <a:ext cx="422892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86360" y="1800360"/>
            <a:ext cx="3162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028960" y="1133640"/>
            <a:ext cx="577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ORMAL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43240" y="1704960"/>
            <a:ext cx="5276880" cy="377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 flipV="1">
            <a:off x="5118120" y="3648240"/>
            <a:ext cx="23159880" cy="1956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717640" y="1133640"/>
            <a:ext cx="439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24200" y="178128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 flipV="1">
            <a:off x="5118120" y="3648240"/>
            <a:ext cx="23464800" cy="2379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19600" y="1133640"/>
            <a:ext cx="219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71840" y="227664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08200" y="600120"/>
            <a:ext cx="64152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LOBAL VIEW/BIG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40040" y="2009880"/>
            <a:ext cx="5762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151160" y="1133640"/>
            <a:ext cx="15289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D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00240" y="1704960"/>
            <a:ext cx="7543800" cy="523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 flipV="1">
            <a:off x="4915080" y="3673440"/>
            <a:ext cx="22956480" cy="225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41280" y="676440"/>
            <a:ext cx="7500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EOPLE (GROUP OR SEPARA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85920" y="1647720"/>
            <a:ext cx="933480" cy="3657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33680" y="1762200"/>
            <a:ext cx="933480" cy="3486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314360" y="1609560"/>
            <a:ext cx="895320" cy="3638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943280" y="1590840"/>
            <a:ext cx="990720" cy="38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695760" y="1647720"/>
            <a:ext cx="1219320" cy="3556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273560" y="1704960"/>
            <a:ext cx="1219320" cy="3543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054760" y="1628640"/>
            <a:ext cx="971640" cy="382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5702400" y="1704960"/>
            <a:ext cx="857160" cy="352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6178680" y="1857240"/>
            <a:ext cx="876240" cy="3524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743040" y="1800360"/>
            <a:ext cx="781200" cy="346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7601040" y="3571920"/>
            <a:ext cx="1809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3440" y="523800"/>
            <a:ext cx="49766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ESS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57160" y="1380960"/>
            <a:ext cx="81154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203720" y="295200"/>
            <a:ext cx="14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4440" y="885960"/>
            <a:ext cx="5372280" cy="2533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848200" y="3476520"/>
            <a:ext cx="3543120" cy="348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38120" y="3800520"/>
            <a:ext cx="5295960" cy="3219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4557040" y="3648240"/>
            <a:ext cx="4686120" cy="1935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24160" y="523800"/>
            <a:ext cx="3381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LECTR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86360" y="1781280"/>
            <a:ext cx="3524400" cy="2171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38360" y="3514680"/>
            <a:ext cx="253368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62640" y="4581360"/>
            <a:ext cx="2533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717640" y="1133640"/>
            <a:ext cx="4395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2600280"/>
            <a:ext cx="3048120" cy="310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95920" y="2790720"/>
            <a:ext cx="327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90720" y="1133640"/>
            <a:ext cx="4248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8560" y="1762200"/>
            <a:ext cx="3714840" cy="2705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43320" y="1914480"/>
            <a:ext cx="4000680" cy="249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76440" y="5019840"/>
            <a:ext cx="990720" cy="99072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91040" y="4943520"/>
            <a:ext cx="1219320" cy="114300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00880" y="494352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022640" y="1133640"/>
            <a:ext cx="178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05000" y="1895400"/>
            <a:ext cx="1009800" cy="895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62320" y="3228840"/>
            <a:ext cx="3714840" cy="2076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210360" y="296244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749840" y="1895400"/>
            <a:ext cx="907920" cy="898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 flipV="1">
            <a:off x="4915080" y="3648240"/>
            <a:ext cx="13176000" cy="5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490920" y="1133640"/>
            <a:ext cx="2847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CEN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0440" y="1803240"/>
            <a:ext cx="4213080" cy="1879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71640" y="4105440"/>
            <a:ext cx="7505640" cy="2495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201080" y="1952640"/>
            <a:ext cx="990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403440" y="295200"/>
            <a:ext cx="3024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57160" y="1619280"/>
            <a:ext cx="8115480" cy="4543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 flipV="1">
            <a:off x="5118120" y="3648240"/>
            <a:ext cx="28138320" cy="2827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538360" y="447840"/>
            <a:ext cx="4753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ONAL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52760" y="1990800"/>
            <a:ext cx="232416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991040" y="2009880"/>
            <a:ext cx="2400480" cy="1809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029200" y="3552840"/>
            <a:ext cx="2952720" cy="2400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962000" y="3533760"/>
            <a:ext cx="2971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