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674225" cy="73977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2795D7D-F84F-416A-834B-897275049A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ives of Modul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esent and discuss the basic concepts of Software Project Managemen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oftware Metr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oftware Cost and Timing Esti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oftware Project Pla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83480" y="29628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83480" y="1731960"/>
            <a:ext cx="870624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3480" y="3972600"/>
            <a:ext cx="870624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3480" y="29628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3480" y="1731960"/>
            <a:ext cx="424836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4600" y="1731960"/>
            <a:ext cx="424836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3480" y="3972600"/>
            <a:ext cx="424836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944600" y="3972600"/>
            <a:ext cx="424836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3480" y="29628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83480" y="1731960"/>
            <a:ext cx="28033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27200" y="1731960"/>
            <a:ext cx="28033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371280" y="1731960"/>
            <a:ext cx="28033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3480" y="3972600"/>
            <a:ext cx="28033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27200" y="3972600"/>
            <a:ext cx="28033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371280" y="3972600"/>
            <a:ext cx="28033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83480" y="29628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83480" y="1731960"/>
            <a:ext cx="870624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3480" y="29628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83480" y="1731960"/>
            <a:ext cx="870624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3480" y="29628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3480" y="1731960"/>
            <a:ext cx="424836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944600" y="1731960"/>
            <a:ext cx="424836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83480" y="29628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83480" y="296280"/>
            <a:ext cx="8706240" cy="572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3480" y="29628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83480" y="1731960"/>
            <a:ext cx="424836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44600" y="1731960"/>
            <a:ext cx="424836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83480" y="3972600"/>
            <a:ext cx="424836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83480" y="29628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83480" y="1731960"/>
            <a:ext cx="424836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44600" y="1731960"/>
            <a:ext cx="424836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44600" y="3972600"/>
            <a:ext cx="424836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83480" y="29628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83480" y="1731960"/>
            <a:ext cx="424836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44600" y="1731960"/>
            <a:ext cx="424836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3480" y="3972600"/>
            <a:ext cx="870624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41280" y="422280"/>
            <a:ext cx="8991720" cy="655308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968400" y="247680"/>
            <a:ext cx="2598840" cy="333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Engineering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8055000" y="6800760"/>
            <a:ext cx="960480" cy="768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 - </a:t>
            </a:r>
            <a:fld id="{E25E1AC5-014E-49F0-8FAD-FEF494F3FBEF}" type="slidenum"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1638360" y="915840"/>
            <a:ext cx="6715080" cy="15969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8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</a:t>
            </a:r>
            <a:br>
              <a:rPr sz="4800"/>
            </a:br>
            <a:r>
              <a:rPr b="1" lang="en-US" sz="4800" spc="-1" strike="noStrike">
                <a:solidFill>
                  <a:srgbClr val="081d58"/>
                </a:solidFill>
                <a:latin typeface="Arial"/>
                <a:ea typeface="Arial"/>
              </a:rPr>
              <a:t>MANAGE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189080" y="3403440"/>
            <a:ext cx="753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333600"/>
                <a:tab algn="l" pos="3657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verview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Project Esti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333600"/>
                <a:tab algn="l" pos="3657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Project Metric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Project Pla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