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2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839325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87B538-A548-4205-B5DD-BA8D5BA7A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s of Modu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syntax of the C++ Programming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features of C++ which support object-oriented program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ggested 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rgaret A. Ellis and Bjarne Stroustrup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Annotated C++ Reference Manu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Addison-Wesley Publishing Company, 1990, ISBN 0-201-51459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anley B. Lippman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++ Prim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AT&amp;T Bell Labs, Addison-Wesley Publishing Company, 1989, ISBN 0-201-16487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ee and Mark Atkinson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ing Borland C+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Que Corporation, 1991, ISBN 0-88022-675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 example of a C++ class declaration and defin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&lt;stdio.h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elevator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floor_selected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floor_numb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initialize(voi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select_floor (int flo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go(voi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elevator</a:t>
            </a:r>
            <a:fld id="{D6E5B873-2B75-4DC1-A75D-8433431E5EF7}" type="datetime11"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5:33:55 AM</a:t>
            </a:fld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lize(void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loor_selected = 0; floor_number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elevator</a:t>
            </a:r>
            <a:fld id="{2EF8BB65-47E9-4D24-80F7-C2067070C6B5}" type="datetime11"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5:33:55 AM</a:t>
            </a:fld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ect_floor (int floo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loor_selected = floo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elevator</a:t>
            </a:r>
            <a:fld id="{10E9E70B-06F0-455E-AF1B-4EAF461C5D72}" type="datetime11"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5:33:55 AM</a:t>
            </a:fld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go (void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floor_number &lt; floor_selected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++floor_number &lt; floor_select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floor: %d  going up\n", floor_nu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--floor_number &gt; floor_select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floor: %d going down\n", floor_nu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floor %d: stopping\n", floor_nu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ample of function overload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#include &lt;iostream.h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 ints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 b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(int value, int times = 1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(char *value, int times = 1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(struct ints *value, int times = 1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 (int i, int times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or (int j = 0; j &lt; times; j++)  cout &lt;&lt; "Integer: " &lt;&lt; i &lt;&lt; "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 (char *s, int times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or (int j = 0; j &lt; times; j++) cout &lt;&lt; "String: " &lt;&lt; s &lt;&lt; "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 (struct ints * is, int times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or (int j = 0; j &lt; times; j++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ut &lt;&lt; "Ints: " &lt;&lt; is-&gt;a &lt;&lt; ", " &lt;&lt; is-&gt;b &lt;&lt; "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C++ is suffering from a lack of standardization today, with many distinct dialects emerg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set of course notes reflects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 fact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standard associated with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orland C++ language, version 3.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  Borland C++ is quite close to AT&amp;T C++ (cfron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ample of static class me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#include &lt;iostream.h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lass objcounter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har *object_nam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 numb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atic int counter;  </a:t>
            </a:r>
            <a:fld id="{D2B0313F-87BB-4460-9DCE-6164983596AE}" type="datetime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7/30/26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one copy for all insta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ublic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bjcounter (char *name);  </a:t>
            </a:r>
            <a:fld id="{EF360EF5-4222-49D4-ADCD-3F7B42DEBCD6}" type="datetime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7/30/26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constru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whoami(voi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atic int number_of_objects(voi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 objcounter</a:t>
            </a:r>
            <a:fld id="{017BB156-E483-4194-B479-3FDFEC256AF3}" type="datetime11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5:33:55 AM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unter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bjcounter</a:t>
            </a:r>
            <a:fld id="{9C8B2C31-4407-454C-B883-2320234420DF}" type="datetime11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5:33:55 AM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bjcounter(char *nam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bject_name = nam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unter++;  </a:t>
            </a:r>
            <a:fld id="{62EA4093-AEAC-47CC-8920-0E68E8C1C89E}" type="datetime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7/30/26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increment static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umber = coun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objcounter</a:t>
            </a:r>
            <a:fld id="{E6DEBF89-621D-4C65-814F-CCC5765ECF42}" type="datetime11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5:33:55 AM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hoami(void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ut &lt;&lt; "Name: " &lt;&lt; object_name &lt;&lt; ", Number: " &lt;&lt; number &lt;&lt; "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 objcounter</a:t>
            </a:r>
            <a:fld id="{4C4E8ECA-6EC4-4C9C-B01F-01ADAE52EA5C}" type="datetime11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5:33:55 AM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umber_of_objects(void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turn coun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e that the ANSI C++ standard does not yet ex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e interim, Stroustrup's book is the ANSI Base Docu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rgaret A. Ellis and Bjarne Stroustrup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Annotated C++ Reference Manu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Addison-Wesley Publishing Company, 1990, ISBN 0-201-51459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brings up the concepts of member data and member functions.  Member data is duplicated with each object created under C++.  Member functions are often implemented as inline functions, so their code is often duplicated when cal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9040" y="371520"/>
            <a:ext cx="8991720" cy="6553080"/>
          </a:xfrm>
          <a:prstGeom prst="roundRect">
            <a:avLst/>
          </a:prstGeom>
          <a:noFill/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033560" y="260280"/>
            <a:ext cx="3544920" cy="34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662960" y="6661080"/>
            <a:ext cx="976320" cy="93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 - </a:t>
            </a:r>
            <a:fld id="{ADA7AEF8-1298-4FCF-AE80-10BDBFA77947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905120" y="700200"/>
            <a:ext cx="6021360" cy="332244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OBJECT-ORIENT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PROGRAMM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LANGU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-- C++ -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19040" y="3952800"/>
            <a:ext cx="89154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matic typede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d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Overlo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 typ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 Resolu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-safe lin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, de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e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iend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er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rator Overlo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76440" y="402912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6480" y="402912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43880" y="402912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074600" y="752400"/>
            <a:ext cx="76820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COPE RESOLUTION OPERATO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104840" y="2200320"/>
            <a:ext cx="762012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 resolution opera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used whenever the compiler would not normally choose the desired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095560" y="3343320"/>
            <a:ext cx="5181480" cy="24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mai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2;    </a:t>
            </a:r>
            <a:fld id="{D7B92AFC-D5E5-42C2-9547-9D5969D835C5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local X is assig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5B7CEE89-BD54-425E-9B7F-F08F70C31449}" type="datetime11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5:33:55 AM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4;  </a:t>
            </a:r>
            <a:fld id="{CDE74EE7-FB1C-4C35-BDF6-CE1C73BB778A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global X is assig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66960" y="3267000"/>
            <a:ext cx="5562720" cy="29718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738440" y="752400"/>
            <a:ext cx="63532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MBER FUNCTION SC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52560" y="1590840"/>
            <a:ext cx="769608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member function may access any other member in the same struct, including both data and other member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257480" y="2733840"/>
            <a:ext cx="7162920" cy="28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complex</a:t>
            </a:r>
            <a:fld id="{F19AAD94-E870-4F3A-B664-11B1BD04C4B3}" type="datetime11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5:33:55 AM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(complex left, complex righ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al_part = left.real_part + right.real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fld id="{9B42658E-1885-46D5-983F-D2E6CDF8C13B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ote that the real_part left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fld id="{80876592-1AF9-483D-9721-484241304EE1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qual size refers to the real_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fld id="{33850952-13DA-44A4-A74A-74FD8FCAF0A9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of the target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_part = left.imag_part + right.imag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28880" y="2657520"/>
            <a:ext cx="7467480" cy="304812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665440" y="752400"/>
            <a:ext cx="45007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PROT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104840" y="1819440"/>
            <a:ext cx="7543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ss to data and functions within a struct is controlled by the thre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ss specifi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prevents access except by other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ec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lik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except inherited classes also have access (inheritance is discussed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permits everyone, including end users, to access the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s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ec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embers can be granted to non-member functions by using the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rie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keyword when declaring the non-member function inside a str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211400" y="752400"/>
            <a:ext cx="74106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ublic  AND  private  WITH  fri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876240" y="1438200"/>
            <a:ext cx="8077320" cy="48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SIZE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int_arra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[SIZE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init();  </a:t>
            </a:r>
            <a:fld id="{11FD3854-913C-4163-89BC-222F8CF524B1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member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iend void print (int_array);  </a:t>
            </a:r>
            <a:fld id="{5A5E7032-D1DC-4A48-8F60-CE231482EF81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friend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int (int_array x) {  </a:t>
            </a:r>
            <a:fld id="{33A4D2E0-4229-4B8F-A5CE-850E81978524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 a member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=0; i&lt;SIZE; i++) cout &lt;&lt; x.a[i] &lt;&lt; "  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"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280" y="1362240"/>
            <a:ext cx="8077320" cy="510552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784680" y="752400"/>
            <a:ext cx="22622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409760" y="1438200"/>
            <a:ext cx="7162920" cy="24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 the preferred keyword for defining new types in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fault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the access of its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fault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or the access of its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638360" y="4257720"/>
            <a:ext cx="632448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200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typename {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typenam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200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1C44CD63-482E-4C6F-8144-0AC6B56FE59D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member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fld id="{EDFD4B0A-881E-4FDD-AEDE-879738AD091F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public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200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200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8E41E966-CFD8-42B5-9AE4-80453C88C7E8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public member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fld id="{437DEEC1-BF21-4587-B028-2D54ABD71E10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vate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200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3440" y="4181400"/>
            <a:ext cx="6781680" cy="22860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6480" y="4181400"/>
            <a:ext cx="0" cy="22860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08040" y="752400"/>
            <a:ext cx="86155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UTOMATIC  typedef  DECLA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04840" y="1514520"/>
            <a:ext cx="746748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g na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these entities are designated as reserved words within their scope automatically (similar to doing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de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C), and the form of their declarations and definitions are simil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tru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u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n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4915080" y="3648240"/>
            <a:ext cx="833400" cy="8885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914480" y="752400"/>
            <a:ext cx="60008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 OVERLO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33440" y="1362240"/>
            <a:ext cx="723888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Overloa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llows more than one function to be given the same nam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long as all these functions have distinct argument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Overloa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prevents name clashes whe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le libra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ome into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overloading works throug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e mangl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where the compiler-generated name for the function includes information on the types of its arg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s of overloaded fun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oid print(int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oid print(int, char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oid print(double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014480" y="752400"/>
            <a:ext cx="78008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FAULT FUNCTION 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28880" y="1743120"/>
            <a:ext cx="7772400" cy="29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ault argu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used in a function's argument list when common values are to be automatically generated by the compiler rather than always forcing the programmer to specify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ault argu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given only once,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decl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l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iling argu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given default values, and once default values are assigned, they must be assigned to the rest of the remaining arguments as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14195520" y="23990400"/>
            <a:ext cx="8532720" cy="62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422440" y="752400"/>
            <a:ext cx="49863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YPE-SAFE  LINK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19280" y="1670040"/>
            <a:ext cx="4762440" cy="88272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++ was designed in par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iminate problems found in C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28880" y="2809800"/>
            <a:ext cx="7924680" cy="38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 requires full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rototyp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C does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 perform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ong type checking (type-safe linkag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so if the arguments to a function when it is called are not the same types as when it was declared, the compiler will flag this error at compile time -- C does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 does not always hold you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-safe link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because there are times when you may want to link in code generated by a C compiler; C++ lets you do this through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ternate linkage specif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which looks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tern "C" {type function_name(arg_types);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933640" y="752400"/>
            <a:ext cx="39625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STR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33440" y="1514520"/>
            <a:ext cx="7238880" cy="47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used to initialize a variable based on a clas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the variable is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the class that has the same name as th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ls occur automatically at the point the variable is created, and the programmer cannot access the variable before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load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like other member functions so that various kinds of initialization may be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ault argu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also be used wi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o long as ambiguities are not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not required by C++, but they are often very conven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408400" y="752400"/>
            <a:ext cx="50133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E  C++ 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333440" y="1819440"/>
            <a:ext cx="7086600" cy="33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b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jarne Stroustr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starting in the early 1980'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d on merging features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-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developed in Scandinavia in 196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iginally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with 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since it involved adding Simula-67'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oncept to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with 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was later expanded by simply adding improvements to C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implement object orientation necessarily), so the concept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next step after 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the C increment operator is ++), ev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915080" y="23544360"/>
            <a:ext cx="833400" cy="27011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124080" y="752400"/>
            <a:ext cx="35812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TR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28880" y="1666800"/>
            <a:ext cx="7772400" cy="36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used to ensure proper cleanup when a variable is destr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 member function with the same name as the class preceded by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il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l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automatic, occurring when a variable goes out of 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not have any arg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optional, lik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lik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only on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decl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4391800" y="18819720"/>
            <a:ext cx="9144000" cy="360"/>
          </a:xfrm>
          <a:prstGeom prst="rect">
            <a:avLst/>
          </a:prstGeom>
          <a:solidFill>
            <a:srgbClr val="fc0128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217520" y="752400"/>
            <a:ext cx="73962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VOIDING THE PREPROCESS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52560" y="2124000"/>
            <a:ext cx="7848720" cy="38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replaces part of the function of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#def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preprocessor dir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performs value substitution, adding type checking and normal expression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placed in front of any variable definition, indicating that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 the value cannot be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 the compiler should try not to allocate storage, keeping the information in the symbol table inst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nst float pi = 3.14159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7770040" y="13158720"/>
            <a:ext cx="9144000" cy="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003400" y="752400"/>
            <a:ext cx="58230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st  IN ANSI C AND C+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23960" y="1362240"/>
            <a:ext cx="838188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behaves differently in ANSI C and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kage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fault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ern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linkage (glob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fault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n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linkage (lo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ory allocation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lways allocates storage for the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ries to store values in the symbo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ant expressions (like array definitions)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variables cannot be used in constant expressions (e.g., cannot be used in header fi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variables can be used in constant expressions if symbol table storage is possible (i.e., elaborate structures are not involv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4915080" y="3648240"/>
            <a:ext cx="16695720" cy="17699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2800440" y="752400"/>
            <a:ext cx="42292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line 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28880" y="1666800"/>
            <a:ext cx="7772400" cy="44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the user can creat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, where, when they are called, their code itself is placed at the point of the call rather than a subroutine call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 were created to replace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cr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  required in C to perform such code opt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s defined within a class declaration are automaticall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lobal functions must use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keyword to becom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C++ type checking is performed 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, like any other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rototype and function body of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 are stored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mbo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748480" y="23937840"/>
            <a:ext cx="914400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627280" y="752400"/>
            <a:ext cx="45766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FINING O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81160" y="1285920"/>
            <a:ext cx="7391520" cy="55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variables) may be defined any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me variables cannot be initialized until code has been executed, so C++ allows a variable to be defined at any point in a scope;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f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such a variable extends from that point to the end of the 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ggregate initializ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supported extens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orage is reserved at the beginning of a 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al storage usually comes off the stack, so C++ scans forward when a scope is e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itialization of an object  takes place at the point of definition, even though the space has already been al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not available until the point of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the scope is left before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called,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not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oto's which skip variable initialization are not 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303720" y="752400"/>
            <a:ext cx="32241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28880" y="1285920"/>
            <a:ext cx="7772400" cy="56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we have already seen, C++ supports pointers like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also supports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 typ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, which is like a pointer except that the compiler automatically takes the address and dereferences it for you (allowing dot notation instead of arrow not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&amp; fct(float&amp;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 *i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loat *f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p = fct(*fp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041560" y="752400"/>
            <a:ext cx="57484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FEREN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57480" y="1666800"/>
            <a:ext cx="73152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almost exclusively used as function arguments and return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ide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the address of the current object is accessed with the key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xint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,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in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int() { this-&gt;init()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66960" y="4334040"/>
            <a:ext cx="4267080" cy="24382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041560" y="752400"/>
            <a:ext cx="57484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FEREN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104840" y="1666800"/>
            <a:ext cx="7543800" cy="22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n be independent, acting like a normal variable except that they modify storage used by other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 = 1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&amp;ip =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++;  </a:t>
            </a:r>
            <a:fld id="{7E086319-7819-4519-B770-657A32E7F1AC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nges the value of i to 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0640" y="2657520"/>
            <a:ext cx="6019920" cy="167652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4915080" y="3648240"/>
            <a:ext cx="1440" cy="1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177920" y="752400"/>
            <a:ext cx="74754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TATIC CLASS MEMBERS IN C+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95360" y="1438200"/>
            <a:ext cx="876312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members (data or functions) that work with the class as a whole rather than individual objects are declared with the keywor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embers may be accessed by all members of a class, but the name of the static member 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dd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within the scope of the class, so nothing outside the class may access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data memb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nly have one instance for all objects of a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ng and initializing static data is performed by a global definition that reserves storage and initializes th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membe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lso work with the entir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address of an object, referred to with the keywor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is not passed into a static member function, so static member functions can only access static data members or call other static member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membe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only be called with an object or by specifying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 resolutio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2069440" y="15898680"/>
            <a:ext cx="6500880" cy="5056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550880" y="752400"/>
            <a:ext cx="67294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YNAMIC OBJECT CRE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81160" y="1819440"/>
            <a:ext cx="7467480" cy="19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ynamic object creation is built into the C++ language, through the keyword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et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ather than being implemented only in library function calls such a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lloc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ynamic object creation lets the type and lifetime of an object be chosen at ru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232000" y="752400"/>
            <a:ext cx="53672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  ORI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52560" y="1438200"/>
            <a:ext cx="792468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-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supports the creation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and simulations of systems usually involve many discrete, independently operating e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authors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-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led these entitie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ther than perform actions on objects in a simulation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-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evolved the concept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nding messages to obj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and that's wha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(OOP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en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O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later proved to be an easy way to think about many other types of problems, so a number of othe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languages (OOPLs)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re developed, most notabl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mallta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OP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provided many benefits, but the steep learning curve and significant period of limited productivity were drawb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790720" y="752400"/>
            <a:ext cx="42480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alloc()  AND  n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409760" y="1743120"/>
            <a:ext cx="701028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lloc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llocates space for an object given its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llocates space for an object given its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lloc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oes not initialize th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ls the associat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 to initialize the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552760" y="4105440"/>
            <a:ext cx="464832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*i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 = (int *)malloc(sizeof(int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* done in C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 = new i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5320A290-4211-478E-B135-CE27C20DB50E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done in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47840" y="4029120"/>
            <a:ext cx="5257800" cy="24382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884320" y="752400"/>
            <a:ext cx="40622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ree()  AND  dele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181160" y="1590840"/>
            <a:ext cx="7315200" cy="16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e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allocates space provided by malloc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allocates space provided by 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e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oes no cleanup other than freeing th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ls a destructor for the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638360" y="3495600"/>
            <a:ext cx="6629400" cy="31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th the advent of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ew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let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in C++, there is no reasonable need for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lloc(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ree(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except for compatibility with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915080" y="3711600"/>
            <a:ext cx="25598160" cy="25445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2362320" y="752400"/>
            <a:ext cx="51055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TAINER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57480" y="1666800"/>
            <a:ext cx="7315200" cy="13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er 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also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are classes which hold objects created at ru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er 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ten hold groups of objects from other classess, making them a form of composit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186000" y="752400"/>
            <a:ext cx="34574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HEADER F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76240" y="1438200"/>
            <a:ext cx="800100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er f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ontain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lar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nly, no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er f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clu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decla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decla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ything else that is a part of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a class or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er f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ust b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ula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so the compiler sees its contents only once when compiling a file; preprocessor statements, like those used before for STORABLE.H, should be used to perform this ins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essence, these preprocessor statements direct the header file  to be skipped  if it has already been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303720" y="752400"/>
            <a:ext cx="32241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HERI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81160" y="1209600"/>
            <a:ext cx="7620120" cy="56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ws new classes to be built from existing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s code reuse without the need to re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es not entail modification to the code on which the new classes are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ires access to only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er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the classes on which the new classes are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a new class inherits from a base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 of the public members of the base class can be public in the new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ne of the public members of the base class can be public in the new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y combination of the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s of the same name as in the base may now have different mean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2313000" y="752400"/>
            <a:ext cx="52052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HERITANCE SYNT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19040" y="1819440"/>
            <a:ext cx="89917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derived : [public] base { /* details */ 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48240" y="296244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48240" y="227664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534000" y="2789280"/>
            <a:ext cx="22161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e of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229280" y="402912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229280" y="2276640"/>
            <a:ext cx="0" cy="17524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619600" y="3855960"/>
            <a:ext cx="32148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public, public members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 are automat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 members i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d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247840" y="570564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47840" y="2276640"/>
            <a:ext cx="0" cy="34290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790800" y="5532480"/>
            <a:ext cx="30798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e of new, derived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3162240" y="151452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62240" y="1514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705200" y="1341360"/>
            <a:ext cx="14428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ngle co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303720" y="752400"/>
            <a:ext cx="32241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HERI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04840" y="1743120"/>
            <a:ext cx="7620120" cy="25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requires a lot of design-oriented thought in order to be applied cor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nly when it makes sense -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 the derived class really an offspring of the base class, and does it make sense that the derived class should inherit capabilities from the base clas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eaking a problem into classes has the effect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tition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he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398600" y="752400"/>
            <a:ext cx="70340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ASE CLASS CONSTR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ND DESTR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028880" y="2124000"/>
            <a:ext cx="769608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 con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called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initializer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which was shown in MULTINH.CP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47600" y="301788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</a:t>
            </a:r>
            <a:fld id="{74690475-2EBB-41BE-A730-7230A9A63FFD}" type="datetime11"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5:33:55 AM</a:t>
            </a:fld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() : base1(), base2() { 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372280" y="3419640"/>
            <a:ext cx="0" cy="12952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7048440" y="3419640"/>
            <a:ext cx="0" cy="12952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933800" y="4923000"/>
            <a:ext cx="27385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 constru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314880" y="3419640"/>
            <a:ext cx="0" cy="24382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886040" y="5989680"/>
            <a:ext cx="29019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d class 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2705040" y="752400"/>
            <a:ext cx="44197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RIVED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333440" y="1819440"/>
            <a:ext cx="7238880" cy="37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way C++ call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 con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ensures that all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d class con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n depend on the base class being properly initi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p to on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defined for each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called automatically, and all destructors are called for an object, which includes the destructors for its base classes, their base classes, and so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is n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equivalent for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initializer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called from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p dow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the opposite to the order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2527200" y="752400"/>
            <a:ext cx="47768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REATING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ITH COM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76240" y="2276640"/>
            <a:ext cx="7924680" cy="27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5486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not the only way to create new classes from existing classes in C++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sometimes said to represent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-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5486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osi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 method of building classes tha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bjects of other classes; composition is sometimes said to represent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s-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  <a:tabLst>
                <a:tab algn="l" pos="457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 type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ehic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  <a:tabLst>
                <a:tab algn="l" pos="457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has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fou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e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928880" y="752400"/>
            <a:ext cx="59720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N  OBJECT-ORIENTED 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+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104840" y="2200320"/>
            <a:ext cx="769608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to take advantage of the ease of programming provided by an OO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to provide an easy learning path for C program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to fix defects in C which allow certain kinds of bugs to slip through the compiler -- bugs which may go unnoticed until run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070000" y="4460760"/>
            <a:ext cx="5842080" cy="166500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++ allows the programmer to focus 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ep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rather than forcing him to concentrate on the code which implements those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478280" y="3649680"/>
            <a:ext cx="13231800" cy="131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527200" y="752400"/>
            <a:ext cx="47768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REATING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ITH COM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028880" y="2200320"/>
            <a:ext cx="7772400" cy="42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osi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volves creating instances of a class inside another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the objects have constructors which require arguments, those objects must be explicitly initialized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initializer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order of calls in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initializer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not necessarily the order in which they appear; instead, the base class constructor is called first, and so on, and the member object constructors are called in the order in which the objects are declared in th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initializer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nly determines the arguments given to the constructors, not the order of constructor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052640" y="752400"/>
            <a:ext cx="77248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st AND enum INSIDE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723960" y="1743120"/>
            <a:ext cx="8381880" cy="20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side a class behaves differently from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utside a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C++ must always be initialized when it is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C++ class declaration is not a definition (it does not reserve storage), so a const  in a class must be given an initial value when the constructor i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171520" y="4029120"/>
            <a:ext cx="556272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X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i;  </a:t>
            </a:r>
            <a:fld id="{533BEE58-F3A5-4253-A905-3582A225AF34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 i = 1; not 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(int I) : i(I)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019240" y="3952800"/>
            <a:ext cx="5867280" cy="22096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457880" y="639144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457880" y="562932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543640" y="6218280"/>
            <a:ext cx="194004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is initialized to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760400" y="752400"/>
            <a:ext cx="63104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st AND enum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181160" y="1285920"/>
            <a:ext cx="7620120" cy="54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caus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cates storage, it can not be used in a constant expression, so the following is invali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int_arra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sz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rray[sz];  </a:t>
            </a:r>
            <a:fld id="{293219D0-1FE8-4791-846D-F5594DF95CD3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 a constant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B0CFFE68-D5AA-4090-8891-274B886BC290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solution to this problem is to employ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tagged enumer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value as a con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int_arra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num { sz = 100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rray[sz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FD114607-8BD3-4F3F-81F2-A78B3E492F67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866960" y="2048040"/>
            <a:ext cx="6858000" cy="198108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90640" y="4791240"/>
            <a:ext cx="3657600" cy="19810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841400" y="752400"/>
            <a:ext cx="61484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ARLY AND LATE BI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181160" y="1666800"/>
            <a:ext cx="7543800" cy="33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in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a linkage between a function call and a function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ile-time, static, or early, bin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those linkages resolved during the run of the compiler and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un-time, dynamic, or late, bin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linkages are resolved through a table of addresses of possible routines to call; this table is provided, and a particular table entry is selected during execution of th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the particular C++ feature which supports late b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22031280" y="20917080"/>
            <a:ext cx="8406000" cy="6640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2475000" y="752400"/>
            <a:ext cx="48816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VIRTUAL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33440" y="1590840"/>
            <a:ext cx="7315200" cy="37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rtual return_type function_name(type ar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keyword in C++ implements late b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keyword causes a hidden pointer,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PT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to be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PT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ssigned by the constructor to the address of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TA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which in turn contains the addresses of all virtual 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 call consists of code that indexes into the VTABLE through the VP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760320" y="752400"/>
            <a:ext cx="83106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REATING EXTENSIBLE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52560" y="1743120"/>
            <a:ext cx="792468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goal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to identify the essential concepts and activities performed by the system (or program) and to translate them into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umans organize the world as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allows a programmer to organize a program as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s in C++ provide models for the real-world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rogram becomes an image, or model, of the problem being s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program has a single essential purpose or job it is trying to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738440" y="752400"/>
            <a:ext cx="635328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XTENDING 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028880" y="2048040"/>
            <a:ext cx="7924680" cy="42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generally represent the primary concepts of an object-oriented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base classes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representing concepts rather than specific things, so it does not make sense to create objects of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allows an abstract base class to contain pu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 by assigning the function body to zer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rtual void f()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objects can be created of such a class; objects may be created only from classes derived from th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derived classes contain definitions for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re virtual 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915080" y="19024560"/>
            <a:ext cx="25128360" cy="1260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043000" y="752400"/>
            <a:ext cx="57434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XTENDING A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952560" y="1819440"/>
            <a:ext cx="769608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 a new class from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esired extensions are embodied by redefining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 new data structures and functions as necessary, including new constructor functions which invoke the base constructors as needed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definition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erived class is now taking 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tribu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havi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which distinguish it from the abstract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 code at the point where new objects are created so the constructor for the new derived class i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new objects are created and properly initi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0500640" y="17436960"/>
            <a:ext cx="2236680" cy="14235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800360" y="752400"/>
            <a:ext cx="62294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PERATOR OVERLO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257480" y="1362240"/>
            <a:ext cx="7391520" cy="520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the meaning of almost any operator may be changed when that operator is used with variables of particular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meaning of an operator changes only when an operator is used with the indicated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permits the operators to be used a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i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+ 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the above example, the function "+" is applied to the target object "a" with the argument "b", just like set() below is applied to the target object "A" with the argument "B"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.set(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yntax used for declaring the operator function for the "+" operator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turn_type  operator+  (type ar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955880" y="752400"/>
            <a:ext cx="59180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E ANSI C++ STAND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57480" y="1819440"/>
            <a:ext cx="7238880" cy="32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SI committe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3J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was created to produce an international standard for C++, which is still in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of today's C++  compilers deviate from the standard in one way or another, so portability of code between different C++ compilers on different platforms tends to suffer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NU 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is becoming a standard in its own right due to the fact that it is free and it runs on many platforms, including 386 PCs and workstations, bu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NU 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does not conform to the C++ standard exa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670040" y="752400"/>
            <a:ext cx="64897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REE WAYS OF USING C+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790640" y="1971720"/>
            <a:ext cx="6172200" cy="32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 C or C with extens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many C programs may be compiled with a C++ compiler with little or no modifications (mainly in the area of function prototyp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 C with enhanced data abstration capabilit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more sophisticated data structures may be manipulated with greater ease in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 an OOP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all the benefits of contemporar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achieved through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174680" y="752400"/>
            <a:ext cx="74804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YPES = STRUCTS +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247840" y="1285920"/>
            <a:ext cx="5486400" cy="83268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is a C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with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52560" y="1971720"/>
            <a:ext cx="792468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complex {     /* The C struct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real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imag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complex {     </a:t>
            </a:r>
            <a:fld id="{B75AF879-BF2B-403A-8F63-99DC981ADCBD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The C++ str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real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imag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ex();         </a:t>
            </a:r>
            <a:fld id="{74FA9672-FA71-4774-A7FE-35ADAF165FC1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constructor (discussed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add (complex, complex);  </a:t>
            </a:r>
            <a:fld id="{32DA52FB-C91E-4D5D-AE93-68E52F629842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es on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00280" y="2048040"/>
            <a:ext cx="5867280" cy="16002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00280" y="4029120"/>
            <a:ext cx="8153280" cy="25146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735200" y="752400"/>
            <a:ext cx="63612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ypedef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  FOR C++  STR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S AUTOMA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714680" y="2276640"/>
            <a:ext cx="685800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complex a, b;  /* C form is supported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ex x, y;  </a:t>
            </a:r>
            <a:fld id="{B630B3EF-DA8B-4425-9C68-4CBFBADE0DD3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"struct" is not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.real_part = 2.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.imag_part = 3.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.real_part = 4.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.imag_part = 4.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.add(x, y);   </a:t>
            </a:r>
            <a:fld id="{F1F2709A-F75D-45E5-BF9F-7D37F61235DB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y = x +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86080" y="2200320"/>
            <a:ext cx="7086600" cy="36576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138320" y="752400"/>
            <a:ext cx="755316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COPE RESOLUTION OPER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fld id="{64C9FFEE-90AB-4779-876E-9C2C04F623D0}" type="datetime11"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05:33:55 AM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71680" y="1895400"/>
            <a:ext cx="868680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ssociated with a struct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la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rototyp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the str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 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their associated struct is specified using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 resolution opera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</a:t>
            </a:r>
            <a:fld id="{06BACCEA-5067-42B8-821A-5D32EBEB8214}" type="datetime11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5:33:55 AM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oid struct_name</a:t>
            </a:r>
            <a:fld id="{41C31801-5D87-4234-A08F-F662AC8A5394}" type="datetime11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5:33:55 AM</a:t>
            </a:fld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mber_function_name() { /* body */ 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oid complex</a:t>
            </a:r>
            <a:fld id="{EF17653A-FD54-4274-9849-D435E9DB2C9F}" type="datetime11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5:33:55 AM</a:t>
            </a:fld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 (complex left, complex r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{ /* body */ 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