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F56179-D52A-463D-A97F-939590701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6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idea that software is much more than just code -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ginee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oftware is composed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nclude documents, data, and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history of software development, including its evolution into a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of the problems with doing software development, particularly when there is more than one perso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myths about software development and explain why some of these myths are falla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everal different software engineering paradigms,  showing different methods for developing engineered softw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ic "waterfall"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pid 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iral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binations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ome of the technologies used in the support of software engineer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er-Aided Software Engine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(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- </a:t>
            </a:r>
            <a:fld id="{501AA11D-166D-473A-B747-C292C425A08D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42880" y="874800"/>
            <a:ext cx="810432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and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17720" y="2981160"/>
            <a:ext cx="380052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y of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s a Business 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 in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79880" y="2981160"/>
            <a:ext cx="32670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s about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 Developmen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