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62280" y="-450720"/>
            <a:ext cx="14546520" cy="9404640"/>
            <a:chOff x="-3662280" y="-450720"/>
            <a:chExt cx="14546520" cy="9404640"/>
          </a:xfrm>
        </p:grpSpPr>
        <p:sp>
          <p:nvSpPr>
            <p:cNvPr id="1" name=""/>
            <p:cNvSpPr/>
            <p:nvPr/>
          </p:nvSpPr>
          <p:spPr>
            <a:xfrm>
              <a:off x="-3662280" y="1557360"/>
              <a:ext cx="11837880" cy="23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91480" y="5275440"/>
              <a:ext cx="162000" cy="235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969240" y="527544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891480" y="533232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91480" y="5400720"/>
              <a:ext cx="1620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891480" y="545940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30880" y="5275440"/>
              <a:ext cx="162000" cy="235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210440" y="527544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130880" y="533232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30880" y="5400720"/>
              <a:ext cx="1620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130880" y="545940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61080" y="5275440"/>
              <a:ext cx="165240" cy="235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740640" y="527544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661080" y="5332320"/>
              <a:ext cx="1652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661080" y="5400720"/>
              <a:ext cx="1652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661080" y="5459400"/>
              <a:ext cx="1652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891480" y="5599080"/>
              <a:ext cx="1620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969240" y="5599080"/>
              <a:ext cx="12600" cy="230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891480" y="565308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91480" y="571968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891480" y="5781600"/>
              <a:ext cx="16200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130880" y="5599080"/>
              <a:ext cx="1620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210440" y="5599080"/>
              <a:ext cx="12600" cy="230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130880" y="565308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130880" y="571968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30880" y="5781600"/>
              <a:ext cx="16200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661080" y="5599080"/>
              <a:ext cx="16524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740640" y="5599080"/>
              <a:ext cx="12600" cy="230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661080" y="5653080"/>
              <a:ext cx="1652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661080" y="5719680"/>
              <a:ext cx="1652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661080" y="5781600"/>
              <a:ext cx="16524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91480" y="5907240"/>
              <a:ext cx="162000" cy="233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969240" y="590724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891480" y="596124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891480" y="603108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891480" y="609120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130880" y="5907240"/>
              <a:ext cx="162000" cy="233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210440" y="590724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130880" y="596124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130880" y="603108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130880" y="609120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661080" y="5907240"/>
              <a:ext cx="165240" cy="233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40640" y="590724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661080" y="5961240"/>
              <a:ext cx="1652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661080" y="6031080"/>
              <a:ext cx="1652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61080" y="6091200"/>
              <a:ext cx="1652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70720" y="4753080"/>
              <a:ext cx="770400" cy="682920"/>
            </a:xfrm>
            <a:custGeom>
              <a:avLst/>
              <a:gdLst/>
              <a:ahLst/>
              <a:rect l="0" t="0" r="r" b="b"/>
              <a:pathLst>
                <a:path w="2140" h="1897">
                  <a:moveTo>
                    <a:pt x="4" y="1331"/>
                  </a:moveTo>
                  <a:lnTo>
                    <a:pt x="0" y="1110"/>
                  </a:lnTo>
                  <a:lnTo>
                    <a:pt x="461" y="1027"/>
                  </a:lnTo>
                  <a:lnTo>
                    <a:pt x="396" y="769"/>
                  </a:lnTo>
                  <a:lnTo>
                    <a:pt x="641" y="769"/>
                  </a:lnTo>
                  <a:lnTo>
                    <a:pt x="850" y="417"/>
                  </a:lnTo>
                  <a:lnTo>
                    <a:pt x="828" y="260"/>
                  </a:lnTo>
                  <a:lnTo>
                    <a:pt x="1033" y="0"/>
                  </a:lnTo>
                  <a:lnTo>
                    <a:pt x="1224" y="265"/>
                  </a:lnTo>
                  <a:lnTo>
                    <a:pt x="1224" y="443"/>
                  </a:lnTo>
                  <a:lnTo>
                    <a:pt x="1460" y="856"/>
                  </a:lnTo>
                  <a:lnTo>
                    <a:pt x="1657" y="891"/>
                  </a:lnTo>
                  <a:lnTo>
                    <a:pt x="1577" y="1083"/>
                  </a:lnTo>
                  <a:lnTo>
                    <a:pt x="2140" y="1175"/>
                  </a:lnTo>
                  <a:lnTo>
                    <a:pt x="2140" y="1897"/>
                  </a:lnTo>
                  <a:lnTo>
                    <a:pt x="2118" y="1897"/>
                  </a:lnTo>
                  <a:lnTo>
                    <a:pt x="2123" y="1314"/>
                  </a:lnTo>
                  <a:lnTo>
                    <a:pt x="4" y="133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73840" y="5078520"/>
              <a:ext cx="52560" cy="133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945480" y="5078520"/>
              <a:ext cx="49320" cy="133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05520" y="4984920"/>
              <a:ext cx="57240" cy="46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81760" y="4975200"/>
              <a:ext cx="100080" cy="42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62840" y="5195880"/>
              <a:ext cx="139680" cy="210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30880" y="5195880"/>
              <a:ext cx="9360" cy="210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62840" y="5245200"/>
              <a:ext cx="1396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62840" y="5307120"/>
              <a:ext cx="1396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62840" y="5362560"/>
              <a:ext cx="1396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70560" y="5195880"/>
              <a:ext cx="141120" cy="210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38960" y="5195880"/>
              <a:ext cx="11160" cy="210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70560" y="5245200"/>
              <a:ext cx="1411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70560" y="5307120"/>
              <a:ext cx="1411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70560" y="5362560"/>
              <a:ext cx="1411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62680" y="5195880"/>
              <a:ext cx="142920" cy="210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32520" y="5195880"/>
              <a:ext cx="9360" cy="210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62680" y="5245200"/>
              <a:ext cx="1429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62680" y="5307120"/>
              <a:ext cx="1429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62680" y="5362560"/>
              <a:ext cx="1429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62840" y="5491080"/>
              <a:ext cx="139680" cy="210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30880" y="5491080"/>
              <a:ext cx="9360" cy="210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62840" y="5540400"/>
              <a:ext cx="1396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62840" y="5602320"/>
              <a:ext cx="13968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62840" y="5657760"/>
              <a:ext cx="1396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70560" y="5491080"/>
              <a:ext cx="141120" cy="210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38960" y="5491080"/>
              <a:ext cx="11160" cy="210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70560" y="5540400"/>
              <a:ext cx="1411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70560" y="5602320"/>
              <a:ext cx="14112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70560" y="5657760"/>
              <a:ext cx="1411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62680" y="5491080"/>
              <a:ext cx="142920" cy="210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2520" y="5491080"/>
              <a:ext cx="9360" cy="210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62680" y="5540400"/>
              <a:ext cx="1429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62680" y="5602320"/>
              <a:ext cx="14292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62680" y="5657760"/>
              <a:ext cx="1429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62840" y="5773680"/>
              <a:ext cx="139680" cy="210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30880" y="5773680"/>
              <a:ext cx="9360" cy="210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62840" y="5823000"/>
              <a:ext cx="1396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62840" y="5886360"/>
              <a:ext cx="1396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62840" y="5940360"/>
              <a:ext cx="1396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70560" y="5773680"/>
              <a:ext cx="141120" cy="210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38960" y="5773680"/>
              <a:ext cx="11160" cy="210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70560" y="5823000"/>
              <a:ext cx="1411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70560" y="5886360"/>
              <a:ext cx="1411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70560" y="5940360"/>
              <a:ext cx="1411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62680" y="5773680"/>
              <a:ext cx="142920" cy="210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32520" y="5773680"/>
              <a:ext cx="9360" cy="210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62680" y="5823000"/>
              <a:ext cx="1429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62680" y="5886360"/>
              <a:ext cx="1429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62680" y="5940360"/>
              <a:ext cx="1429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35760" y="5141880"/>
              <a:ext cx="12600" cy="2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34120" y="5141880"/>
              <a:ext cx="12600" cy="2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35760" y="5440320"/>
              <a:ext cx="12600" cy="2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34120" y="5440320"/>
              <a:ext cx="12600" cy="2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32520" y="5726160"/>
              <a:ext cx="12600" cy="27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35560" y="5726160"/>
              <a:ext cx="14400" cy="27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61160" y="4917960"/>
              <a:ext cx="735480" cy="349560"/>
            </a:xfrm>
            <a:custGeom>
              <a:avLst/>
              <a:gdLst/>
              <a:ahLst/>
              <a:rect l="0" t="0" r="r" b="b"/>
              <a:pathLst>
                <a:path w="2043" h="971">
                  <a:moveTo>
                    <a:pt x="0" y="971"/>
                  </a:moveTo>
                  <a:lnTo>
                    <a:pt x="17" y="971"/>
                  </a:lnTo>
                  <a:lnTo>
                    <a:pt x="17" y="467"/>
                  </a:lnTo>
                  <a:lnTo>
                    <a:pt x="2043" y="494"/>
                  </a:lnTo>
                  <a:lnTo>
                    <a:pt x="2039" y="8"/>
                  </a:lnTo>
                  <a:lnTo>
                    <a:pt x="0" y="0"/>
                  </a:lnTo>
                  <a:lnTo>
                    <a:pt x="0" y="97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62040" y="5116680"/>
              <a:ext cx="720720" cy="11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73200" y="4718160"/>
              <a:ext cx="754560" cy="508320"/>
            </a:xfrm>
            <a:custGeom>
              <a:avLst/>
              <a:gdLst/>
              <a:ahLst/>
              <a:rect l="0" t="0" r="r" b="b"/>
              <a:pathLst>
                <a:path w="2096" h="1412">
                  <a:moveTo>
                    <a:pt x="4" y="987"/>
                  </a:moveTo>
                  <a:lnTo>
                    <a:pt x="0" y="827"/>
                  </a:lnTo>
                  <a:lnTo>
                    <a:pt x="452" y="767"/>
                  </a:lnTo>
                  <a:lnTo>
                    <a:pt x="391" y="575"/>
                  </a:lnTo>
                  <a:lnTo>
                    <a:pt x="632" y="575"/>
                  </a:lnTo>
                  <a:lnTo>
                    <a:pt x="832" y="311"/>
                  </a:lnTo>
                  <a:lnTo>
                    <a:pt x="815" y="194"/>
                  </a:lnTo>
                  <a:lnTo>
                    <a:pt x="1015" y="0"/>
                  </a:lnTo>
                  <a:lnTo>
                    <a:pt x="1202" y="199"/>
                  </a:lnTo>
                  <a:lnTo>
                    <a:pt x="1198" y="328"/>
                  </a:lnTo>
                  <a:lnTo>
                    <a:pt x="1433" y="640"/>
                  </a:lnTo>
                  <a:lnTo>
                    <a:pt x="1626" y="662"/>
                  </a:lnTo>
                  <a:lnTo>
                    <a:pt x="1546" y="806"/>
                  </a:lnTo>
                  <a:lnTo>
                    <a:pt x="2096" y="875"/>
                  </a:lnTo>
                  <a:lnTo>
                    <a:pt x="2096" y="1412"/>
                  </a:lnTo>
                  <a:lnTo>
                    <a:pt x="2074" y="1412"/>
                  </a:lnTo>
                  <a:lnTo>
                    <a:pt x="2074" y="979"/>
                  </a:lnTo>
                  <a:lnTo>
                    <a:pt x="4" y="987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1640" y="4960800"/>
              <a:ext cx="49320" cy="96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0040" y="4960800"/>
              <a:ext cx="47520" cy="96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1880" y="4890960"/>
              <a:ext cx="55440" cy="33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8120" y="4883040"/>
              <a:ext cx="98280" cy="31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63880" y="4956120"/>
              <a:ext cx="702000" cy="171720"/>
            </a:xfrm>
            <a:custGeom>
              <a:avLst/>
              <a:gdLst/>
              <a:ahLst/>
              <a:rect l="0" t="0" r="r" b="b"/>
              <a:pathLst>
                <a:path w="1950" h="477">
                  <a:moveTo>
                    <a:pt x="0" y="406"/>
                  </a:moveTo>
                  <a:lnTo>
                    <a:pt x="887" y="0"/>
                  </a:lnTo>
                  <a:lnTo>
                    <a:pt x="1950" y="477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1520" y="4952880"/>
              <a:ext cx="667080" cy="162360"/>
            </a:xfrm>
            <a:custGeom>
              <a:avLst/>
              <a:gdLst/>
              <a:ahLst/>
              <a:rect l="0" t="0" r="r" b="b"/>
              <a:pathLst>
                <a:path w="1853" h="451">
                  <a:moveTo>
                    <a:pt x="199" y="414"/>
                  </a:moveTo>
                  <a:lnTo>
                    <a:pt x="65" y="435"/>
                  </a:lnTo>
                  <a:lnTo>
                    <a:pt x="834" y="91"/>
                  </a:lnTo>
                  <a:lnTo>
                    <a:pt x="1674" y="451"/>
                  </a:lnTo>
                  <a:lnTo>
                    <a:pt x="1853" y="439"/>
                  </a:lnTo>
                  <a:lnTo>
                    <a:pt x="813" y="0"/>
                  </a:lnTo>
                  <a:lnTo>
                    <a:pt x="0" y="376"/>
                  </a:lnTo>
                  <a:lnTo>
                    <a:pt x="199" y="41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1160" y="5033880"/>
              <a:ext cx="60840" cy="28800"/>
            </a:xfrm>
            <a:custGeom>
              <a:avLst/>
              <a:gdLst/>
              <a:ahLst/>
              <a:rect l="0" t="0" r="r" b="b"/>
              <a:pathLst>
                <a:path w="169" h="80">
                  <a:moveTo>
                    <a:pt x="0" y="0"/>
                  </a:moveTo>
                  <a:lnTo>
                    <a:pt x="169" y="3"/>
                  </a:lnTo>
                  <a:lnTo>
                    <a:pt x="107" y="70"/>
                  </a:lnTo>
                  <a:lnTo>
                    <a:pt x="65" y="80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64120" y="5024520"/>
              <a:ext cx="60840" cy="32040"/>
            </a:xfrm>
            <a:custGeom>
              <a:avLst/>
              <a:gdLst/>
              <a:ahLst/>
              <a:rect l="0" t="0" r="r" b="b"/>
              <a:pathLst>
                <a:path w="169" h="89">
                  <a:moveTo>
                    <a:pt x="0" y="0"/>
                  </a:moveTo>
                  <a:lnTo>
                    <a:pt x="169" y="6"/>
                  </a:lnTo>
                  <a:lnTo>
                    <a:pt x="103" y="72"/>
                  </a:lnTo>
                  <a:lnTo>
                    <a:pt x="61" y="89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94040" y="5092560"/>
              <a:ext cx="773640" cy="159120"/>
            </a:xfrm>
            <a:custGeom>
              <a:avLst/>
              <a:gdLst/>
              <a:ahLst/>
              <a:rect l="0" t="0" r="r" b="b"/>
              <a:pathLst>
                <a:path w="2149" h="442">
                  <a:moveTo>
                    <a:pt x="4" y="442"/>
                  </a:moveTo>
                  <a:lnTo>
                    <a:pt x="43" y="442"/>
                  </a:lnTo>
                  <a:lnTo>
                    <a:pt x="43" y="229"/>
                  </a:lnTo>
                  <a:lnTo>
                    <a:pt x="2114" y="229"/>
                  </a:lnTo>
                  <a:lnTo>
                    <a:pt x="2114" y="418"/>
                  </a:lnTo>
                  <a:lnTo>
                    <a:pt x="2149" y="413"/>
                  </a:lnTo>
                  <a:lnTo>
                    <a:pt x="2149" y="0"/>
                  </a:lnTo>
                  <a:lnTo>
                    <a:pt x="0" y="0"/>
                  </a:lnTo>
                  <a:lnTo>
                    <a:pt x="4" y="442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40000" y="4721400"/>
              <a:ext cx="429120" cy="181440"/>
            </a:xfrm>
            <a:custGeom>
              <a:avLst/>
              <a:gdLst/>
              <a:ahLst/>
              <a:rect l="0" t="0" r="r" b="b"/>
              <a:pathLst>
                <a:path w="1192" h="504">
                  <a:moveTo>
                    <a:pt x="1192" y="504"/>
                  </a:moveTo>
                  <a:lnTo>
                    <a:pt x="1110" y="273"/>
                  </a:lnTo>
                  <a:lnTo>
                    <a:pt x="959" y="108"/>
                  </a:lnTo>
                  <a:lnTo>
                    <a:pt x="768" y="20"/>
                  </a:lnTo>
                  <a:lnTo>
                    <a:pt x="669" y="4"/>
                  </a:lnTo>
                  <a:lnTo>
                    <a:pt x="561" y="0"/>
                  </a:lnTo>
                  <a:lnTo>
                    <a:pt x="363" y="37"/>
                  </a:lnTo>
                  <a:lnTo>
                    <a:pt x="185" y="143"/>
                  </a:lnTo>
                  <a:lnTo>
                    <a:pt x="60" y="294"/>
                  </a:lnTo>
                  <a:lnTo>
                    <a:pt x="0" y="500"/>
                  </a:lnTo>
                  <a:lnTo>
                    <a:pt x="1192" y="50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62320" y="4748040"/>
              <a:ext cx="367200" cy="133560"/>
            </a:xfrm>
            <a:custGeom>
              <a:avLst/>
              <a:gdLst/>
              <a:ahLst/>
              <a:rect l="0" t="0" r="r" b="b"/>
              <a:pathLst>
                <a:path w="1020" h="371">
                  <a:moveTo>
                    <a:pt x="1020" y="371"/>
                  </a:moveTo>
                  <a:lnTo>
                    <a:pt x="951" y="215"/>
                  </a:lnTo>
                  <a:lnTo>
                    <a:pt x="831" y="98"/>
                  </a:lnTo>
                  <a:lnTo>
                    <a:pt x="516" y="0"/>
                  </a:lnTo>
                  <a:lnTo>
                    <a:pt x="435" y="4"/>
                  </a:lnTo>
                  <a:lnTo>
                    <a:pt x="349" y="16"/>
                  </a:lnTo>
                  <a:lnTo>
                    <a:pt x="197" y="78"/>
                  </a:lnTo>
                  <a:lnTo>
                    <a:pt x="77" y="186"/>
                  </a:lnTo>
                  <a:lnTo>
                    <a:pt x="0" y="342"/>
                  </a:lnTo>
                  <a:lnTo>
                    <a:pt x="1020" y="37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4767120"/>
              <a:ext cx="329040" cy="106560"/>
            </a:xfrm>
            <a:custGeom>
              <a:avLst/>
              <a:gdLst/>
              <a:ahLst/>
              <a:rect l="0" t="0" r="r" b="b"/>
              <a:pathLst>
                <a:path w="914" h="296">
                  <a:moveTo>
                    <a:pt x="300" y="215"/>
                  </a:moveTo>
                  <a:lnTo>
                    <a:pt x="343" y="264"/>
                  </a:lnTo>
                  <a:lnTo>
                    <a:pt x="455" y="272"/>
                  </a:lnTo>
                  <a:lnTo>
                    <a:pt x="540" y="272"/>
                  </a:lnTo>
                  <a:lnTo>
                    <a:pt x="600" y="219"/>
                  </a:lnTo>
                  <a:lnTo>
                    <a:pt x="630" y="199"/>
                  </a:lnTo>
                  <a:lnTo>
                    <a:pt x="665" y="223"/>
                  </a:lnTo>
                  <a:lnTo>
                    <a:pt x="643" y="280"/>
                  </a:lnTo>
                  <a:lnTo>
                    <a:pt x="682" y="296"/>
                  </a:lnTo>
                  <a:lnTo>
                    <a:pt x="751" y="247"/>
                  </a:lnTo>
                  <a:lnTo>
                    <a:pt x="799" y="247"/>
                  </a:lnTo>
                  <a:lnTo>
                    <a:pt x="871" y="268"/>
                  </a:lnTo>
                  <a:lnTo>
                    <a:pt x="914" y="247"/>
                  </a:lnTo>
                  <a:lnTo>
                    <a:pt x="841" y="191"/>
                  </a:lnTo>
                  <a:lnTo>
                    <a:pt x="769" y="170"/>
                  </a:lnTo>
                  <a:lnTo>
                    <a:pt x="786" y="113"/>
                  </a:lnTo>
                  <a:lnTo>
                    <a:pt x="756" y="68"/>
                  </a:lnTo>
                  <a:lnTo>
                    <a:pt x="700" y="97"/>
                  </a:lnTo>
                  <a:lnTo>
                    <a:pt x="643" y="36"/>
                  </a:lnTo>
                  <a:lnTo>
                    <a:pt x="502" y="0"/>
                  </a:lnTo>
                  <a:lnTo>
                    <a:pt x="348" y="4"/>
                  </a:lnTo>
                  <a:lnTo>
                    <a:pt x="300" y="44"/>
                  </a:lnTo>
                  <a:lnTo>
                    <a:pt x="270" y="84"/>
                  </a:lnTo>
                  <a:lnTo>
                    <a:pt x="205" y="72"/>
                  </a:lnTo>
                  <a:lnTo>
                    <a:pt x="149" y="93"/>
                  </a:lnTo>
                  <a:lnTo>
                    <a:pt x="145" y="141"/>
                  </a:lnTo>
                  <a:lnTo>
                    <a:pt x="72" y="195"/>
                  </a:lnTo>
                  <a:lnTo>
                    <a:pt x="0" y="264"/>
                  </a:lnTo>
                  <a:lnTo>
                    <a:pt x="81" y="243"/>
                  </a:lnTo>
                  <a:lnTo>
                    <a:pt x="154" y="195"/>
                  </a:lnTo>
                  <a:lnTo>
                    <a:pt x="179" y="268"/>
                  </a:lnTo>
                  <a:lnTo>
                    <a:pt x="249" y="231"/>
                  </a:lnTo>
                  <a:lnTo>
                    <a:pt x="266" y="199"/>
                  </a:lnTo>
                  <a:lnTo>
                    <a:pt x="300" y="21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82920" y="4714920"/>
              <a:ext cx="398880" cy="178200"/>
            </a:xfrm>
            <a:custGeom>
              <a:avLst/>
              <a:gdLst/>
              <a:ahLst/>
              <a:rect l="0" t="0" r="r" b="b"/>
              <a:pathLst>
                <a:path w="1108" h="495">
                  <a:moveTo>
                    <a:pt x="1108" y="491"/>
                  </a:moveTo>
                  <a:lnTo>
                    <a:pt x="1027" y="277"/>
                  </a:lnTo>
                  <a:lnTo>
                    <a:pt x="897" y="121"/>
                  </a:lnTo>
                  <a:lnTo>
                    <a:pt x="737" y="29"/>
                  </a:lnTo>
                  <a:lnTo>
                    <a:pt x="560" y="0"/>
                  </a:lnTo>
                  <a:lnTo>
                    <a:pt x="479" y="4"/>
                  </a:lnTo>
                  <a:lnTo>
                    <a:pt x="388" y="29"/>
                  </a:lnTo>
                  <a:lnTo>
                    <a:pt x="223" y="121"/>
                  </a:lnTo>
                  <a:lnTo>
                    <a:pt x="90" y="277"/>
                  </a:lnTo>
                  <a:lnTo>
                    <a:pt x="0" y="495"/>
                  </a:lnTo>
                  <a:lnTo>
                    <a:pt x="1108" y="49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25760" y="4737240"/>
              <a:ext cx="303480" cy="125640"/>
            </a:xfrm>
            <a:custGeom>
              <a:avLst/>
              <a:gdLst/>
              <a:ahLst/>
              <a:rect l="0" t="0" r="r" b="b"/>
              <a:pathLst>
                <a:path w="843" h="349">
                  <a:moveTo>
                    <a:pt x="843" y="349"/>
                  </a:moveTo>
                  <a:lnTo>
                    <a:pt x="689" y="90"/>
                  </a:lnTo>
                  <a:lnTo>
                    <a:pt x="432" y="0"/>
                  </a:lnTo>
                  <a:lnTo>
                    <a:pt x="295" y="20"/>
                  </a:lnTo>
                  <a:lnTo>
                    <a:pt x="166" y="90"/>
                  </a:lnTo>
                  <a:lnTo>
                    <a:pt x="0" y="349"/>
                  </a:lnTo>
                  <a:lnTo>
                    <a:pt x="843" y="34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1600" y="4754520"/>
              <a:ext cx="271800" cy="100440"/>
            </a:xfrm>
            <a:custGeom>
              <a:avLst/>
              <a:gdLst/>
              <a:ahLst/>
              <a:rect l="0" t="0" r="r" b="b"/>
              <a:pathLst>
                <a:path w="755" h="279">
                  <a:moveTo>
                    <a:pt x="247" y="206"/>
                  </a:moveTo>
                  <a:lnTo>
                    <a:pt x="285" y="251"/>
                  </a:lnTo>
                  <a:lnTo>
                    <a:pt x="380" y="267"/>
                  </a:lnTo>
                  <a:lnTo>
                    <a:pt x="452" y="267"/>
                  </a:lnTo>
                  <a:lnTo>
                    <a:pt x="503" y="215"/>
                  </a:lnTo>
                  <a:lnTo>
                    <a:pt x="520" y="194"/>
                  </a:lnTo>
                  <a:lnTo>
                    <a:pt x="559" y="215"/>
                  </a:lnTo>
                  <a:lnTo>
                    <a:pt x="529" y="267"/>
                  </a:lnTo>
                  <a:lnTo>
                    <a:pt x="567" y="279"/>
                  </a:lnTo>
                  <a:lnTo>
                    <a:pt x="631" y="231"/>
                  </a:lnTo>
                  <a:lnTo>
                    <a:pt x="665" y="231"/>
                  </a:lnTo>
                  <a:lnTo>
                    <a:pt x="729" y="255"/>
                  </a:lnTo>
                  <a:lnTo>
                    <a:pt x="755" y="247"/>
                  </a:lnTo>
                  <a:lnTo>
                    <a:pt x="703" y="186"/>
                  </a:lnTo>
                  <a:lnTo>
                    <a:pt x="644" y="153"/>
                  </a:lnTo>
                  <a:lnTo>
                    <a:pt x="661" y="105"/>
                  </a:lnTo>
                  <a:lnTo>
                    <a:pt x="622" y="52"/>
                  </a:lnTo>
                  <a:lnTo>
                    <a:pt x="580" y="85"/>
                  </a:lnTo>
                  <a:lnTo>
                    <a:pt x="537" y="24"/>
                  </a:lnTo>
                  <a:lnTo>
                    <a:pt x="418" y="0"/>
                  </a:lnTo>
                  <a:lnTo>
                    <a:pt x="293" y="4"/>
                  </a:lnTo>
                  <a:lnTo>
                    <a:pt x="247" y="36"/>
                  </a:lnTo>
                  <a:lnTo>
                    <a:pt x="221" y="81"/>
                  </a:lnTo>
                  <a:lnTo>
                    <a:pt x="161" y="60"/>
                  </a:lnTo>
                  <a:lnTo>
                    <a:pt x="119" y="85"/>
                  </a:lnTo>
                  <a:lnTo>
                    <a:pt x="115" y="141"/>
                  </a:lnTo>
                  <a:lnTo>
                    <a:pt x="55" y="186"/>
                  </a:lnTo>
                  <a:lnTo>
                    <a:pt x="0" y="263"/>
                  </a:lnTo>
                  <a:lnTo>
                    <a:pt x="68" y="231"/>
                  </a:lnTo>
                  <a:lnTo>
                    <a:pt x="127" y="190"/>
                  </a:lnTo>
                  <a:lnTo>
                    <a:pt x="149" y="259"/>
                  </a:lnTo>
                  <a:lnTo>
                    <a:pt x="200" y="231"/>
                  </a:lnTo>
                  <a:lnTo>
                    <a:pt x="217" y="190"/>
                  </a:lnTo>
                  <a:lnTo>
                    <a:pt x="247" y="20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16640" y="4933800"/>
              <a:ext cx="101520" cy="95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14840" y="5072040"/>
              <a:ext cx="100080" cy="92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46680" y="4873680"/>
              <a:ext cx="58680" cy="30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26160" y="4935600"/>
              <a:ext cx="101520" cy="93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29040" y="5072040"/>
              <a:ext cx="101520" cy="92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13400" y="5773680"/>
              <a:ext cx="150840" cy="303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35520" y="5773680"/>
              <a:ext cx="149400" cy="303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40040" y="4913280"/>
              <a:ext cx="213120" cy="416160"/>
            </a:xfrm>
            <a:custGeom>
              <a:avLst/>
              <a:gdLst/>
              <a:ahLst/>
              <a:rect l="0" t="0" r="r" b="b"/>
              <a:pathLst>
                <a:path w="592" h="1156">
                  <a:moveTo>
                    <a:pt x="105" y="0"/>
                  </a:moveTo>
                  <a:lnTo>
                    <a:pt x="130" y="301"/>
                  </a:lnTo>
                  <a:lnTo>
                    <a:pt x="224" y="452"/>
                  </a:lnTo>
                  <a:lnTo>
                    <a:pt x="105" y="435"/>
                  </a:lnTo>
                  <a:lnTo>
                    <a:pt x="97" y="465"/>
                  </a:lnTo>
                  <a:lnTo>
                    <a:pt x="109" y="504"/>
                  </a:lnTo>
                  <a:lnTo>
                    <a:pt x="262" y="660"/>
                  </a:lnTo>
                  <a:lnTo>
                    <a:pt x="105" y="647"/>
                  </a:lnTo>
                  <a:lnTo>
                    <a:pt x="271" y="759"/>
                  </a:lnTo>
                  <a:lnTo>
                    <a:pt x="135" y="733"/>
                  </a:lnTo>
                  <a:lnTo>
                    <a:pt x="300" y="833"/>
                  </a:lnTo>
                  <a:lnTo>
                    <a:pt x="224" y="854"/>
                  </a:lnTo>
                  <a:lnTo>
                    <a:pt x="292" y="884"/>
                  </a:lnTo>
                  <a:lnTo>
                    <a:pt x="118" y="945"/>
                  </a:lnTo>
                  <a:lnTo>
                    <a:pt x="182" y="962"/>
                  </a:lnTo>
                  <a:lnTo>
                    <a:pt x="152" y="1044"/>
                  </a:lnTo>
                  <a:lnTo>
                    <a:pt x="470" y="1113"/>
                  </a:lnTo>
                  <a:lnTo>
                    <a:pt x="457" y="914"/>
                  </a:lnTo>
                  <a:lnTo>
                    <a:pt x="592" y="940"/>
                  </a:lnTo>
                  <a:lnTo>
                    <a:pt x="563" y="1065"/>
                  </a:lnTo>
                  <a:lnTo>
                    <a:pt x="533" y="1147"/>
                  </a:lnTo>
                  <a:lnTo>
                    <a:pt x="292" y="1156"/>
                  </a:lnTo>
                  <a:lnTo>
                    <a:pt x="130" y="1156"/>
                  </a:lnTo>
                  <a:lnTo>
                    <a:pt x="59" y="1156"/>
                  </a:lnTo>
                  <a:lnTo>
                    <a:pt x="0" y="1156"/>
                  </a:lnTo>
                  <a:lnTo>
                    <a:pt x="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09920" y="4986360"/>
              <a:ext cx="38520" cy="49680"/>
            </a:xfrm>
            <a:custGeom>
              <a:avLst/>
              <a:gdLst/>
              <a:ahLst/>
              <a:rect l="0" t="0" r="r" b="b"/>
              <a:pathLst>
                <a:path w="107" h="138">
                  <a:moveTo>
                    <a:pt x="3" y="0"/>
                  </a:moveTo>
                  <a:lnTo>
                    <a:pt x="107" y="3"/>
                  </a:lnTo>
                  <a:lnTo>
                    <a:pt x="104" y="33"/>
                  </a:lnTo>
                  <a:lnTo>
                    <a:pt x="57" y="135"/>
                  </a:lnTo>
                  <a:lnTo>
                    <a:pt x="36" y="138"/>
                  </a:lnTo>
                  <a:lnTo>
                    <a:pt x="0" y="3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32240" y="497052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3" y="0"/>
                  </a:moveTo>
                  <a:lnTo>
                    <a:pt x="116" y="3"/>
                  </a:lnTo>
                  <a:lnTo>
                    <a:pt x="113" y="33"/>
                  </a:lnTo>
                  <a:lnTo>
                    <a:pt x="61" y="138"/>
                  </a:lnTo>
                  <a:lnTo>
                    <a:pt x="40" y="138"/>
                  </a:lnTo>
                  <a:lnTo>
                    <a:pt x="0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2920" y="5138640"/>
              <a:ext cx="117360" cy="165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98920" y="4924440"/>
              <a:ext cx="203400" cy="414720"/>
            </a:xfrm>
            <a:custGeom>
              <a:avLst/>
              <a:gdLst/>
              <a:ahLst/>
              <a:rect l="0" t="0" r="r" b="b"/>
              <a:pathLst>
                <a:path w="565" h="1152">
                  <a:moveTo>
                    <a:pt x="122" y="0"/>
                  </a:moveTo>
                  <a:lnTo>
                    <a:pt x="122" y="129"/>
                  </a:lnTo>
                  <a:lnTo>
                    <a:pt x="143" y="298"/>
                  </a:lnTo>
                  <a:lnTo>
                    <a:pt x="223" y="453"/>
                  </a:lnTo>
                  <a:lnTo>
                    <a:pt x="105" y="466"/>
                  </a:lnTo>
                  <a:lnTo>
                    <a:pt x="117" y="505"/>
                  </a:lnTo>
                  <a:lnTo>
                    <a:pt x="261" y="660"/>
                  </a:lnTo>
                  <a:lnTo>
                    <a:pt x="113" y="647"/>
                  </a:lnTo>
                  <a:lnTo>
                    <a:pt x="269" y="759"/>
                  </a:lnTo>
                  <a:lnTo>
                    <a:pt x="147" y="729"/>
                  </a:lnTo>
                  <a:lnTo>
                    <a:pt x="304" y="828"/>
                  </a:lnTo>
                  <a:lnTo>
                    <a:pt x="223" y="850"/>
                  </a:lnTo>
                  <a:lnTo>
                    <a:pt x="300" y="885"/>
                  </a:lnTo>
                  <a:lnTo>
                    <a:pt x="126" y="941"/>
                  </a:lnTo>
                  <a:lnTo>
                    <a:pt x="185" y="963"/>
                  </a:lnTo>
                  <a:lnTo>
                    <a:pt x="164" y="1045"/>
                  </a:lnTo>
                  <a:lnTo>
                    <a:pt x="472" y="1109"/>
                  </a:lnTo>
                  <a:lnTo>
                    <a:pt x="460" y="911"/>
                  </a:lnTo>
                  <a:lnTo>
                    <a:pt x="565" y="933"/>
                  </a:lnTo>
                  <a:lnTo>
                    <a:pt x="535" y="1148"/>
                  </a:lnTo>
                  <a:lnTo>
                    <a:pt x="300" y="1152"/>
                  </a:lnTo>
                  <a:lnTo>
                    <a:pt x="8" y="1144"/>
                  </a:lnTo>
                  <a:lnTo>
                    <a:pt x="0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65400" y="4921200"/>
              <a:ext cx="224280" cy="414720"/>
            </a:xfrm>
            <a:custGeom>
              <a:avLst/>
              <a:gdLst/>
              <a:ahLst/>
              <a:rect l="0" t="0" r="r" b="b"/>
              <a:pathLst>
                <a:path w="623" h="1152">
                  <a:moveTo>
                    <a:pt x="513" y="0"/>
                  </a:moveTo>
                  <a:lnTo>
                    <a:pt x="492" y="298"/>
                  </a:lnTo>
                  <a:lnTo>
                    <a:pt x="402" y="457"/>
                  </a:lnTo>
                  <a:lnTo>
                    <a:pt x="518" y="432"/>
                  </a:lnTo>
                  <a:lnTo>
                    <a:pt x="526" y="466"/>
                  </a:lnTo>
                  <a:lnTo>
                    <a:pt x="513" y="501"/>
                  </a:lnTo>
                  <a:lnTo>
                    <a:pt x="364" y="656"/>
                  </a:lnTo>
                  <a:lnTo>
                    <a:pt x="518" y="647"/>
                  </a:lnTo>
                  <a:lnTo>
                    <a:pt x="356" y="755"/>
                  </a:lnTo>
                  <a:lnTo>
                    <a:pt x="488" y="729"/>
                  </a:lnTo>
                  <a:lnTo>
                    <a:pt x="326" y="832"/>
                  </a:lnTo>
                  <a:lnTo>
                    <a:pt x="402" y="845"/>
                  </a:lnTo>
                  <a:lnTo>
                    <a:pt x="330" y="881"/>
                  </a:lnTo>
                  <a:lnTo>
                    <a:pt x="505" y="941"/>
                  </a:lnTo>
                  <a:lnTo>
                    <a:pt x="440" y="958"/>
                  </a:lnTo>
                  <a:lnTo>
                    <a:pt x="466" y="1040"/>
                  </a:lnTo>
                  <a:lnTo>
                    <a:pt x="152" y="1109"/>
                  </a:lnTo>
                  <a:lnTo>
                    <a:pt x="114" y="894"/>
                  </a:lnTo>
                  <a:lnTo>
                    <a:pt x="0" y="920"/>
                  </a:lnTo>
                  <a:lnTo>
                    <a:pt x="88" y="1148"/>
                  </a:lnTo>
                  <a:lnTo>
                    <a:pt x="326" y="1152"/>
                  </a:lnTo>
                  <a:lnTo>
                    <a:pt x="623" y="1144"/>
                  </a:lnTo>
                  <a:lnTo>
                    <a:pt x="623" y="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2360" y="4898880"/>
              <a:ext cx="201960" cy="414720"/>
            </a:xfrm>
            <a:custGeom>
              <a:avLst/>
              <a:gdLst/>
              <a:ahLst/>
              <a:rect l="0" t="0" r="r" b="b"/>
              <a:pathLst>
                <a:path w="561" h="1152">
                  <a:moveTo>
                    <a:pt x="455" y="0"/>
                  </a:moveTo>
                  <a:lnTo>
                    <a:pt x="426" y="298"/>
                  </a:lnTo>
                  <a:lnTo>
                    <a:pt x="342" y="453"/>
                  </a:lnTo>
                  <a:lnTo>
                    <a:pt x="455" y="436"/>
                  </a:lnTo>
                  <a:lnTo>
                    <a:pt x="464" y="466"/>
                  </a:lnTo>
                  <a:lnTo>
                    <a:pt x="451" y="505"/>
                  </a:lnTo>
                  <a:lnTo>
                    <a:pt x="299" y="664"/>
                  </a:lnTo>
                  <a:lnTo>
                    <a:pt x="455" y="647"/>
                  </a:lnTo>
                  <a:lnTo>
                    <a:pt x="291" y="759"/>
                  </a:lnTo>
                  <a:lnTo>
                    <a:pt x="426" y="729"/>
                  </a:lnTo>
                  <a:lnTo>
                    <a:pt x="261" y="828"/>
                  </a:lnTo>
                  <a:lnTo>
                    <a:pt x="265" y="885"/>
                  </a:lnTo>
                  <a:lnTo>
                    <a:pt x="443" y="946"/>
                  </a:lnTo>
                  <a:lnTo>
                    <a:pt x="384" y="963"/>
                  </a:lnTo>
                  <a:lnTo>
                    <a:pt x="401" y="1049"/>
                  </a:lnTo>
                  <a:lnTo>
                    <a:pt x="92" y="1114"/>
                  </a:lnTo>
                  <a:lnTo>
                    <a:pt x="88" y="924"/>
                  </a:lnTo>
                  <a:lnTo>
                    <a:pt x="0" y="937"/>
                  </a:lnTo>
                  <a:lnTo>
                    <a:pt x="29" y="1152"/>
                  </a:lnTo>
                  <a:lnTo>
                    <a:pt x="113" y="1152"/>
                  </a:lnTo>
                  <a:lnTo>
                    <a:pt x="185" y="1152"/>
                  </a:lnTo>
                  <a:lnTo>
                    <a:pt x="265" y="1152"/>
                  </a:lnTo>
                  <a:lnTo>
                    <a:pt x="430" y="1152"/>
                  </a:lnTo>
                  <a:lnTo>
                    <a:pt x="561" y="1152"/>
                  </a:lnTo>
                  <a:lnTo>
                    <a:pt x="556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49600" y="498780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7" y="0"/>
                  </a:moveTo>
                  <a:lnTo>
                    <a:pt x="111" y="0"/>
                  </a:lnTo>
                  <a:lnTo>
                    <a:pt x="107" y="33"/>
                  </a:lnTo>
                  <a:lnTo>
                    <a:pt x="65" y="135"/>
                  </a:lnTo>
                  <a:lnTo>
                    <a:pt x="39" y="138"/>
                  </a:lnTo>
                  <a:lnTo>
                    <a:pt x="0" y="2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73360" y="4970520"/>
              <a:ext cx="41760" cy="51120"/>
            </a:xfrm>
            <a:custGeom>
              <a:avLst/>
              <a:gdLst/>
              <a:ahLst/>
              <a:rect l="0" t="0" r="r" b="b"/>
              <a:pathLst>
                <a:path w="116" h="142">
                  <a:moveTo>
                    <a:pt x="3" y="0"/>
                  </a:moveTo>
                  <a:lnTo>
                    <a:pt x="116" y="3"/>
                  </a:lnTo>
                  <a:lnTo>
                    <a:pt x="116" y="33"/>
                  </a:lnTo>
                  <a:lnTo>
                    <a:pt x="61" y="138"/>
                  </a:lnTo>
                  <a:lnTo>
                    <a:pt x="40" y="142"/>
                  </a:lnTo>
                  <a:lnTo>
                    <a:pt x="0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24040" y="5140440"/>
              <a:ext cx="117360" cy="163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27160" y="5078520"/>
              <a:ext cx="133200" cy="244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92320" y="5078520"/>
              <a:ext cx="9360" cy="244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27160" y="5137200"/>
              <a:ext cx="1332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27160" y="5207040"/>
              <a:ext cx="1332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27160" y="5273640"/>
              <a:ext cx="1332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25520" y="5078520"/>
              <a:ext cx="136440" cy="244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90680" y="5078520"/>
              <a:ext cx="11160" cy="244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5520" y="5137200"/>
              <a:ext cx="1364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25520" y="5207040"/>
              <a:ext cx="1364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25520" y="5273640"/>
              <a:ext cx="1364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34920" y="5078520"/>
              <a:ext cx="135000" cy="244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01880" y="5078520"/>
              <a:ext cx="9360" cy="244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34920" y="5137200"/>
              <a:ext cx="135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34920" y="5207040"/>
              <a:ext cx="135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34920" y="5273640"/>
              <a:ext cx="135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27160" y="5416560"/>
              <a:ext cx="133200" cy="244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92320" y="5416560"/>
              <a:ext cx="9360" cy="24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7160" y="5475240"/>
              <a:ext cx="1332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27160" y="5546880"/>
              <a:ext cx="1332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27160" y="5610240"/>
              <a:ext cx="13320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25520" y="5416560"/>
              <a:ext cx="136440" cy="244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90680" y="5416560"/>
              <a:ext cx="11160" cy="24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25520" y="5475240"/>
              <a:ext cx="1364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25520" y="5546880"/>
              <a:ext cx="1364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5520" y="5610240"/>
              <a:ext cx="13644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34920" y="5416560"/>
              <a:ext cx="135000" cy="244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01880" y="5416560"/>
              <a:ext cx="9360" cy="24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34920" y="5475240"/>
              <a:ext cx="135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34920" y="5546880"/>
              <a:ext cx="135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34920" y="5610240"/>
              <a:ext cx="13500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27160" y="5742000"/>
              <a:ext cx="133200" cy="246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92320" y="5742000"/>
              <a:ext cx="936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27160" y="5799240"/>
              <a:ext cx="1332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27160" y="5872320"/>
              <a:ext cx="1332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27160" y="5934240"/>
              <a:ext cx="13320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25520" y="5742000"/>
              <a:ext cx="136440" cy="246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90680" y="5742000"/>
              <a:ext cx="1116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25520" y="5799240"/>
              <a:ext cx="1364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25520" y="5872320"/>
              <a:ext cx="1364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25520" y="5934240"/>
              <a:ext cx="13644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34920" y="5742000"/>
              <a:ext cx="135000" cy="246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01880" y="5742000"/>
              <a:ext cx="936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34920" y="5799240"/>
              <a:ext cx="1350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34920" y="5872320"/>
              <a:ext cx="1350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34920" y="5934240"/>
              <a:ext cx="13500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32040" y="5180040"/>
              <a:ext cx="171360" cy="2030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14480" y="5180040"/>
              <a:ext cx="1440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32040" y="5227560"/>
              <a:ext cx="1713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32040" y="5288040"/>
              <a:ext cx="1713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32040" y="534204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84400" y="5180040"/>
              <a:ext cx="173160" cy="2030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68640" y="5180040"/>
              <a:ext cx="1440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84400" y="5227560"/>
              <a:ext cx="1731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84400" y="5288040"/>
              <a:ext cx="1731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84400" y="5342040"/>
              <a:ext cx="1731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90840" y="5180040"/>
              <a:ext cx="173160" cy="2030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4720" y="5180040"/>
              <a:ext cx="1764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90840" y="5227560"/>
              <a:ext cx="1731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90840" y="5288040"/>
              <a:ext cx="1731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90840" y="5342040"/>
              <a:ext cx="1731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32040" y="5465880"/>
              <a:ext cx="171360" cy="2030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14480" y="5465880"/>
              <a:ext cx="1440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32040" y="551340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0800000">
              <a:off x="1832040" y="557244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2040" y="5627520"/>
              <a:ext cx="1713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84400" y="5465880"/>
              <a:ext cx="173160" cy="2030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68640" y="5465880"/>
              <a:ext cx="1440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84400" y="5513400"/>
              <a:ext cx="1731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0800000">
              <a:off x="2084400" y="5572440"/>
              <a:ext cx="1731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84400" y="5627520"/>
              <a:ext cx="1731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90840" y="5465880"/>
              <a:ext cx="173160" cy="2030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4720" y="5465880"/>
              <a:ext cx="1764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90840" y="5513400"/>
              <a:ext cx="1731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0800000">
              <a:off x="1590840" y="5572440"/>
              <a:ext cx="1731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90840" y="5627520"/>
              <a:ext cx="1731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32040" y="5737320"/>
              <a:ext cx="17136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4480" y="5737320"/>
              <a:ext cx="14400" cy="204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2040" y="5786280"/>
              <a:ext cx="1713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584532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32040" y="589932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84400" y="5737320"/>
              <a:ext cx="17316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68640" y="5737320"/>
              <a:ext cx="14400" cy="204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84400" y="5786280"/>
              <a:ext cx="1731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4400" y="5845320"/>
              <a:ext cx="1731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84400" y="5899320"/>
              <a:ext cx="1731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90840" y="5737320"/>
              <a:ext cx="17316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74720" y="5737320"/>
              <a:ext cx="17640" cy="204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0840" y="5786280"/>
              <a:ext cx="1731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90840" y="5845320"/>
              <a:ext cx="1731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0840" y="5899320"/>
              <a:ext cx="1731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0400" y="4873680"/>
              <a:ext cx="763920" cy="141480"/>
            </a:xfrm>
            <a:custGeom>
              <a:avLst/>
              <a:gdLst/>
              <a:ahLst/>
              <a:rect l="0" t="0" r="r" b="b"/>
              <a:pathLst>
                <a:path w="2122" h="393">
                  <a:moveTo>
                    <a:pt x="100" y="8"/>
                  </a:moveTo>
                  <a:lnTo>
                    <a:pt x="1834" y="0"/>
                  </a:lnTo>
                  <a:lnTo>
                    <a:pt x="2122" y="215"/>
                  </a:lnTo>
                  <a:lnTo>
                    <a:pt x="2013" y="393"/>
                  </a:lnTo>
                  <a:lnTo>
                    <a:pt x="104" y="389"/>
                  </a:lnTo>
                  <a:lnTo>
                    <a:pt x="0" y="194"/>
                  </a:lnTo>
                  <a:lnTo>
                    <a:pt x="100" y="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3080" y="5735520"/>
              <a:ext cx="12528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73200" y="5735520"/>
              <a:ext cx="1116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13080" y="5783400"/>
              <a:ext cx="1252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13080" y="5845320"/>
              <a:ext cx="125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13080" y="5896080"/>
              <a:ext cx="12528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27440" y="5735520"/>
              <a:ext cx="12528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89360" y="5735520"/>
              <a:ext cx="792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27440" y="5783400"/>
              <a:ext cx="1252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27440" y="5845320"/>
              <a:ext cx="125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27440" y="5896080"/>
              <a:ext cx="12528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13080" y="5419800"/>
              <a:ext cx="12528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73200" y="5419800"/>
              <a:ext cx="1116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13080" y="5467320"/>
              <a:ext cx="1252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13080" y="5527800"/>
              <a:ext cx="125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13080" y="5581800"/>
              <a:ext cx="1252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27440" y="5419800"/>
              <a:ext cx="12528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89360" y="5419800"/>
              <a:ext cx="792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7440" y="5467320"/>
              <a:ext cx="1252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27440" y="5527800"/>
              <a:ext cx="125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27440" y="5581800"/>
              <a:ext cx="1252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03520" y="5419800"/>
              <a:ext cx="154080" cy="266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79840" y="5419800"/>
              <a:ext cx="11160" cy="266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3520" y="5481720"/>
              <a:ext cx="15408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03520" y="5559480"/>
              <a:ext cx="15408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03520" y="5629320"/>
              <a:ext cx="15408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66920" y="5735520"/>
              <a:ext cx="12528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28840" y="5735520"/>
              <a:ext cx="648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66920" y="5783400"/>
              <a:ext cx="1252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6920" y="5845320"/>
              <a:ext cx="125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66920" y="5896080"/>
              <a:ext cx="12528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81280" y="5735520"/>
              <a:ext cx="12384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43200" y="5735520"/>
              <a:ext cx="792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81280" y="5783400"/>
              <a:ext cx="1238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1280" y="5845320"/>
              <a:ext cx="1238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81280" y="5896080"/>
              <a:ext cx="1238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66920" y="5419800"/>
              <a:ext cx="12528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28840" y="5419800"/>
              <a:ext cx="648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66920" y="5467320"/>
              <a:ext cx="1252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66920" y="5527800"/>
              <a:ext cx="125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66920" y="5581800"/>
              <a:ext cx="1252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81280" y="5419800"/>
              <a:ext cx="12384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43200" y="5419800"/>
              <a:ext cx="792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1280" y="5467320"/>
              <a:ext cx="1238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81280" y="5527800"/>
              <a:ext cx="1238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81280" y="5581800"/>
              <a:ext cx="1238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57720" y="5419800"/>
              <a:ext cx="150840" cy="266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32240" y="5419800"/>
              <a:ext cx="11160" cy="266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57720" y="5481720"/>
              <a:ext cx="1508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57720" y="5559480"/>
              <a:ext cx="15084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57720" y="5629320"/>
              <a:ext cx="15084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91040" y="5221440"/>
              <a:ext cx="17460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75280" y="5221440"/>
              <a:ext cx="15840" cy="201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91040" y="5267160"/>
              <a:ext cx="1746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91040" y="5329080"/>
              <a:ext cx="1746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91040" y="5381640"/>
              <a:ext cx="1746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4840" y="5221440"/>
              <a:ext cx="17136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5221440"/>
              <a:ext cx="15840" cy="201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44840" y="526716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4840" y="5329080"/>
              <a:ext cx="1713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4840" y="538164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52720" y="5221440"/>
              <a:ext cx="17136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35520" y="5221440"/>
              <a:ext cx="14400" cy="201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52720" y="526716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52720" y="5329080"/>
              <a:ext cx="1713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52720" y="538164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91040" y="5505480"/>
              <a:ext cx="17460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75280" y="5505480"/>
              <a:ext cx="15840" cy="204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91040" y="5553000"/>
              <a:ext cx="1746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91040" y="5614920"/>
              <a:ext cx="1746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91040" y="5667480"/>
              <a:ext cx="1746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44840" y="5505480"/>
              <a:ext cx="17136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27640" y="5505480"/>
              <a:ext cx="15840" cy="204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44840" y="5553000"/>
              <a:ext cx="1713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44840" y="561492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4840" y="566748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52720" y="5505480"/>
              <a:ext cx="17136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35520" y="5505480"/>
              <a:ext cx="14400" cy="204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52720" y="5553000"/>
              <a:ext cx="1713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52720" y="561492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52720" y="566748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91040" y="5780160"/>
              <a:ext cx="17460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75280" y="5780160"/>
              <a:ext cx="1584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1040" y="5826240"/>
              <a:ext cx="1746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0800000">
              <a:off x="4091040" y="5886720"/>
              <a:ext cx="1746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91040" y="5940360"/>
              <a:ext cx="1746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4840" y="5780160"/>
              <a:ext cx="17136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27640" y="5780160"/>
              <a:ext cx="1584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44840" y="582624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0800000">
              <a:off x="4344840" y="588672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4840" y="594036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2720" y="5780160"/>
              <a:ext cx="17136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35520" y="5780160"/>
              <a:ext cx="1440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2720" y="582624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0800000">
              <a:off x="3852720" y="588672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52720" y="5940360"/>
              <a:ext cx="171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45080" y="5686560"/>
              <a:ext cx="12528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07000" y="5686560"/>
              <a:ext cx="936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45080" y="5735520"/>
              <a:ext cx="125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45080" y="5794200"/>
              <a:ext cx="1252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45080" y="5848200"/>
              <a:ext cx="125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3600" y="5686560"/>
              <a:ext cx="12528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03720" y="5686560"/>
              <a:ext cx="936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43600" y="5735520"/>
              <a:ext cx="125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43600" y="5794200"/>
              <a:ext cx="1252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43600" y="5848200"/>
              <a:ext cx="125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5200" y="5299200"/>
              <a:ext cx="115920" cy="158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62440" y="5299200"/>
              <a:ext cx="6480" cy="158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5200" y="5335560"/>
              <a:ext cx="1159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5200" y="5383080"/>
              <a:ext cx="1159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0800000">
              <a:off x="4705200" y="5426280"/>
              <a:ext cx="1159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79880" y="5299200"/>
              <a:ext cx="115920" cy="158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37120" y="5299200"/>
              <a:ext cx="6480" cy="158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79880" y="5335560"/>
              <a:ext cx="1159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79880" y="5383080"/>
              <a:ext cx="1159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0800000">
              <a:off x="4979880" y="5426280"/>
              <a:ext cx="1159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26160" y="5299200"/>
              <a:ext cx="142920" cy="208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96000" y="5299200"/>
              <a:ext cx="11160" cy="208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26160" y="5348160"/>
              <a:ext cx="1429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26160" y="5410080"/>
              <a:ext cx="1429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26160" y="5464080"/>
              <a:ext cx="1429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5840" y="5457960"/>
              <a:ext cx="11916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21120" y="5513400"/>
              <a:ext cx="154080" cy="1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79880" y="5457960"/>
              <a:ext cx="1206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32320" y="5686560"/>
              <a:ext cx="12528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2800" y="5686560"/>
              <a:ext cx="936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2320" y="5735520"/>
              <a:ext cx="125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2320" y="5794200"/>
              <a:ext cx="1252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2320" y="5848200"/>
              <a:ext cx="1252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29400" y="5686560"/>
              <a:ext cx="127080" cy="20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1320" y="5686560"/>
              <a:ext cx="9360" cy="203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29400" y="5735520"/>
              <a:ext cx="1270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29400" y="5794200"/>
              <a:ext cx="12708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29400" y="5848200"/>
              <a:ext cx="12708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91000" y="5299200"/>
              <a:ext cx="117360" cy="158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0040" y="5299200"/>
              <a:ext cx="6480" cy="158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91000" y="5335560"/>
              <a:ext cx="1173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91000" y="5383080"/>
              <a:ext cx="1173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0800000">
              <a:off x="5391000" y="5426280"/>
              <a:ext cx="117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65680" y="5299200"/>
              <a:ext cx="117360" cy="158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22920" y="5299200"/>
              <a:ext cx="7920" cy="158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65680" y="5335560"/>
              <a:ext cx="1173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65680" y="5383080"/>
              <a:ext cx="11736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0800000">
              <a:off x="5665680" y="5426280"/>
              <a:ext cx="11736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13400" y="5299200"/>
              <a:ext cx="142920" cy="208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83240" y="5299200"/>
              <a:ext cx="11160" cy="208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13400" y="5348160"/>
              <a:ext cx="1429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13400" y="5410080"/>
              <a:ext cx="14292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13400" y="5464080"/>
              <a:ext cx="14292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81640" y="5457960"/>
              <a:ext cx="1224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06920" y="5513400"/>
              <a:ext cx="155520" cy="1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65680" y="5457960"/>
              <a:ext cx="120600" cy="15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03760" y="4716360"/>
              <a:ext cx="348120" cy="143280"/>
            </a:xfrm>
            <a:custGeom>
              <a:avLst/>
              <a:gdLst/>
              <a:ahLst/>
              <a:rect l="0" t="0" r="r" b="b"/>
              <a:pathLst>
                <a:path w="967" h="398">
                  <a:moveTo>
                    <a:pt x="90" y="398"/>
                  </a:moveTo>
                  <a:lnTo>
                    <a:pt x="873" y="398"/>
                  </a:lnTo>
                  <a:lnTo>
                    <a:pt x="967" y="273"/>
                  </a:lnTo>
                  <a:lnTo>
                    <a:pt x="494" y="0"/>
                  </a:lnTo>
                  <a:lnTo>
                    <a:pt x="0" y="253"/>
                  </a:lnTo>
                  <a:lnTo>
                    <a:pt x="90" y="39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24360" y="4853160"/>
              <a:ext cx="103320" cy="30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68760" y="4870440"/>
              <a:ext cx="184680" cy="373320"/>
            </a:xfrm>
            <a:custGeom>
              <a:avLst/>
              <a:gdLst/>
              <a:ahLst/>
              <a:rect l="0" t="0" r="r" b="b"/>
              <a:pathLst>
                <a:path w="513" h="1037">
                  <a:moveTo>
                    <a:pt x="492" y="0"/>
                  </a:moveTo>
                  <a:lnTo>
                    <a:pt x="509" y="146"/>
                  </a:lnTo>
                  <a:lnTo>
                    <a:pt x="513" y="219"/>
                  </a:lnTo>
                  <a:lnTo>
                    <a:pt x="513" y="296"/>
                  </a:lnTo>
                  <a:lnTo>
                    <a:pt x="442" y="577"/>
                  </a:lnTo>
                  <a:lnTo>
                    <a:pt x="286" y="826"/>
                  </a:lnTo>
                  <a:lnTo>
                    <a:pt x="54" y="1037"/>
                  </a:lnTo>
                  <a:lnTo>
                    <a:pt x="0" y="1037"/>
                  </a:lnTo>
                  <a:lnTo>
                    <a:pt x="239" y="830"/>
                  </a:lnTo>
                  <a:lnTo>
                    <a:pt x="400" y="581"/>
                  </a:lnTo>
                  <a:lnTo>
                    <a:pt x="479" y="300"/>
                  </a:lnTo>
                  <a:lnTo>
                    <a:pt x="484" y="227"/>
                  </a:lnTo>
                  <a:lnTo>
                    <a:pt x="484" y="150"/>
                  </a:lnTo>
                  <a:lnTo>
                    <a:pt x="463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03760" y="4716360"/>
              <a:ext cx="348120" cy="143280"/>
            </a:xfrm>
            <a:custGeom>
              <a:avLst/>
              <a:gdLst/>
              <a:ahLst/>
              <a:rect l="0" t="0" r="r" b="b"/>
              <a:pathLst>
                <a:path w="967" h="398">
                  <a:moveTo>
                    <a:pt x="90" y="398"/>
                  </a:moveTo>
                  <a:lnTo>
                    <a:pt x="873" y="398"/>
                  </a:lnTo>
                  <a:lnTo>
                    <a:pt x="967" y="273"/>
                  </a:lnTo>
                  <a:lnTo>
                    <a:pt x="494" y="0"/>
                  </a:lnTo>
                  <a:lnTo>
                    <a:pt x="0" y="253"/>
                  </a:lnTo>
                  <a:lnTo>
                    <a:pt x="90" y="39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24360" y="4853160"/>
              <a:ext cx="103320" cy="30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68760" y="4870440"/>
              <a:ext cx="184680" cy="373320"/>
            </a:xfrm>
            <a:custGeom>
              <a:avLst/>
              <a:gdLst/>
              <a:ahLst/>
              <a:rect l="0" t="0" r="r" b="b"/>
              <a:pathLst>
                <a:path w="513" h="1037">
                  <a:moveTo>
                    <a:pt x="492" y="0"/>
                  </a:moveTo>
                  <a:lnTo>
                    <a:pt x="509" y="146"/>
                  </a:lnTo>
                  <a:lnTo>
                    <a:pt x="513" y="219"/>
                  </a:lnTo>
                  <a:lnTo>
                    <a:pt x="513" y="296"/>
                  </a:lnTo>
                  <a:lnTo>
                    <a:pt x="442" y="577"/>
                  </a:lnTo>
                  <a:lnTo>
                    <a:pt x="286" y="826"/>
                  </a:lnTo>
                  <a:lnTo>
                    <a:pt x="54" y="1037"/>
                  </a:lnTo>
                  <a:lnTo>
                    <a:pt x="0" y="1037"/>
                  </a:lnTo>
                  <a:lnTo>
                    <a:pt x="239" y="830"/>
                  </a:lnTo>
                  <a:lnTo>
                    <a:pt x="400" y="581"/>
                  </a:lnTo>
                  <a:lnTo>
                    <a:pt x="479" y="300"/>
                  </a:lnTo>
                  <a:lnTo>
                    <a:pt x="484" y="227"/>
                  </a:lnTo>
                  <a:lnTo>
                    <a:pt x="484" y="150"/>
                  </a:lnTo>
                  <a:lnTo>
                    <a:pt x="463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88120" y="4716360"/>
              <a:ext cx="349560" cy="143280"/>
            </a:xfrm>
            <a:custGeom>
              <a:avLst/>
              <a:gdLst/>
              <a:ahLst/>
              <a:rect l="0" t="0" r="r" b="b"/>
              <a:pathLst>
                <a:path w="971" h="398">
                  <a:moveTo>
                    <a:pt x="90" y="398"/>
                  </a:moveTo>
                  <a:lnTo>
                    <a:pt x="872" y="398"/>
                  </a:lnTo>
                  <a:lnTo>
                    <a:pt x="971" y="273"/>
                  </a:lnTo>
                  <a:lnTo>
                    <a:pt x="494" y="0"/>
                  </a:lnTo>
                  <a:lnTo>
                    <a:pt x="0" y="253"/>
                  </a:lnTo>
                  <a:lnTo>
                    <a:pt x="90" y="39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08720" y="4853160"/>
              <a:ext cx="101520" cy="30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89440" y="4870440"/>
              <a:ext cx="182880" cy="373320"/>
            </a:xfrm>
            <a:custGeom>
              <a:avLst/>
              <a:gdLst/>
              <a:ahLst/>
              <a:rect l="0" t="0" r="r" b="b"/>
              <a:pathLst>
                <a:path w="508" h="1037">
                  <a:moveTo>
                    <a:pt x="20" y="0"/>
                  </a:moveTo>
                  <a:lnTo>
                    <a:pt x="0" y="146"/>
                  </a:lnTo>
                  <a:lnTo>
                    <a:pt x="0" y="219"/>
                  </a:lnTo>
                  <a:lnTo>
                    <a:pt x="0" y="296"/>
                  </a:lnTo>
                  <a:lnTo>
                    <a:pt x="71" y="577"/>
                  </a:lnTo>
                  <a:lnTo>
                    <a:pt x="226" y="826"/>
                  </a:lnTo>
                  <a:lnTo>
                    <a:pt x="462" y="1037"/>
                  </a:lnTo>
                  <a:lnTo>
                    <a:pt x="508" y="1037"/>
                  </a:lnTo>
                  <a:lnTo>
                    <a:pt x="273" y="830"/>
                  </a:lnTo>
                  <a:lnTo>
                    <a:pt x="108" y="581"/>
                  </a:lnTo>
                  <a:lnTo>
                    <a:pt x="33" y="300"/>
                  </a:lnTo>
                  <a:lnTo>
                    <a:pt x="29" y="227"/>
                  </a:lnTo>
                  <a:lnTo>
                    <a:pt x="29" y="150"/>
                  </a:lnTo>
                  <a:lnTo>
                    <a:pt x="5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11560" y="4863960"/>
              <a:ext cx="411480" cy="367200"/>
            </a:xfrm>
            <a:custGeom>
              <a:avLst/>
              <a:gdLst/>
              <a:ahLst/>
              <a:rect l="0" t="0" r="r" b="b"/>
              <a:pathLst>
                <a:path w="1143" h="1020">
                  <a:moveTo>
                    <a:pt x="1143" y="8"/>
                  </a:moveTo>
                  <a:lnTo>
                    <a:pt x="1130" y="146"/>
                  </a:lnTo>
                  <a:lnTo>
                    <a:pt x="1091" y="310"/>
                  </a:lnTo>
                  <a:lnTo>
                    <a:pt x="957" y="645"/>
                  </a:lnTo>
                  <a:lnTo>
                    <a:pt x="772" y="913"/>
                  </a:lnTo>
                  <a:lnTo>
                    <a:pt x="673" y="990"/>
                  </a:lnTo>
                  <a:lnTo>
                    <a:pt x="568" y="1020"/>
                  </a:lnTo>
                  <a:lnTo>
                    <a:pt x="344" y="921"/>
                  </a:lnTo>
                  <a:lnTo>
                    <a:pt x="159" y="671"/>
                  </a:lnTo>
                  <a:lnTo>
                    <a:pt x="38" y="344"/>
                  </a:lnTo>
                  <a:lnTo>
                    <a:pt x="8" y="17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34" y="21"/>
                  </a:lnTo>
                  <a:lnTo>
                    <a:pt x="68" y="353"/>
                  </a:lnTo>
                  <a:lnTo>
                    <a:pt x="176" y="662"/>
                  </a:lnTo>
                  <a:lnTo>
                    <a:pt x="349" y="896"/>
                  </a:lnTo>
                  <a:lnTo>
                    <a:pt x="568" y="990"/>
                  </a:lnTo>
                  <a:lnTo>
                    <a:pt x="664" y="969"/>
                  </a:lnTo>
                  <a:lnTo>
                    <a:pt x="763" y="896"/>
                  </a:lnTo>
                  <a:lnTo>
                    <a:pt x="940" y="641"/>
                  </a:lnTo>
                  <a:lnTo>
                    <a:pt x="1061" y="323"/>
                  </a:lnTo>
                  <a:lnTo>
                    <a:pt x="1095" y="167"/>
                  </a:lnTo>
                  <a:lnTo>
                    <a:pt x="1108" y="21"/>
                  </a:lnTo>
                  <a:lnTo>
                    <a:pt x="1143" y="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0200" y="5049720"/>
              <a:ext cx="160200" cy="235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6520" y="50497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0200" y="5106960"/>
              <a:ext cx="1602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0200" y="5175360"/>
              <a:ext cx="1602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0200" y="5234040"/>
              <a:ext cx="1602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8160" y="5049720"/>
              <a:ext cx="162000" cy="235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7720" y="50497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8160" y="510696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8160" y="5175360"/>
              <a:ext cx="1620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8160" y="523404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8360" y="5049720"/>
              <a:ext cx="165240" cy="235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7920" y="50497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8360" y="5106960"/>
              <a:ext cx="1652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360" y="5175360"/>
              <a:ext cx="1652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8360" y="5234040"/>
              <a:ext cx="1652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0200" y="5373720"/>
              <a:ext cx="1602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520" y="53737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0200" y="5427720"/>
              <a:ext cx="1602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0200" y="5494320"/>
              <a:ext cx="1602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0200" y="5556240"/>
              <a:ext cx="16020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8160" y="5373720"/>
              <a:ext cx="1620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720" y="53737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8160" y="542772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8160" y="549432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8160" y="5556240"/>
              <a:ext cx="16200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8360" y="5373720"/>
              <a:ext cx="16524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7920" y="53737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360" y="5427720"/>
              <a:ext cx="1652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360" y="5494320"/>
              <a:ext cx="1652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8360" y="5556240"/>
              <a:ext cx="16524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200" y="5681520"/>
              <a:ext cx="160200" cy="233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520" y="56815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0200" y="5735520"/>
              <a:ext cx="1602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0200" y="5805360"/>
              <a:ext cx="1602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0200" y="5865840"/>
              <a:ext cx="1602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8160" y="5681520"/>
              <a:ext cx="162000" cy="233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720" y="56815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8160" y="573552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8160" y="580536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8160" y="586584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360" y="5681520"/>
              <a:ext cx="165240" cy="233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7920" y="56815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8360" y="5735520"/>
              <a:ext cx="1652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8360" y="5805360"/>
              <a:ext cx="1652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8360" y="5865840"/>
              <a:ext cx="1652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8000" y="4527720"/>
              <a:ext cx="770400" cy="682920"/>
            </a:xfrm>
            <a:custGeom>
              <a:avLst/>
              <a:gdLst/>
              <a:ahLst/>
              <a:rect l="0" t="0" r="r" b="b"/>
              <a:pathLst>
                <a:path w="2140" h="1897">
                  <a:moveTo>
                    <a:pt x="4" y="1331"/>
                  </a:moveTo>
                  <a:lnTo>
                    <a:pt x="0" y="1114"/>
                  </a:lnTo>
                  <a:lnTo>
                    <a:pt x="461" y="1027"/>
                  </a:lnTo>
                  <a:lnTo>
                    <a:pt x="396" y="774"/>
                  </a:lnTo>
                  <a:lnTo>
                    <a:pt x="641" y="774"/>
                  </a:lnTo>
                  <a:lnTo>
                    <a:pt x="850" y="417"/>
                  </a:lnTo>
                  <a:lnTo>
                    <a:pt x="828" y="260"/>
                  </a:lnTo>
                  <a:lnTo>
                    <a:pt x="1037" y="0"/>
                  </a:lnTo>
                  <a:lnTo>
                    <a:pt x="1224" y="265"/>
                  </a:lnTo>
                  <a:lnTo>
                    <a:pt x="1224" y="443"/>
                  </a:lnTo>
                  <a:lnTo>
                    <a:pt x="1464" y="856"/>
                  </a:lnTo>
                  <a:lnTo>
                    <a:pt x="1657" y="891"/>
                  </a:lnTo>
                  <a:lnTo>
                    <a:pt x="1577" y="1083"/>
                  </a:lnTo>
                  <a:lnTo>
                    <a:pt x="2140" y="1175"/>
                  </a:lnTo>
                  <a:lnTo>
                    <a:pt x="2140" y="1897"/>
                  </a:lnTo>
                  <a:lnTo>
                    <a:pt x="2118" y="1897"/>
                  </a:lnTo>
                  <a:lnTo>
                    <a:pt x="2123" y="1318"/>
                  </a:lnTo>
                  <a:lnTo>
                    <a:pt x="4" y="133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1120" y="4853160"/>
              <a:ext cx="52560" cy="133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2760" y="4853160"/>
              <a:ext cx="49320" cy="133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4600" y="4759200"/>
              <a:ext cx="55440" cy="46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9040" y="4749840"/>
              <a:ext cx="100080" cy="42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-338040" y="5049720"/>
              <a:ext cx="162000" cy="235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260280" y="50497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338040" y="510696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338040" y="5175360"/>
              <a:ext cx="1620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-338040" y="523404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-98280" y="5049720"/>
              <a:ext cx="162000" cy="235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19080" y="50497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-98280" y="510696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-98280" y="5175360"/>
              <a:ext cx="16200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-98280" y="523404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568440" y="5049720"/>
              <a:ext cx="165240" cy="235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-488880" y="50497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-568440" y="5106960"/>
              <a:ext cx="1652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-568440" y="5175360"/>
              <a:ext cx="165240" cy="1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-568440" y="5234040"/>
              <a:ext cx="1652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-338040" y="5373720"/>
              <a:ext cx="1620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260280" y="53737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-338040" y="542772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-338040" y="549432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-338040" y="5556240"/>
              <a:ext cx="16200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-98280" y="5373720"/>
              <a:ext cx="1620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-19080" y="53737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-98280" y="542772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98280" y="549432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-98280" y="5556240"/>
              <a:ext cx="16200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-568440" y="5373720"/>
              <a:ext cx="16524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-488880" y="53737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568440" y="5427720"/>
              <a:ext cx="1652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-568440" y="5494320"/>
              <a:ext cx="1652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568440" y="5556240"/>
              <a:ext cx="165240" cy="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-338040" y="5681520"/>
              <a:ext cx="162000" cy="233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260280" y="56815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338040" y="573552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-338040" y="580536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-338040" y="586584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-98280" y="5681520"/>
              <a:ext cx="162000" cy="233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19080" y="56815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-98280" y="573552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-98280" y="5805360"/>
              <a:ext cx="16200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-98280" y="5865840"/>
              <a:ext cx="16200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-568440" y="5681520"/>
              <a:ext cx="165240" cy="233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488880" y="5681520"/>
              <a:ext cx="12600" cy="231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-568440" y="5735520"/>
              <a:ext cx="1652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-568440" y="5805360"/>
              <a:ext cx="165240" cy="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-568440" y="5865840"/>
              <a:ext cx="165240" cy="3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-658800" y="4527720"/>
              <a:ext cx="770400" cy="682920"/>
            </a:xfrm>
            <a:custGeom>
              <a:avLst/>
              <a:gdLst/>
              <a:ahLst/>
              <a:rect l="0" t="0" r="r" b="b"/>
              <a:pathLst>
                <a:path w="2140" h="1897">
                  <a:moveTo>
                    <a:pt x="4" y="1331"/>
                  </a:moveTo>
                  <a:lnTo>
                    <a:pt x="0" y="1114"/>
                  </a:lnTo>
                  <a:lnTo>
                    <a:pt x="461" y="1027"/>
                  </a:lnTo>
                  <a:lnTo>
                    <a:pt x="396" y="774"/>
                  </a:lnTo>
                  <a:lnTo>
                    <a:pt x="641" y="774"/>
                  </a:lnTo>
                  <a:lnTo>
                    <a:pt x="850" y="417"/>
                  </a:lnTo>
                  <a:lnTo>
                    <a:pt x="828" y="260"/>
                  </a:lnTo>
                  <a:lnTo>
                    <a:pt x="1033" y="0"/>
                  </a:lnTo>
                  <a:lnTo>
                    <a:pt x="1224" y="265"/>
                  </a:lnTo>
                  <a:lnTo>
                    <a:pt x="1224" y="443"/>
                  </a:lnTo>
                  <a:lnTo>
                    <a:pt x="1464" y="856"/>
                  </a:lnTo>
                  <a:lnTo>
                    <a:pt x="1657" y="891"/>
                  </a:lnTo>
                  <a:lnTo>
                    <a:pt x="1577" y="1083"/>
                  </a:lnTo>
                  <a:lnTo>
                    <a:pt x="2140" y="1175"/>
                  </a:lnTo>
                  <a:lnTo>
                    <a:pt x="2140" y="1897"/>
                  </a:lnTo>
                  <a:lnTo>
                    <a:pt x="2118" y="1897"/>
                  </a:lnTo>
                  <a:lnTo>
                    <a:pt x="2123" y="1318"/>
                  </a:lnTo>
                  <a:lnTo>
                    <a:pt x="4" y="133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355680" y="4853160"/>
              <a:ext cx="52560" cy="133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-284040" y="4853160"/>
              <a:ext cx="49320" cy="133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-322200" y="4759200"/>
              <a:ext cx="55440" cy="46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-347760" y="4749840"/>
              <a:ext cx="100080" cy="42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-1639800" y="6002280"/>
              <a:ext cx="9548640" cy="141588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00680" y="662796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46" y="0"/>
                  </a:moveTo>
                  <a:lnTo>
                    <a:pt x="0" y="606"/>
                  </a:lnTo>
                  <a:lnTo>
                    <a:pt x="195" y="610"/>
                  </a:lnTo>
                  <a:lnTo>
                    <a:pt x="310" y="83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-739800" y="6002280"/>
              <a:ext cx="8155440" cy="671760"/>
            </a:xfrm>
            <a:custGeom>
              <a:avLst/>
              <a:gdLst/>
              <a:ahLst/>
              <a:rect l="0" t="0" r="r" b="b"/>
              <a:pathLst>
                <a:path w="22654" h="1866">
                  <a:moveTo>
                    <a:pt x="8858" y="1866"/>
                  </a:moveTo>
                  <a:lnTo>
                    <a:pt x="8858" y="996"/>
                  </a:lnTo>
                  <a:lnTo>
                    <a:pt x="9188" y="647"/>
                  </a:lnTo>
                  <a:lnTo>
                    <a:pt x="9607" y="400"/>
                  </a:lnTo>
                  <a:lnTo>
                    <a:pt x="10078" y="260"/>
                  </a:lnTo>
                  <a:lnTo>
                    <a:pt x="10329" y="226"/>
                  </a:lnTo>
                  <a:lnTo>
                    <a:pt x="10457" y="221"/>
                  </a:lnTo>
                  <a:lnTo>
                    <a:pt x="10585" y="221"/>
                  </a:lnTo>
                  <a:lnTo>
                    <a:pt x="11082" y="291"/>
                  </a:lnTo>
                  <a:lnTo>
                    <a:pt x="11549" y="460"/>
                  </a:lnTo>
                  <a:lnTo>
                    <a:pt x="11950" y="730"/>
                  </a:lnTo>
                  <a:lnTo>
                    <a:pt x="12263" y="1101"/>
                  </a:lnTo>
                  <a:lnTo>
                    <a:pt x="12245" y="1796"/>
                  </a:lnTo>
                  <a:lnTo>
                    <a:pt x="12844" y="1788"/>
                  </a:lnTo>
                  <a:lnTo>
                    <a:pt x="12844" y="1796"/>
                  </a:lnTo>
                  <a:lnTo>
                    <a:pt x="12844" y="996"/>
                  </a:lnTo>
                  <a:lnTo>
                    <a:pt x="13170" y="647"/>
                  </a:lnTo>
                  <a:lnTo>
                    <a:pt x="13589" y="400"/>
                  </a:lnTo>
                  <a:lnTo>
                    <a:pt x="14056" y="260"/>
                  </a:lnTo>
                  <a:lnTo>
                    <a:pt x="14307" y="226"/>
                  </a:lnTo>
                  <a:lnTo>
                    <a:pt x="14434" y="221"/>
                  </a:lnTo>
                  <a:lnTo>
                    <a:pt x="14558" y="221"/>
                  </a:lnTo>
                  <a:lnTo>
                    <a:pt x="15051" y="291"/>
                  </a:lnTo>
                  <a:lnTo>
                    <a:pt x="15513" y="460"/>
                  </a:lnTo>
                  <a:lnTo>
                    <a:pt x="15910" y="730"/>
                  </a:lnTo>
                  <a:lnTo>
                    <a:pt x="16223" y="1101"/>
                  </a:lnTo>
                  <a:lnTo>
                    <a:pt x="16236" y="1796"/>
                  </a:lnTo>
                  <a:lnTo>
                    <a:pt x="16231" y="1788"/>
                  </a:lnTo>
                  <a:lnTo>
                    <a:pt x="16615" y="1796"/>
                  </a:lnTo>
                  <a:lnTo>
                    <a:pt x="16641" y="996"/>
                  </a:lnTo>
                  <a:lnTo>
                    <a:pt x="16967" y="647"/>
                  </a:lnTo>
                  <a:lnTo>
                    <a:pt x="17386" y="400"/>
                  </a:lnTo>
                  <a:lnTo>
                    <a:pt x="17858" y="260"/>
                  </a:lnTo>
                  <a:lnTo>
                    <a:pt x="18109" y="226"/>
                  </a:lnTo>
                  <a:lnTo>
                    <a:pt x="18236" y="221"/>
                  </a:lnTo>
                  <a:lnTo>
                    <a:pt x="18364" y="221"/>
                  </a:lnTo>
                  <a:lnTo>
                    <a:pt x="18862" y="291"/>
                  </a:lnTo>
                  <a:lnTo>
                    <a:pt x="19329" y="460"/>
                  </a:lnTo>
                  <a:lnTo>
                    <a:pt x="19730" y="730"/>
                  </a:lnTo>
                  <a:lnTo>
                    <a:pt x="20042" y="1101"/>
                  </a:lnTo>
                  <a:lnTo>
                    <a:pt x="20025" y="1796"/>
                  </a:lnTo>
                  <a:lnTo>
                    <a:pt x="19981" y="1805"/>
                  </a:lnTo>
                  <a:lnTo>
                    <a:pt x="22654" y="1805"/>
                  </a:lnTo>
                  <a:lnTo>
                    <a:pt x="22654" y="0"/>
                  </a:lnTo>
                  <a:lnTo>
                    <a:pt x="74" y="0"/>
                  </a:lnTo>
                  <a:lnTo>
                    <a:pt x="17" y="1761"/>
                  </a:lnTo>
                  <a:lnTo>
                    <a:pt x="0" y="1753"/>
                  </a:lnTo>
                  <a:lnTo>
                    <a:pt x="585" y="1761"/>
                  </a:lnTo>
                  <a:lnTo>
                    <a:pt x="585" y="996"/>
                  </a:lnTo>
                  <a:lnTo>
                    <a:pt x="911" y="647"/>
                  </a:lnTo>
                  <a:lnTo>
                    <a:pt x="1330" y="400"/>
                  </a:lnTo>
                  <a:lnTo>
                    <a:pt x="1801" y="260"/>
                  </a:lnTo>
                  <a:lnTo>
                    <a:pt x="2048" y="226"/>
                  </a:lnTo>
                  <a:lnTo>
                    <a:pt x="2175" y="221"/>
                  </a:lnTo>
                  <a:lnTo>
                    <a:pt x="2299" y="221"/>
                  </a:lnTo>
                  <a:lnTo>
                    <a:pt x="2792" y="291"/>
                  </a:lnTo>
                  <a:lnTo>
                    <a:pt x="3254" y="460"/>
                  </a:lnTo>
                  <a:lnTo>
                    <a:pt x="3655" y="730"/>
                  </a:lnTo>
                  <a:lnTo>
                    <a:pt x="3968" y="1101"/>
                  </a:lnTo>
                  <a:lnTo>
                    <a:pt x="3977" y="1796"/>
                  </a:lnTo>
                  <a:lnTo>
                    <a:pt x="4717" y="1796"/>
                  </a:lnTo>
                  <a:lnTo>
                    <a:pt x="4717" y="996"/>
                  </a:lnTo>
                  <a:lnTo>
                    <a:pt x="5047" y="647"/>
                  </a:lnTo>
                  <a:lnTo>
                    <a:pt x="5466" y="400"/>
                  </a:lnTo>
                  <a:lnTo>
                    <a:pt x="5938" y="260"/>
                  </a:lnTo>
                  <a:lnTo>
                    <a:pt x="6189" y="226"/>
                  </a:lnTo>
                  <a:lnTo>
                    <a:pt x="6317" y="221"/>
                  </a:lnTo>
                  <a:lnTo>
                    <a:pt x="6444" y="221"/>
                  </a:lnTo>
                  <a:lnTo>
                    <a:pt x="6938" y="291"/>
                  </a:lnTo>
                  <a:lnTo>
                    <a:pt x="7409" y="460"/>
                  </a:lnTo>
                  <a:lnTo>
                    <a:pt x="7810" y="730"/>
                  </a:lnTo>
                  <a:lnTo>
                    <a:pt x="8123" y="1101"/>
                  </a:lnTo>
                  <a:lnTo>
                    <a:pt x="8131" y="1779"/>
                  </a:lnTo>
                  <a:lnTo>
                    <a:pt x="8730" y="1796"/>
                  </a:lnTo>
                  <a:lnTo>
                    <a:pt x="8858" y="186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153360" y="5322960"/>
              <a:ext cx="1730880" cy="3240360"/>
            </a:xfrm>
            <a:custGeom>
              <a:avLst/>
              <a:gdLst/>
              <a:ahLst/>
              <a:rect l="0" t="0" r="r" b="b"/>
              <a:pathLst>
                <a:path w="4808" h="9001">
                  <a:moveTo>
                    <a:pt x="0" y="237"/>
                  </a:moveTo>
                  <a:lnTo>
                    <a:pt x="3329" y="9001"/>
                  </a:lnTo>
                  <a:lnTo>
                    <a:pt x="4808" y="8161"/>
                  </a:lnTo>
                  <a:lnTo>
                    <a:pt x="552" y="0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81760" y="5530680"/>
              <a:ext cx="1661040" cy="216360"/>
            </a:xfrm>
            <a:custGeom>
              <a:avLst/>
              <a:gdLst/>
              <a:ahLst/>
              <a:rect l="0" t="0" r="r" b="b"/>
              <a:pathLst>
                <a:path w="4614" h="601">
                  <a:moveTo>
                    <a:pt x="0" y="601"/>
                  </a:moveTo>
                  <a:lnTo>
                    <a:pt x="4614" y="296"/>
                  </a:lnTo>
                  <a:lnTo>
                    <a:pt x="4614" y="0"/>
                  </a:lnTo>
                  <a:lnTo>
                    <a:pt x="418" y="261"/>
                  </a:lnTo>
                  <a:lnTo>
                    <a:pt x="0" y="601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42080" y="3917880"/>
              <a:ext cx="4810320" cy="5036040"/>
            </a:xfrm>
            <a:custGeom>
              <a:avLst/>
              <a:gdLst/>
              <a:ahLst/>
              <a:rect l="0" t="0" r="r" b="b"/>
              <a:pathLst>
                <a:path w="13362" h="13989">
                  <a:moveTo>
                    <a:pt x="4176" y="13976"/>
                  </a:moveTo>
                  <a:lnTo>
                    <a:pt x="6394" y="13989"/>
                  </a:lnTo>
                  <a:lnTo>
                    <a:pt x="8037" y="13928"/>
                  </a:lnTo>
                  <a:lnTo>
                    <a:pt x="10008" y="13747"/>
                  </a:lnTo>
                  <a:lnTo>
                    <a:pt x="11844" y="13496"/>
                  </a:lnTo>
                  <a:lnTo>
                    <a:pt x="13085" y="13192"/>
                  </a:lnTo>
                  <a:lnTo>
                    <a:pt x="13243" y="13091"/>
                  </a:lnTo>
                  <a:lnTo>
                    <a:pt x="13327" y="12950"/>
                  </a:lnTo>
                  <a:lnTo>
                    <a:pt x="13362" y="12770"/>
                  </a:lnTo>
                  <a:lnTo>
                    <a:pt x="13362" y="12673"/>
                  </a:lnTo>
                  <a:lnTo>
                    <a:pt x="13349" y="12567"/>
                  </a:lnTo>
                  <a:lnTo>
                    <a:pt x="13085" y="11753"/>
                  </a:lnTo>
                  <a:lnTo>
                    <a:pt x="11448" y="7655"/>
                  </a:lnTo>
                  <a:lnTo>
                    <a:pt x="11078" y="6581"/>
                  </a:lnTo>
                  <a:lnTo>
                    <a:pt x="10616" y="5555"/>
                  </a:lnTo>
                  <a:lnTo>
                    <a:pt x="10017" y="4604"/>
                  </a:lnTo>
                  <a:lnTo>
                    <a:pt x="9771" y="4147"/>
                  </a:lnTo>
                  <a:lnTo>
                    <a:pt x="9731" y="4006"/>
                  </a:lnTo>
                  <a:lnTo>
                    <a:pt x="9775" y="3944"/>
                  </a:lnTo>
                  <a:lnTo>
                    <a:pt x="10136" y="3834"/>
                  </a:lnTo>
                  <a:lnTo>
                    <a:pt x="10211" y="3746"/>
                  </a:lnTo>
                  <a:lnTo>
                    <a:pt x="10233" y="3636"/>
                  </a:lnTo>
                  <a:lnTo>
                    <a:pt x="10127" y="3375"/>
                  </a:lnTo>
                  <a:lnTo>
                    <a:pt x="9876" y="3076"/>
                  </a:lnTo>
                  <a:lnTo>
                    <a:pt x="9207" y="2464"/>
                  </a:lnTo>
                  <a:lnTo>
                    <a:pt x="8710" y="2015"/>
                  </a:lnTo>
                  <a:lnTo>
                    <a:pt x="7522" y="629"/>
                  </a:lnTo>
                  <a:lnTo>
                    <a:pt x="7245" y="352"/>
                  </a:lnTo>
                  <a:lnTo>
                    <a:pt x="6980" y="154"/>
                  </a:lnTo>
                  <a:lnTo>
                    <a:pt x="6725" y="39"/>
                  </a:lnTo>
                  <a:lnTo>
                    <a:pt x="6473" y="0"/>
                  </a:lnTo>
                  <a:lnTo>
                    <a:pt x="6016" y="44"/>
                  </a:lnTo>
                  <a:lnTo>
                    <a:pt x="5510" y="431"/>
                  </a:lnTo>
                  <a:lnTo>
                    <a:pt x="4616" y="1254"/>
                  </a:lnTo>
                  <a:lnTo>
                    <a:pt x="3569" y="2354"/>
                  </a:lnTo>
                  <a:lnTo>
                    <a:pt x="2706" y="3367"/>
                  </a:lnTo>
                  <a:lnTo>
                    <a:pt x="2451" y="3728"/>
                  </a:lnTo>
                  <a:lnTo>
                    <a:pt x="2358" y="3935"/>
                  </a:lnTo>
                  <a:lnTo>
                    <a:pt x="2433" y="4010"/>
                  </a:lnTo>
                  <a:lnTo>
                    <a:pt x="2596" y="4085"/>
                  </a:lnTo>
                  <a:lnTo>
                    <a:pt x="2966" y="4186"/>
                  </a:lnTo>
                  <a:lnTo>
                    <a:pt x="3014" y="4213"/>
                  </a:lnTo>
                  <a:lnTo>
                    <a:pt x="2926" y="4384"/>
                  </a:lnTo>
                  <a:lnTo>
                    <a:pt x="1095" y="9600"/>
                  </a:lnTo>
                  <a:lnTo>
                    <a:pt x="0" y="12840"/>
                  </a:lnTo>
                  <a:lnTo>
                    <a:pt x="695" y="13087"/>
                  </a:lnTo>
                  <a:lnTo>
                    <a:pt x="2055" y="13470"/>
                  </a:lnTo>
                  <a:lnTo>
                    <a:pt x="4176" y="1397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153360" y="5322960"/>
              <a:ext cx="1730880" cy="3240360"/>
            </a:xfrm>
            <a:custGeom>
              <a:avLst/>
              <a:gdLst/>
              <a:ahLst/>
              <a:rect l="0" t="0" r="r" b="b"/>
              <a:pathLst>
                <a:path w="4808" h="9001">
                  <a:moveTo>
                    <a:pt x="0" y="237"/>
                  </a:moveTo>
                  <a:lnTo>
                    <a:pt x="3329" y="9001"/>
                  </a:lnTo>
                  <a:lnTo>
                    <a:pt x="4808" y="8161"/>
                  </a:lnTo>
                  <a:lnTo>
                    <a:pt x="552" y="0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54280" y="4044960"/>
              <a:ext cx="4924800" cy="392400"/>
            </a:xfrm>
            <a:custGeom>
              <a:avLst/>
              <a:gdLst/>
              <a:ahLst/>
              <a:rect l="0" t="0" r="r" b="b"/>
              <a:pathLst>
                <a:path w="13680" h="1090">
                  <a:moveTo>
                    <a:pt x="13680" y="694"/>
                  </a:moveTo>
                  <a:lnTo>
                    <a:pt x="162" y="0"/>
                  </a:lnTo>
                  <a:lnTo>
                    <a:pt x="0" y="520"/>
                  </a:lnTo>
                  <a:lnTo>
                    <a:pt x="13324" y="1090"/>
                  </a:lnTo>
                  <a:lnTo>
                    <a:pt x="13680" y="69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26480" y="-217440"/>
              <a:ext cx="1273680" cy="4197600"/>
            </a:xfrm>
            <a:custGeom>
              <a:avLst/>
              <a:gdLst/>
              <a:ahLst/>
              <a:rect l="0" t="0" r="r" b="b"/>
              <a:pathLst>
                <a:path w="3538" h="11660">
                  <a:moveTo>
                    <a:pt x="757" y="11537"/>
                  </a:moveTo>
                  <a:lnTo>
                    <a:pt x="3538" y="607"/>
                  </a:lnTo>
                  <a:lnTo>
                    <a:pt x="3201" y="373"/>
                  </a:lnTo>
                  <a:lnTo>
                    <a:pt x="822" y="9728"/>
                  </a:lnTo>
                  <a:lnTo>
                    <a:pt x="700" y="9610"/>
                  </a:lnTo>
                  <a:lnTo>
                    <a:pt x="3153" y="233"/>
                  </a:lnTo>
                  <a:lnTo>
                    <a:pt x="2912" y="0"/>
                  </a:lnTo>
                  <a:lnTo>
                    <a:pt x="245" y="9407"/>
                  </a:lnTo>
                  <a:lnTo>
                    <a:pt x="630" y="9975"/>
                  </a:lnTo>
                  <a:lnTo>
                    <a:pt x="0" y="11660"/>
                  </a:lnTo>
                  <a:lnTo>
                    <a:pt x="757" y="11537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664480" y="4305240"/>
              <a:ext cx="1465560" cy="330480"/>
            </a:xfrm>
            <a:custGeom>
              <a:avLst/>
              <a:gdLst/>
              <a:ahLst/>
              <a:rect l="0" t="0" r="r" b="b"/>
              <a:pathLst>
                <a:path w="4071" h="918">
                  <a:moveTo>
                    <a:pt x="127" y="519"/>
                  </a:moveTo>
                  <a:lnTo>
                    <a:pt x="4071" y="918"/>
                  </a:lnTo>
                  <a:lnTo>
                    <a:pt x="4009" y="282"/>
                  </a:lnTo>
                  <a:lnTo>
                    <a:pt x="157" y="0"/>
                  </a:lnTo>
                  <a:lnTo>
                    <a:pt x="0" y="0"/>
                  </a:lnTo>
                  <a:lnTo>
                    <a:pt x="127" y="51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14760" y="3703680"/>
              <a:ext cx="4413600" cy="568800"/>
            </a:xfrm>
            <a:custGeom>
              <a:avLst/>
              <a:gdLst/>
              <a:ahLst/>
              <a:rect l="0" t="0" r="r" b="b"/>
              <a:pathLst>
                <a:path w="12260" h="1580">
                  <a:moveTo>
                    <a:pt x="12260" y="1580"/>
                  </a:moveTo>
                  <a:lnTo>
                    <a:pt x="12251" y="703"/>
                  </a:lnTo>
                  <a:lnTo>
                    <a:pt x="347" y="56"/>
                  </a:lnTo>
                  <a:lnTo>
                    <a:pt x="30" y="1033"/>
                  </a:lnTo>
                  <a:lnTo>
                    <a:pt x="66" y="994"/>
                  </a:lnTo>
                  <a:lnTo>
                    <a:pt x="12233" y="1524"/>
                  </a:lnTo>
                  <a:lnTo>
                    <a:pt x="12220" y="647"/>
                  </a:lnTo>
                  <a:lnTo>
                    <a:pt x="316" y="0"/>
                  </a:lnTo>
                  <a:lnTo>
                    <a:pt x="0" y="976"/>
                  </a:lnTo>
                  <a:lnTo>
                    <a:pt x="12260" y="158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41560" y="3732120"/>
              <a:ext cx="3927960" cy="530640"/>
            </a:xfrm>
            <a:custGeom>
              <a:avLst/>
              <a:gdLst/>
              <a:ahLst/>
              <a:rect l="0" t="0" r="r" b="b"/>
              <a:pathLst>
                <a:path w="10911" h="1474">
                  <a:moveTo>
                    <a:pt x="10836" y="1474"/>
                  </a:moveTo>
                  <a:lnTo>
                    <a:pt x="10836" y="1092"/>
                  </a:lnTo>
                  <a:lnTo>
                    <a:pt x="10779" y="538"/>
                  </a:lnTo>
                  <a:lnTo>
                    <a:pt x="9882" y="499"/>
                  </a:lnTo>
                  <a:lnTo>
                    <a:pt x="9908" y="1414"/>
                  </a:lnTo>
                  <a:lnTo>
                    <a:pt x="8896" y="1414"/>
                  </a:lnTo>
                  <a:lnTo>
                    <a:pt x="8918" y="512"/>
                  </a:lnTo>
                  <a:lnTo>
                    <a:pt x="8042" y="429"/>
                  </a:lnTo>
                  <a:lnTo>
                    <a:pt x="7928" y="1357"/>
                  </a:lnTo>
                  <a:lnTo>
                    <a:pt x="7008" y="1323"/>
                  </a:lnTo>
                  <a:lnTo>
                    <a:pt x="7083" y="390"/>
                  </a:lnTo>
                  <a:lnTo>
                    <a:pt x="6397" y="350"/>
                  </a:lnTo>
                  <a:lnTo>
                    <a:pt x="6243" y="1279"/>
                  </a:lnTo>
                  <a:lnTo>
                    <a:pt x="5337" y="1223"/>
                  </a:lnTo>
                  <a:lnTo>
                    <a:pt x="5433" y="294"/>
                  </a:lnTo>
                  <a:lnTo>
                    <a:pt x="4320" y="242"/>
                  </a:lnTo>
                  <a:lnTo>
                    <a:pt x="4263" y="1158"/>
                  </a:lnTo>
                  <a:lnTo>
                    <a:pt x="3432" y="1128"/>
                  </a:lnTo>
                  <a:lnTo>
                    <a:pt x="3656" y="203"/>
                  </a:lnTo>
                  <a:lnTo>
                    <a:pt x="2763" y="160"/>
                  </a:lnTo>
                  <a:lnTo>
                    <a:pt x="2560" y="1110"/>
                  </a:lnTo>
                  <a:lnTo>
                    <a:pt x="1786" y="1057"/>
                  </a:lnTo>
                  <a:lnTo>
                    <a:pt x="2041" y="99"/>
                  </a:lnTo>
                  <a:lnTo>
                    <a:pt x="1205" y="82"/>
                  </a:lnTo>
                  <a:lnTo>
                    <a:pt x="871" y="1057"/>
                  </a:lnTo>
                  <a:lnTo>
                    <a:pt x="0" y="1018"/>
                  </a:lnTo>
                  <a:lnTo>
                    <a:pt x="369" y="0"/>
                  </a:lnTo>
                  <a:lnTo>
                    <a:pt x="444" y="43"/>
                  </a:lnTo>
                  <a:lnTo>
                    <a:pt x="74" y="1018"/>
                  </a:lnTo>
                  <a:lnTo>
                    <a:pt x="945" y="1057"/>
                  </a:lnTo>
                  <a:lnTo>
                    <a:pt x="1280" y="38"/>
                  </a:lnTo>
                  <a:lnTo>
                    <a:pt x="2115" y="56"/>
                  </a:lnTo>
                  <a:lnTo>
                    <a:pt x="1860" y="1057"/>
                  </a:lnTo>
                  <a:lnTo>
                    <a:pt x="2630" y="1110"/>
                  </a:lnTo>
                  <a:lnTo>
                    <a:pt x="2838" y="116"/>
                  </a:lnTo>
                  <a:lnTo>
                    <a:pt x="3731" y="160"/>
                  </a:lnTo>
                  <a:lnTo>
                    <a:pt x="3507" y="1128"/>
                  </a:lnTo>
                  <a:lnTo>
                    <a:pt x="4338" y="1158"/>
                  </a:lnTo>
                  <a:lnTo>
                    <a:pt x="4395" y="199"/>
                  </a:lnTo>
                  <a:lnTo>
                    <a:pt x="5508" y="255"/>
                  </a:lnTo>
                  <a:lnTo>
                    <a:pt x="5411" y="1223"/>
                  </a:lnTo>
                  <a:lnTo>
                    <a:pt x="6318" y="1279"/>
                  </a:lnTo>
                  <a:lnTo>
                    <a:pt x="6467" y="307"/>
                  </a:lnTo>
                  <a:lnTo>
                    <a:pt x="7158" y="346"/>
                  </a:lnTo>
                  <a:lnTo>
                    <a:pt x="7083" y="1323"/>
                  </a:lnTo>
                  <a:lnTo>
                    <a:pt x="8002" y="1357"/>
                  </a:lnTo>
                  <a:lnTo>
                    <a:pt x="8117" y="390"/>
                  </a:lnTo>
                  <a:lnTo>
                    <a:pt x="8993" y="468"/>
                  </a:lnTo>
                  <a:lnTo>
                    <a:pt x="8971" y="1414"/>
                  </a:lnTo>
                  <a:lnTo>
                    <a:pt x="9983" y="1414"/>
                  </a:lnTo>
                  <a:lnTo>
                    <a:pt x="9957" y="499"/>
                  </a:lnTo>
                  <a:lnTo>
                    <a:pt x="10854" y="538"/>
                  </a:lnTo>
                  <a:lnTo>
                    <a:pt x="10911" y="1092"/>
                  </a:lnTo>
                  <a:lnTo>
                    <a:pt x="10911" y="1474"/>
                  </a:lnTo>
                  <a:lnTo>
                    <a:pt x="10836" y="147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63720" y="3819600"/>
              <a:ext cx="4366080" cy="348120"/>
            </a:xfrm>
            <a:custGeom>
              <a:avLst/>
              <a:gdLst/>
              <a:ahLst/>
              <a:rect l="0" t="0" r="r" b="b"/>
              <a:pathLst>
                <a:path w="12128" h="967">
                  <a:moveTo>
                    <a:pt x="0" y="413"/>
                  </a:moveTo>
                  <a:lnTo>
                    <a:pt x="12128" y="967"/>
                  </a:lnTo>
                  <a:lnTo>
                    <a:pt x="12097" y="580"/>
                  </a:lnTo>
                  <a:lnTo>
                    <a:pt x="48" y="42"/>
                  </a:lnTo>
                  <a:lnTo>
                    <a:pt x="48" y="0"/>
                  </a:lnTo>
                  <a:lnTo>
                    <a:pt x="12097" y="537"/>
                  </a:lnTo>
                  <a:lnTo>
                    <a:pt x="12128" y="924"/>
                  </a:lnTo>
                  <a:lnTo>
                    <a:pt x="0" y="374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02520" y="-450720"/>
              <a:ext cx="1546560" cy="4177080"/>
            </a:xfrm>
            <a:custGeom>
              <a:avLst/>
              <a:gdLst/>
              <a:ahLst/>
              <a:rect l="0" t="0" r="r" b="b"/>
              <a:pathLst>
                <a:path w="4296" h="11603">
                  <a:moveTo>
                    <a:pt x="0" y="11379"/>
                  </a:moveTo>
                  <a:lnTo>
                    <a:pt x="797" y="11603"/>
                  </a:lnTo>
                  <a:lnTo>
                    <a:pt x="4239" y="576"/>
                  </a:lnTo>
                  <a:lnTo>
                    <a:pt x="3423" y="8"/>
                  </a:lnTo>
                  <a:lnTo>
                    <a:pt x="3454" y="52"/>
                  </a:lnTo>
                  <a:lnTo>
                    <a:pt x="56" y="11366"/>
                  </a:lnTo>
                  <a:lnTo>
                    <a:pt x="854" y="11595"/>
                  </a:lnTo>
                  <a:lnTo>
                    <a:pt x="4296" y="563"/>
                  </a:lnTo>
                  <a:lnTo>
                    <a:pt x="3485" y="0"/>
                  </a:lnTo>
                  <a:lnTo>
                    <a:pt x="0" y="1137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172360" y="-249120"/>
              <a:ext cx="1391040" cy="3726360"/>
            </a:xfrm>
            <a:custGeom>
              <a:avLst/>
              <a:gdLst/>
              <a:ahLst/>
              <a:rect l="0" t="0" r="r" b="b"/>
              <a:pathLst>
                <a:path w="3864" h="10351">
                  <a:moveTo>
                    <a:pt x="17" y="10074"/>
                  </a:moveTo>
                  <a:lnTo>
                    <a:pt x="367" y="10184"/>
                  </a:lnTo>
                  <a:lnTo>
                    <a:pt x="884" y="10281"/>
                  </a:lnTo>
                  <a:lnTo>
                    <a:pt x="1135" y="9445"/>
                  </a:lnTo>
                  <a:lnTo>
                    <a:pt x="297" y="9221"/>
                  </a:lnTo>
                  <a:lnTo>
                    <a:pt x="538" y="8266"/>
                  </a:lnTo>
                  <a:lnTo>
                    <a:pt x="1358" y="8535"/>
                  </a:lnTo>
                  <a:lnTo>
                    <a:pt x="1639" y="7733"/>
                  </a:lnTo>
                  <a:lnTo>
                    <a:pt x="823" y="7372"/>
                  </a:lnTo>
                  <a:lnTo>
                    <a:pt x="1078" y="6510"/>
                  </a:lnTo>
                  <a:lnTo>
                    <a:pt x="1906" y="6836"/>
                  </a:lnTo>
                  <a:lnTo>
                    <a:pt x="2103" y="6202"/>
                  </a:lnTo>
                  <a:lnTo>
                    <a:pt x="1297" y="5802"/>
                  </a:lnTo>
                  <a:lnTo>
                    <a:pt x="1564" y="4971"/>
                  </a:lnTo>
                  <a:lnTo>
                    <a:pt x="2379" y="5309"/>
                  </a:lnTo>
                  <a:lnTo>
                    <a:pt x="2698" y="4280"/>
                  </a:lnTo>
                  <a:lnTo>
                    <a:pt x="1884" y="3977"/>
                  </a:lnTo>
                  <a:lnTo>
                    <a:pt x="2107" y="3198"/>
                  </a:lnTo>
                  <a:lnTo>
                    <a:pt x="2891" y="3664"/>
                  </a:lnTo>
                  <a:lnTo>
                    <a:pt x="3146" y="2838"/>
                  </a:lnTo>
                  <a:lnTo>
                    <a:pt x="2331" y="2383"/>
                  </a:lnTo>
                  <a:lnTo>
                    <a:pt x="2567" y="1671"/>
                  </a:lnTo>
                  <a:lnTo>
                    <a:pt x="3374" y="2172"/>
                  </a:lnTo>
                  <a:lnTo>
                    <a:pt x="3593" y="1389"/>
                  </a:lnTo>
                  <a:lnTo>
                    <a:pt x="2782" y="809"/>
                  </a:lnTo>
                  <a:lnTo>
                    <a:pt x="3028" y="0"/>
                  </a:lnTo>
                  <a:lnTo>
                    <a:pt x="3864" y="624"/>
                  </a:lnTo>
                  <a:lnTo>
                    <a:pt x="3812" y="681"/>
                  </a:lnTo>
                  <a:lnTo>
                    <a:pt x="3010" y="65"/>
                  </a:lnTo>
                  <a:lnTo>
                    <a:pt x="2768" y="879"/>
                  </a:lnTo>
                  <a:lnTo>
                    <a:pt x="3610" y="1473"/>
                  </a:lnTo>
                  <a:lnTo>
                    <a:pt x="3396" y="2256"/>
                  </a:lnTo>
                  <a:lnTo>
                    <a:pt x="2545" y="1737"/>
                  </a:lnTo>
                  <a:lnTo>
                    <a:pt x="2313" y="2454"/>
                  </a:lnTo>
                  <a:lnTo>
                    <a:pt x="3168" y="2917"/>
                  </a:lnTo>
                  <a:lnTo>
                    <a:pt x="2914" y="3748"/>
                  </a:lnTo>
                  <a:lnTo>
                    <a:pt x="2090" y="3273"/>
                  </a:lnTo>
                  <a:lnTo>
                    <a:pt x="1866" y="4043"/>
                  </a:lnTo>
                  <a:lnTo>
                    <a:pt x="2720" y="4364"/>
                  </a:lnTo>
                  <a:lnTo>
                    <a:pt x="2401" y="5389"/>
                  </a:lnTo>
                  <a:lnTo>
                    <a:pt x="1547" y="5041"/>
                  </a:lnTo>
                  <a:lnTo>
                    <a:pt x="1279" y="5872"/>
                  </a:lnTo>
                  <a:lnTo>
                    <a:pt x="2120" y="6282"/>
                  </a:lnTo>
                  <a:lnTo>
                    <a:pt x="1928" y="6919"/>
                  </a:lnTo>
                  <a:lnTo>
                    <a:pt x="1056" y="6581"/>
                  </a:lnTo>
                  <a:lnTo>
                    <a:pt x="805" y="7443"/>
                  </a:lnTo>
                  <a:lnTo>
                    <a:pt x="1660" y="7813"/>
                  </a:lnTo>
                  <a:lnTo>
                    <a:pt x="1376" y="8618"/>
                  </a:lnTo>
                  <a:lnTo>
                    <a:pt x="516" y="8341"/>
                  </a:lnTo>
                  <a:lnTo>
                    <a:pt x="275" y="9291"/>
                  </a:lnTo>
                  <a:lnTo>
                    <a:pt x="1117" y="9515"/>
                  </a:lnTo>
                  <a:lnTo>
                    <a:pt x="867" y="10351"/>
                  </a:lnTo>
                  <a:lnTo>
                    <a:pt x="345" y="10250"/>
                  </a:lnTo>
                  <a:lnTo>
                    <a:pt x="0" y="10149"/>
                  </a:lnTo>
                  <a:lnTo>
                    <a:pt x="17" y="1007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96120" y="-382680"/>
              <a:ext cx="1360800" cy="4089600"/>
            </a:xfrm>
            <a:custGeom>
              <a:avLst/>
              <a:gdLst/>
              <a:ahLst/>
              <a:rect l="0" t="0" r="r" b="b"/>
              <a:pathLst>
                <a:path w="3780" h="11360">
                  <a:moveTo>
                    <a:pt x="3407" y="0"/>
                  </a:moveTo>
                  <a:lnTo>
                    <a:pt x="0" y="11272"/>
                  </a:lnTo>
                  <a:lnTo>
                    <a:pt x="359" y="11347"/>
                  </a:lnTo>
                  <a:lnTo>
                    <a:pt x="3740" y="153"/>
                  </a:lnTo>
                  <a:lnTo>
                    <a:pt x="3780" y="162"/>
                  </a:lnTo>
                  <a:lnTo>
                    <a:pt x="398" y="11360"/>
                  </a:lnTo>
                  <a:lnTo>
                    <a:pt x="39" y="11281"/>
                  </a:lnTo>
                  <a:lnTo>
                    <a:pt x="3447" y="13"/>
                  </a:lnTo>
                  <a:lnTo>
                    <a:pt x="3407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61800" y="419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