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914400" y="-777960"/>
            <a:ext cx="10858680" cy="8131680"/>
            <a:chOff x="-914400" y="-777960"/>
            <a:chExt cx="10858680" cy="8131680"/>
          </a:xfrm>
        </p:grpSpPr>
        <p:sp>
          <p:nvSpPr>
            <p:cNvPr id="1" name=""/>
            <p:cNvSpPr/>
            <p:nvPr/>
          </p:nvSpPr>
          <p:spPr>
            <a:xfrm>
              <a:off x="-914400" y="4884840"/>
              <a:ext cx="1929240" cy="2056320"/>
            </a:xfrm>
            <a:custGeom>
              <a:avLst/>
              <a:gdLst/>
              <a:ahLst/>
              <a:rect l="0" t="0" r="r" b="b"/>
              <a:pathLst>
                <a:path w="5359" h="5712">
                  <a:moveTo>
                    <a:pt x="1900" y="34"/>
                  </a:moveTo>
                  <a:lnTo>
                    <a:pt x="1624" y="152"/>
                  </a:lnTo>
                  <a:lnTo>
                    <a:pt x="998" y="526"/>
                  </a:lnTo>
                  <a:lnTo>
                    <a:pt x="658" y="804"/>
                  </a:lnTo>
                  <a:lnTo>
                    <a:pt x="352" y="1156"/>
                  </a:lnTo>
                  <a:lnTo>
                    <a:pt x="123" y="1579"/>
                  </a:lnTo>
                  <a:lnTo>
                    <a:pt x="0" y="2071"/>
                  </a:lnTo>
                  <a:lnTo>
                    <a:pt x="127" y="2493"/>
                  </a:lnTo>
                  <a:lnTo>
                    <a:pt x="458" y="3032"/>
                  </a:lnTo>
                  <a:lnTo>
                    <a:pt x="1445" y="4245"/>
                  </a:lnTo>
                  <a:lnTo>
                    <a:pt x="2444" y="5282"/>
                  </a:lnTo>
                  <a:lnTo>
                    <a:pt x="2949" y="5712"/>
                  </a:lnTo>
                  <a:lnTo>
                    <a:pt x="4522" y="5560"/>
                  </a:lnTo>
                  <a:lnTo>
                    <a:pt x="4939" y="5464"/>
                  </a:lnTo>
                  <a:lnTo>
                    <a:pt x="5245" y="5325"/>
                  </a:lnTo>
                  <a:lnTo>
                    <a:pt x="5359" y="5142"/>
                  </a:lnTo>
                  <a:lnTo>
                    <a:pt x="5330" y="5029"/>
                  </a:lnTo>
                  <a:lnTo>
                    <a:pt x="5228" y="4894"/>
                  </a:lnTo>
                  <a:lnTo>
                    <a:pt x="4412" y="3506"/>
                  </a:lnTo>
                  <a:lnTo>
                    <a:pt x="3604" y="2088"/>
                  </a:lnTo>
                  <a:lnTo>
                    <a:pt x="2737" y="856"/>
                  </a:lnTo>
                  <a:lnTo>
                    <a:pt x="2184" y="182"/>
                  </a:lnTo>
                  <a:lnTo>
                    <a:pt x="1993" y="21"/>
                  </a:lnTo>
                  <a:lnTo>
                    <a:pt x="1938" y="0"/>
                  </a:lnTo>
                  <a:lnTo>
                    <a:pt x="1900" y="34"/>
                  </a:lnTo>
                  <a:close/>
                </a:path>
              </a:pathLst>
            </a:custGeom>
            <a:solidFill>
              <a:srgbClr val="6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2440" y="1382760"/>
              <a:ext cx="1559160" cy="1545120"/>
            </a:xfrm>
            <a:custGeom>
              <a:avLst/>
              <a:gdLst/>
              <a:ahLst/>
              <a:rect l="0" t="0" r="r" b="b"/>
              <a:pathLst>
                <a:path w="4331" h="4292">
                  <a:moveTo>
                    <a:pt x="3902" y="0"/>
                  </a:moveTo>
                  <a:lnTo>
                    <a:pt x="2018" y="690"/>
                  </a:lnTo>
                  <a:lnTo>
                    <a:pt x="708" y="1269"/>
                  </a:lnTo>
                  <a:lnTo>
                    <a:pt x="267" y="1538"/>
                  </a:lnTo>
                  <a:lnTo>
                    <a:pt x="76" y="1764"/>
                  </a:lnTo>
                  <a:lnTo>
                    <a:pt x="72" y="1959"/>
                  </a:lnTo>
                  <a:lnTo>
                    <a:pt x="89" y="2276"/>
                  </a:lnTo>
                  <a:lnTo>
                    <a:pt x="144" y="3101"/>
                  </a:lnTo>
                  <a:lnTo>
                    <a:pt x="161" y="3519"/>
                  </a:lnTo>
                  <a:lnTo>
                    <a:pt x="161" y="3710"/>
                  </a:lnTo>
                  <a:lnTo>
                    <a:pt x="156" y="3797"/>
                  </a:lnTo>
                  <a:lnTo>
                    <a:pt x="148" y="3884"/>
                  </a:lnTo>
                  <a:lnTo>
                    <a:pt x="101" y="4158"/>
                  </a:lnTo>
                  <a:lnTo>
                    <a:pt x="0" y="4292"/>
                  </a:lnTo>
                  <a:lnTo>
                    <a:pt x="364" y="3854"/>
                  </a:lnTo>
                  <a:lnTo>
                    <a:pt x="793" y="3406"/>
                  </a:lnTo>
                  <a:lnTo>
                    <a:pt x="1344" y="2906"/>
                  </a:lnTo>
                  <a:lnTo>
                    <a:pt x="1972" y="2437"/>
                  </a:lnTo>
                  <a:lnTo>
                    <a:pt x="2660" y="2068"/>
                  </a:lnTo>
                  <a:lnTo>
                    <a:pt x="3364" y="1877"/>
                  </a:lnTo>
                  <a:lnTo>
                    <a:pt x="3533" y="1868"/>
                  </a:lnTo>
                  <a:lnTo>
                    <a:pt x="3712" y="1872"/>
                  </a:lnTo>
                  <a:lnTo>
                    <a:pt x="4051" y="1946"/>
                  </a:lnTo>
                  <a:lnTo>
                    <a:pt x="4174" y="1968"/>
                  </a:lnTo>
                  <a:lnTo>
                    <a:pt x="4259" y="1950"/>
                  </a:lnTo>
                  <a:lnTo>
                    <a:pt x="4331" y="1785"/>
                  </a:lnTo>
                  <a:lnTo>
                    <a:pt x="4322" y="1664"/>
                  </a:lnTo>
                  <a:lnTo>
                    <a:pt x="4293" y="1512"/>
                  </a:lnTo>
                  <a:lnTo>
                    <a:pt x="4182" y="1164"/>
                  </a:lnTo>
                  <a:lnTo>
                    <a:pt x="3936" y="447"/>
                  </a:lnTo>
                  <a:lnTo>
                    <a:pt x="3873" y="165"/>
                  </a:lnTo>
                  <a:lnTo>
                    <a:pt x="3873" y="69"/>
                  </a:lnTo>
                  <a:lnTo>
                    <a:pt x="3902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468520" y="1319040"/>
              <a:ext cx="1484640" cy="846360"/>
            </a:xfrm>
            <a:custGeom>
              <a:avLst/>
              <a:gdLst/>
              <a:ahLst/>
              <a:rect l="0" t="0" r="r" b="b"/>
              <a:pathLst>
                <a:path w="4124" h="2351">
                  <a:moveTo>
                    <a:pt x="199" y="626"/>
                  </a:moveTo>
                  <a:lnTo>
                    <a:pt x="38" y="846"/>
                  </a:lnTo>
                  <a:lnTo>
                    <a:pt x="8" y="959"/>
                  </a:lnTo>
                  <a:lnTo>
                    <a:pt x="0" y="1071"/>
                  </a:lnTo>
                  <a:lnTo>
                    <a:pt x="63" y="1284"/>
                  </a:lnTo>
                  <a:lnTo>
                    <a:pt x="203" y="1495"/>
                  </a:lnTo>
                  <a:lnTo>
                    <a:pt x="581" y="1841"/>
                  </a:lnTo>
                  <a:lnTo>
                    <a:pt x="933" y="2083"/>
                  </a:lnTo>
                  <a:lnTo>
                    <a:pt x="1247" y="2217"/>
                  </a:lnTo>
                  <a:lnTo>
                    <a:pt x="1675" y="2308"/>
                  </a:lnTo>
                  <a:lnTo>
                    <a:pt x="2164" y="2347"/>
                  </a:lnTo>
                  <a:lnTo>
                    <a:pt x="2423" y="2351"/>
                  </a:lnTo>
                  <a:lnTo>
                    <a:pt x="2686" y="2338"/>
                  </a:lnTo>
                  <a:lnTo>
                    <a:pt x="3615" y="2182"/>
                  </a:lnTo>
                  <a:lnTo>
                    <a:pt x="3941" y="2035"/>
                  </a:lnTo>
                  <a:lnTo>
                    <a:pt x="4124" y="1845"/>
                  </a:lnTo>
                  <a:lnTo>
                    <a:pt x="4094" y="1733"/>
                  </a:lnTo>
                  <a:lnTo>
                    <a:pt x="3967" y="1595"/>
                  </a:lnTo>
                  <a:lnTo>
                    <a:pt x="3674" y="1361"/>
                  </a:lnTo>
                  <a:lnTo>
                    <a:pt x="1976" y="522"/>
                  </a:lnTo>
                  <a:lnTo>
                    <a:pt x="797" y="0"/>
                  </a:lnTo>
                  <a:lnTo>
                    <a:pt x="199" y="626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380960" y="1440000"/>
              <a:ext cx="1800720" cy="730440"/>
            </a:xfrm>
            <a:custGeom>
              <a:avLst/>
              <a:gdLst/>
              <a:ahLst/>
              <a:rect l="0" t="0" r="r" b="b"/>
              <a:pathLst>
                <a:path w="5002" h="2029">
                  <a:moveTo>
                    <a:pt x="3442" y="306"/>
                  </a:moveTo>
                  <a:lnTo>
                    <a:pt x="4161" y="1166"/>
                  </a:lnTo>
                  <a:lnTo>
                    <a:pt x="4675" y="1757"/>
                  </a:lnTo>
                  <a:lnTo>
                    <a:pt x="4960" y="2029"/>
                  </a:lnTo>
                  <a:lnTo>
                    <a:pt x="5002" y="2029"/>
                  </a:lnTo>
                  <a:lnTo>
                    <a:pt x="4951" y="2029"/>
                  </a:lnTo>
                  <a:lnTo>
                    <a:pt x="4599" y="2012"/>
                  </a:lnTo>
                  <a:lnTo>
                    <a:pt x="3255" y="1973"/>
                  </a:lnTo>
                  <a:lnTo>
                    <a:pt x="730" y="1917"/>
                  </a:lnTo>
                  <a:lnTo>
                    <a:pt x="348" y="966"/>
                  </a:lnTo>
                  <a:lnTo>
                    <a:pt x="0" y="17"/>
                  </a:lnTo>
                  <a:lnTo>
                    <a:pt x="688" y="0"/>
                  </a:lnTo>
                  <a:lnTo>
                    <a:pt x="934" y="0"/>
                  </a:lnTo>
                  <a:lnTo>
                    <a:pt x="1202" y="4"/>
                  </a:lnTo>
                  <a:lnTo>
                    <a:pt x="1764" y="25"/>
                  </a:lnTo>
                  <a:lnTo>
                    <a:pt x="2809" y="120"/>
                  </a:lnTo>
                  <a:lnTo>
                    <a:pt x="3200" y="198"/>
                  </a:lnTo>
                  <a:lnTo>
                    <a:pt x="3442" y="306"/>
                  </a:lnTo>
                  <a:close/>
                </a:path>
              </a:pathLst>
            </a:custGeom>
            <a:solidFill>
              <a:srgbClr val="6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70240" y="4205160"/>
              <a:ext cx="93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-31680" y="-155520"/>
              <a:ext cx="3895920" cy="2314800"/>
            </a:xfrm>
            <a:custGeom>
              <a:avLst/>
              <a:gdLst/>
              <a:ahLst/>
              <a:rect l="0" t="0" r="r" b="b"/>
              <a:pathLst>
                <a:path w="10822" h="6430">
                  <a:moveTo>
                    <a:pt x="166" y="6430"/>
                  </a:moveTo>
                  <a:lnTo>
                    <a:pt x="774" y="5986"/>
                  </a:lnTo>
                  <a:lnTo>
                    <a:pt x="1426" y="5560"/>
                  </a:lnTo>
                  <a:lnTo>
                    <a:pt x="2209" y="5112"/>
                  </a:lnTo>
                  <a:lnTo>
                    <a:pt x="3035" y="4733"/>
                  </a:lnTo>
                  <a:lnTo>
                    <a:pt x="3835" y="4503"/>
                  </a:lnTo>
                  <a:lnTo>
                    <a:pt x="4201" y="4472"/>
                  </a:lnTo>
                  <a:lnTo>
                    <a:pt x="4372" y="4481"/>
                  </a:lnTo>
                  <a:lnTo>
                    <a:pt x="4533" y="4512"/>
                  </a:lnTo>
                  <a:lnTo>
                    <a:pt x="4818" y="4629"/>
                  </a:lnTo>
                  <a:lnTo>
                    <a:pt x="5053" y="4846"/>
                  </a:lnTo>
                  <a:lnTo>
                    <a:pt x="5265" y="5007"/>
                  </a:lnTo>
                  <a:lnTo>
                    <a:pt x="5582" y="5086"/>
                  </a:lnTo>
                  <a:lnTo>
                    <a:pt x="5765" y="5090"/>
                  </a:lnTo>
                  <a:lnTo>
                    <a:pt x="5862" y="5090"/>
                  </a:lnTo>
                  <a:lnTo>
                    <a:pt x="5965" y="5086"/>
                  </a:lnTo>
                  <a:lnTo>
                    <a:pt x="6399" y="5020"/>
                  </a:lnTo>
                  <a:lnTo>
                    <a:pt x="7318" y="4759"/>
                  </a:lnTo>
                  <a:lnTo>
                    <a:pt x="8140" y="4394"/>
                  </a:lnTo>
                  <a:lnTo>
                    <a:pt x="8736" y="4577"/>
                  </a:lnTo>
                  <a:lnTo>
                    <a:pt x="9187" y="4855"/>
                  </a:lnTo>
                  <a:lnTo>
                    <a:pt x="9566" y="5121"/>
                  </a:lnTo>
                  <a:lnTo>
                    <a:pt x="9958" y="5277"/>
                  </a:lnTo>
                  <a:lnTo>
                    <a:pt x="10418" y="5403"/>
                  </a:lnTo>
                  <a:lnTo>
                    <a:pt x="10660" y="5451"/>
                  </a:lnTo>
                  <a:lnTo>
                    <a:pt x="10754" y="5447"/>
                  </a:lnTo>
                  <a:lnTo>
                    <a:pt x="10822" y="5416"/>
                  </a:lnTo>
                  <a:lnTo>
                    <a:pt x="10605" y="4394"/>
                  </a:lnTo>
                  <a:lnTo>
                    <a:pt x="10213" y="2992"/>
                  </a:lnTo>
                  <a:lnTo>
                    <a:pt x="9971" y="1948"/>
                  </a:lnTo>
                  <a:lnTo>
                    <a:pt x="9766" y="900"/>
                  </a:lnTo>
                  <a:lnTo>
                    <a:pt x="9638" y="548"/>
                  </a:lnTo>
                  <a:lnTo>
                    <a:pt x="9451" y="361"/>
                  </a:lnTo>
                  <a:lnTo>
                    <a:pt x="9323" y="226"/>
                  </a:lnTo>
                  <a:lnTo>
                    <a:pt x="9319" y="139"/>
                  </a:lnTo>
                  <a:lnTo>
                    <a:pt x="9375" y="21"/>
                  </a:lnTo>
                  <a:lnTo>
                    <a:pt x="9281" y="0"/>
                  </a:lnTo>
                  <a:lnTo>
                    <a:pt x="9157" y="0"/>
                  </a:lnTo>
                  <a:lnTo>
                    <a:pt x="8991" y="8"/>
                  </a:lnTo>
                  <a:lnTo>
                    <a:pt x="8051" y="78"/>
                  </a:lnTo>
                  <a:lnTo>
                    <a:pt x="7029" y="139"/>
                  </a:lnTo>
                  <a:lnTo>
                    <a:pt x="6816" y="143"/>
                  </a:lnTo>
                  <a:lnTo>
                    <a:pt x="6718" y="143"/>
                  </a:lnTo>
                  <a:lnTo>
                    <a:pt x="6629" y="147"/>
                  </a:lnTo>
                  <a:lnTo>
                    <a:pt x="6386" y="117"/>
                  </a:lnTo>
                  <a:lnTo>
                    <a:pt x="5994" y="82"/>
                  </a:lnTo>
                  <a:lnTo>
                    <a:pt x="5650" y="78"/>
                  </a:lnTo>
                  <a:lnTo>
                    <a:pt x="5441" y="78"/>
                  </a:lnTo>
                  <a:lnTo>
                    <a:pt x="5214" y="73"/>
                  </a:lnTo>
                  <a:lnTo>
                    <a:pt x="3039" y="134"/>
                  </a:lnTo>
                  <a:lnTo>
                    <a:pt x="0" y="265"/>
                  </a:lnTo>
                  <a:lnTo>
                    <a:pt x="51" y="3333"/>
                  </a:lnTo>
                  <a:lnTo>
                    <a:pt x="166" y="6430"/>
                  </a:lnTo>
                  <a:close/>
                </a:path>
              </a:pathLst>
            </a:custGeom>
            <a:solidFill>
              <a:srgbClr val="000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-12600" y="1305000"/>
              <a:ext cx="346320" cy="781560"/>
            </a:xfrm>
            <a:custGeom>
              <a:avLst/>
              <a:gdLst/>
              <a:ahLst/>
              <a:rect l="0" t="0" r="r" b="b"/>
              <a:pathLst>
                <a:path w="962" h="2171">
                  <a:moveTo>
                    <a:pt x="854" y="1766"/>
                  </a:moveTo>
                  <a:lnTo>
                    <a:pt x="962" y="1766"/>
                  </a:lnTo>
                  <a:lnTo>
                    <a:pt x="37" y="0"/>
                  </a:lnTo>
                  <a:lnTo>
                    <a:pt x="0" y="1420"/>
                  </a:lnTo>
                  <a:lnTo>
                    <a:pt x="149" y="2171"/>
                  </a:lnTo>
                  <a:lnTo>
                    <a:pt x="854" y="1766"/>
                  </a:lnTo>
                  <a:close/>
                </a:path>
              </a:pathLst>
            </a:custGeom>
            <a:solidFill>
              <a:srgbClr val="00004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24040" y="-338040"/>
              <a:ext cx="1806840" cy="2073600"/>
            </a:xfrm>
            <a:custGeom>
              <a:avLst/>
              <a:gdLst/>
              <a:ahLst/>
              <a:rect l="0" t="0" r="r" b="b"/>
              <a:pathLst>
                <a:path w="5019" h="5760">
                  <a:moveTo>
                    <a:pt x="2020" y="612"/>
                  </a:moveTo>
                  <a:lnTo>
                    <a:pt x="2173" y="1051"/>
                  </a:lnTo>
                  <a:lnTo>
                    <a:pt x="2522" y="1682"/>
                  </a:lnTo>
                  <a:lnTo>
                    <a:pt x="3537" y="3200"/>
                  </a:lnTo>
                  <a:lnTo>
                    <a:pt x="5010" y="5186"/>
                  </a:lnTo>
                  <a:lnTo>
                    <a:pt x="5019" y="5273"/>
                  </a:lnTo>
                  <a:lnTo>
                    <a:pt x="4883" y="5377"/>
                  </a:lnTo>
                  <a:lnTo>
                    <a:pt x="4335" y="5581"/>
                  </a:lnTo>
                  <a:lnTo>
                    <a:pt x="3656" y="5725"/>
                  </a:lnTo>
                  <a:lnTo>
                    <a:pt x="3363" y="5755"/>
                  </a:lnTo>
                  <a:lnTo>
                    <a:pt x="3244" y="5760"/>
                  </a:lnTo>
                  <a:lnTo>
                    <a:pt x="3142" y="5747"/>
                  </a:lnTo>
                  <a:lnTo>
                    <a:pt x="2892" y="5651"/>
                  </a:lnTo>
                  <a:lnTo>
                    <a:pt x="2739" y="5529"/>
                  </a:lnTo>
                  <a:lnTo>
                    <a:pt x="2565" y="5277"/>
                  </a:lnTo>
                  <a:lnTo>
                    <a:pt x="2458" y="5164"/>
                  </a:lnTo>
                  <a:lnTo>
                    <a:pt x="2275" y="5073"/>
                  </a:lnTo>
                  <a:lnTo>
                    <a:pt x="1511" y="4977"/>
                  </a:lnTo>
                  <a:lnTo>
                    <a:pt x="0" y="221"/>
                  </a:lnTo>
                  <a:lnTo>
                    <a:pt x="275" y="108"/>
                  </a:lnTo>
                  <a:lnTo>
                    <a:pt x="942" y="0"/>
                  </a:lnTo>
                  <a:lnTo>
                    <a:pt x="1125" y="0"/>
                  </a:lnTo>
                  <a:lnTo>
                    <a:pt x="1214" y="0"/>
                  </a:lnTo>
                  <a:lnTo>
                    <a:pt x="1307" y="8"/>
                  </a:lnTo>
                  <a:lnTo>
                    <a:pt x="1643" y="99"/>
                  </a:lnTo>
                  <a:lnTo>
                    <a:pt x="1889" y="291"/>
                  </a:lnTo>
                  <a:lnTo>
                    <a:pt x="2020" y="612"/>
                  </a:lnTo>
                  <a:close/>
                </a:path>
              </a:pathLst>
            </a:custGeom>
            <a:solidFill>
              <a:srgbClr val="00004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851200" y="839880"/>
              <a:ext cx="714600" cy="640080"/>
            </a:xfrm>
            <a:custGeom>
              <a:avLst/>
              <a:gdLst/>
              <a:ahLst/>
              <a:rect l="0" t="0" r="r" b="b"/>
              <a:pathLst>
                <a:path w="1985" h="1778">
                  <a:moveTo>
                    <a:pt x="636" y="1020"/>
                  </a:moveTo>
                  <a:lnTo>
                    <a:pt x="438" y="1778"/>
                  </a:lnTo>
                  <a:lnTo>
                    <a:pt x="1096" y="1330"/>
                  </a:lnTo>
                  <a:lnTo>
                    <a:pt x="1985" y="1778"/>
                  </a:lnTo>
                  <a:lnTo>
                    <a:pt x="1349" y="877"/>
                  </a:lnTo>
                  <a:lnTo>
                    <a:pt x="1930" y="774"/>
                  </a:lnTo>
                  <a:lnTo>
                    <a:pt x="1184" y="632"/>
                  </a:lnTo>
                  <a:lnTo>
                    <a:pt x="1012" y="0"/>
                  </a:lnTo>
                  <a:lnTo>
                    <a:pt x="686" y="684"/>
                  </a:lnTo>
                  <a:lnTo>
                    <a:pt x="0" y="821"/>
                  </a:lnTo>
                  <a:lnTo>
                    <a:pt x="636" y="102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987560" y="792000"/>
              <a:ext cx="649800" cy="640080"/>
            </a:xfrm>
            <a:custGeom>
              <a:avLst/>
              <a:gdLst/>
              <a:ahLst/>
              <a:rect l="0" t="0" r="r" b="b"/>
              <a:pathLst>
                <a:path w="1805" h="1778">
                  <a:moveTo>
                    <a:pt x="539" y="1128"/>
                  </a:moveTo>
                  <a:lnTo>
                    <a:pt x="471" y="1778"/>
                  </a:lnTo>
                  <a:lnTo>
                    <a:pt x="1014" y="1253"/>
                  </a:lnTo>
                  <a:lnTo>
                    <a:pt x="1763" y="1502"/>
                  </a:lnTo>
                  <a:lnTo>
                    <a:pt x="1237" y="939"/>
                  </a:lnTo>
                  <a:lnTo>
                    <a:pt x="1805" y="636"/>
                  </a:lnTo>
                  <a:lnTo>
                    <a:pt x="1056" y="701"/>
                  </a:lnTo>
                  <a:lnTo>
                    <a:pt x="808" y="0"/>
                  </a:lnTo>
                  <a:lnTo>
                    <a:pt x="564" y="791"/>
                  </a:lnTo>
                  <a:lnTo>
                    <a:pt x="0" y="1205"/>
                  </a:lnTo>
                  <a:lnTo>
                    <a:pt x="539" y="1128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949320" y="681120"/>
              <a:ext cx="705240" cy="641880"/>
            </a:xfrm>
            <a:custGeom>
              <a:avLst/>
              <a:gdLst/>
              <a:ahLst/>
              <a:rect l="0" t="0" r="r" b="b"/>
              <a:pathLst>
                <a:path w="1959" h="1783">
                  <a:moveTo>
                    <a:pt x="573" y="1025"/>
                  </a:moveTo>
                  <a:lnTo>
                    <a:pt x="370" y="1783"/>
                  </a:lnTo>
                  <a:lnTo>
                    <a:pt x="1028" y="1274"/>
                  </a:lnTo>
                  <a:lnTo>
                    <a:pt x="1732" y="1714"/>
                  </a:lnTo>
                  <a:lnTo>
                    <a:pt x="1314" y="939"/>
                  </a:lnTo>
                  <a:lnTo>
                    <a:pt x="1959" y="702"/>
                  </a:lnTo>
                  <a:lnTo>
                    <a:pt x="1179" y="633"/>
                  </a:lnTo>
                  <a:lnTo>
                    <a:pt x="855" y="0"/>
                  </a:lnTo>
                  <a:lnTo>
                    <a:pt x="670" y="633"/>
                  </a:lnTo>
                  <a:lnTo>
                    <a:pt x="0" y="878"/>
                  </a:lnTo>
                  <a:lnTo>
                    <a:pt x="573" y="10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7480" y="1109520"/>
              <a:ext cx="676800" cy="676800"/>
            </a:xfrm>
            <a:custGeom>
              <a:avLst/>
              <a:gdLst/>
              <a:ahLst/>
              <a:rect l="0" t="0" r="r" b="b"/>
              <a:pathLst>
                <a:path w="1880" h="1880">
                  <a:moveTo>
                    <a:pt x="548" y="1116"/>
                  </a:moveTo>
                  <a:lnTo>
                    <a:pt x="387" y="1755"/>
                  </a:lnTo>
                  <a:lnTo>
                    <a:pt x="995" y="1297"/>
                  </a:lnTo>
                  <a:lnTo>
                    <a:pt x="1703" y="1639"/>
                  </a:lnTo>
                  <a:lnTo>
                    <a:pt x="1268" y="1009"/>
                  </a:lnTo>
                  <a:lnTo>
                    <a:pt x="1880" y="776"/>
                  </a:lnTo>
                  <a:lnTo>
                    <a:pt x="1121" y="750"/>
                  </a:lnTo>
                  <a:lnTo>
                    <a:pt x="1395" y="0"/>
                  </a:lnTo>
                  <a:lnTo>
                    <a:pt x="615" y="785"/>
                  </a:lnTo>
                  <a:lnTo>
                    <a:pt x="0" y="1880"/>
                  </a:lnTo>
                  <a:lnTo>
                    <a:pt x="548" y="1116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22520" y="247680"/>
              <a:ext cx="687600" cy="603720"/>
            </a:xfrm>
            <a:custGeom>
              <a:avLst/>
              <a:gdLst/>
              <a:ahLst/>
              <a:rect l="0" t="0" r="r" b="b"/>
              <a:pathLst>
                <a:path w="1910" h="1677">
                  <a:moveTo>
                    <a:pt x="601" y="1032"/>
                  </a:moveTo>
                  <a:lnTo>
                    <a:pt x="483" y="1677"/>
                  </a:lnTo>
                  <a:lnTo>
                    <a:pt x="1060" y="1191"/>
                  </a:lnTo>
                  <a:lnTo>
                    <a:pt x="1788" y="1497"/>
                  </a:lnTo>
                  <a:lnTo>
                    <a:pt x="1317" y="894"/>
                  </a:lnTo>
                  <a:lnTo>
                    <a:pt x="1910" y="632"/>
                  </a:lnTo>
                  <a:lnTo>
                    <a:pt x="1153" y="645"/>
                  </a:lnTo>
                  <a:lnTo>
                    <a:pt x="950" y="0"/>
                  </a:lnTo>
                  <a:lnTo>
                    <a:pt x="656" y="697"/>
                  </a:lnTo>
                  <a:lnTo>
                    <a:pt x="0" y="1070"/>
                  </a:lnTo>
                  <a:lnTo>
                    <a:pt x="601" y="1032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712880" y="144360"/>
              <a:ext cx="706680" cy="530640"/>
            </a:xfrm>
            <a:custGeom>
              <a:avLst/>
              <a:gdLst/>
              <a:ahLst/>
              <a:rect l="0" t="0" r="r" b="b"/>
              <a:pathLst>
                <a:path w="1963" h="1474">
                  <a:moveTo>
                    <a:pt x="603" y="846"/>
                  </a:moveTo>
                  <a:lnTo>
                    <a:pt x="371" y="1466"/>
                  </a:lnTo>
                  <a:lnTo>
                    <a:pt x="1034" y="1070"/>
                  </a:lnTo>
                  <a:lnTo>
                    <a:pt x="1697" y="1474"/>
                  </a:lnTo>
                  <a:lnTo>
                    <a:pt x="1338" y="812"/>
                  </a:lnTo>
                  <a:lnTo>
                    <a:pt x="1963" y="640"/>
                  </a:lnTo>
                  <a:lnTo>
                    <a:pt x="1216" y="542"/>
                  </a:lnTo>
                  <a:lnTo>
                    <a:pt x="936" y="0"/>
                  </a:lnTo>
                  <a:lnTo>
                    <a:pt x="713" y="520"/>
                  </a:lnTo>
                  <a:lnTo>
                    <a:pt x="0" y="1083"/>
                  </a:lnTo>
                  <a:lnTo>
                    <a:pt x="603" y="8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627120" y="203040"/>
              <a:ext cx="682920" cy="543240"/>
            </a:xfrm>
            <a:custGeom>
              <a:avLst/>
              <a:gdLst/>
              <a:ahLst/>
              <a:rect l="0" t="0" r="r" b="b"/>
              <a:pathLst>
                <a:path w="1897" h="1509">
                  <a:moveTo>
                    <a:pt x="560" y="870"/>
                  </a:moveTo>
                  <a:lnTo>
                    <a:pt x="400" y="1509"/>
                  </a:lnTo>
                  <a:lnTo>
                    <a:pt x="1016" y="1054"/>
                  </a:lnTo>
                  <a:lnTo>
                    <a:pt x="1715" y="1397"/>
                  </a:lnTo>
                  <a:lnTo>
                    <a:pt x="1286" y="772"/>
                  </a:lnTo>
                  <a:lnTo>
                    <a:pt x="1897" y="544"/>
                  </a:lnTo>
                  <a:lnTo>
                    <a:pt x="1189" y="526"/>
                  </a:lnTo>
                  <a:lnTo>
                    <a:pt x="800" y="0"/>
                  </a:lnTo>
                  <a:lnTo>
                    <a:pt x="636" y="544"/>
                  </a:lnTo>
                  <a:lnTo>
                    <a:pt x="0" y="772"/>
                  </a:lnTo>
                  <a:lnTo>
                    <a:pt x="560" y="8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-12600" y="466560"/>
              <a:ext cx="344880" cy="675000"/>
            </a:xfrm>
            <a:custGeom>
              <a:avLst/>
              <a:gdLst/>
              <a:ahLst/>
              <a:rect l="0" t="0" r="r" b="b"/>
              <a:pathLst>
                <a:path w="958" h="1875">
                  <a:moveTo>
                    <a:pt x="0" y="1530"/>
                  </a:moveTo>
                  <a:lnTo>
                    <a:pt x="734" y="1875"/>
                  </a:lnTo>
                  <a:lnTo>
                    <a:pt x="342" y="1224"/>
                  </a:lnTo>
                  <a:lnTo>
                    <a:pt x="958" y="1030"/>
                  </a:lnTo>
                  <a:lnTo>
                    <a:pt x="216" y="961"/>
                  </a:lnTo>
                  <a:lnTo>
                    <a:pt x="566" y="0"/>
                  </a:lnTo>
                  <a:lnTo>
                    <a:pt x="0" y="547"/>
                  </a:lnTo>
                  <a:lnTo>
                    <a:pt x="0" y="15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044720" y="371520"/>
              <a:ext cx="278280" cy="341640"/>
            </a:xfrm>
            <a:custGeom>
              <a:avLst/>
              <a:gdLst/>
              <a:ahLst/>
              <a:rect l="0" t="0" r="r" b="b"/>
              <a:pathLst>
                <a:path w="773" h="949">
                  <a:moveTo>
                    <a:pt x="178" y="757"/>
                  </a:moveTo>
                  <a:lnTo>
                    <a:pt x="573" y="949"/>
                  </a:lnTo>
                  <a:lnTo>
                    <a:pt x="204" y="331"/>
                  </a:lnTo>
                  <a:lnTo>
                    <a:pt x="773" y="89"/>
                  </a:lnTo>
                  <a:lnTo>
                    <a:pt x="233" y="17"/>
                  </a:lnTo>
                  <a:lnTo>
                    <a:pt x="0" y="0"/>
                  </a:lnTo>
                  <a:lnTo>
                    <a:pt x="178" y="757"/>
                  </a:lnTo>
                  <a:close/>
                </a:path>
              </a:pathLst>
            </a:custGeom>
            <a:solidFill>
              <a:srgbClr val="a0a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97000" y="671400"/>
              <a:ext cx="452880" cy="622800"/>
            </a:xfrm>
            <a:custGeom>
              <a:avLst/>
              <a:gdLst/>
              <a:ahLst/>
              <a:rect l="0" t="0" r="r" b="b"/>
              <a:pathLst>
                <a:path w="1258" h="1730">
                  <a:moveTo>
                    <a:pt x="267" y="1335"/>
                  </a:moveTo>
                  <a:lnTo>
                    <a:pt x="1041" y="1730"/>
                  </a:lnTo>
                  <a:lnTo>
                    <a:pt x="677" y="977"/>
                  </a:lnTo>
                  <a:lnTo>
                    <a:pt x="1258" y="727"/>
                  </a:lnTo>
                  <a:lnTo>
                    <a:pt x="514" y="646"/>
                  </a:lnTo>
                  <a:lnTo>
                    <a:pt x="175" y="0"/>
                  </a:lnTo>
                  <a:lnTo>
                    <a:pt x="0" y="542"/>
                  </a:lnTo>
                  <a:lnTo>
                    <a:pt x="267" y="1335"/>
                  </a:lnTo>
                  <a:close/>
                </a:path>
              </a:pathLst>
            </a:custGeom>
            <a:solidFill>
              <a:srgbClr val="a0a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992240" y="965160"/>
              <a:ext cx="381240" cy="468720"/>
            </a:xfrm>
            <a:custGeom>
              <a:avLst/>
              <a:gdLst/>
              <a:ahLst/>
              <a:rect l="0" t="0" r="r" b="b"/>
              <a:pathLst>
                <a:path w="1059" h="1302">
                  <a:moveTo>
                    <a:pt x="1059" y="831"/>
                  </a:moveTo>
                  <a:lnTo>
                    <a:pt x="456" y="1302"/>
                  </a:lnTo>
                  <a:lnTo>
                    <a:pt x="522" y="685"/>
                  </a:lnTo>
                  <a:lnTo>
                    <a:pt x="0" y="724"/>
                  </a:lnTo>
                  <a:lnTo>
                    <a:pt x="536" y="303"/>
                  </a:lnTo>
                  <a:lnTo>
                    <a:pt x="619" y="0"/>
                  </a:lnTo>
                  <a:lnTo>
                    <a:pt x="1059" y="831"/>
                  </a:lnTo>
                  <a:close/>
                </a:path>
              </a:pathLst>
            </a:custGeom>
            <a:solidFill>
              <a:srgbClr val="a0a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697040" y="438120"/>
              <a:ext cx="167040" cy="101880"/>
            </a:xfrm>
            <a:custGeom>
              <a:avLst/>
              <a:gdLst/>
              <a:ahLst/>
              <a:rect l="0" t="0" r="r" b="b"/>
              <a:pathLst>
                <a:path w="464" h="283">
                  <a:moveTo>
                    <a:pt x="370" y="0"/>
                  </a:moveTo>
                  <a:lnTo>
                    <a:pt x="0" y="283"/>
                  </a:lnTo>
                  <a:lnTo>
                    <a:pt x="464" y="104"/>
                  </a:lnTo>
                  <a:lnTo>
                    <a:pt x="370" y="0"/>
                  </a:lnTo>
                  <a:close/>
                </a:path>
              </a:pathLst>
            </a:custGeom>
            <a:solidFill>
              <a:srgbClr val="a0a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125880" y="846000"/>
              <a:ext cx="444960" cy="638640"/>
            </a:xfrm>
            <a:custGeom>
              <a:avLst/>
              <a:gdLst/>
              <a:ahLst/>
              <a:rect l="0" t="0" r="r" b="b"/>
              <a:pathLst>
                <a:path w="1236" h="1774">
                  <a:moveTo>
                    <a:pt x="356" y="1348"/>
                  </a:moveTo>
                  <a:lnTo>
                    <a:pt x="1236" y="1774"/>
                  </a:lnTo>
                  <a:lnTo>
                    <a:pt x="670" y="977"/>
                  </a:lnTo>
                  <a:lnTo>
                    <a:pt x="1161" y="745"/>
                  </a:lnTo>
                  <a:lnTo>
                    <a:pt x="494" y="624"/>
                  </a:lnTo>
                  <a:lnTo>
                    <a:pt x="255" y="0"/>
                  </a:lnTo>
                  <a:lnTo>
                    <a:pt x="0" y="482"/>
                  </a:lnTo>
                  <a:lnTo>
                    <a:pt x="356" y="1348"/>
                  </a:lnTo>
                  <a:close/>
                </a:path>
              </a:pathLst>
            </a:custGeom>
            <a:solidFill>
              <a:srgbClr val="a0a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2798640" y="237960"/>
              <a:ext cx="405000" cy="554400"/>
            </a:xfrm>
            <a:custGeom>
              <a:avLst/>
              <a:gdLst/>
              <a:ahLst/>
              <a:rect l="0" t="0" r="r" b="b"/>
              <a:pathLst>
                <a:path w="1125" h="1540">
                  <a:moveTo>
                    <a:pt x="334" y="1223"/>
                  </a:moveTo>
                  <a:lnTo>
                    <a:pt x="1020" y="1540"/>
                  </a:lnTo>
                  <a:lnTo>
                    <a:pt x="623" y="965"/>
                  </a:lnTo>
                  <a:lnTo>
                    <a:pt x="1125" y="652"/>
                  </a:lnTo>
                  <a:lnTo>
                    <a:pt x="443" y="678"/>
                  </a:lnTo>
                  <a:lnTo>
                    <a:pt x="188" y="0"/>
                  </a:lnTo>
                  <a:lnTo>
                    <a:pt x="0" y="429"/>
                  </a:lnTo>
                  <a:lnTo>
                    <a:pt x="334" y="1223"/>
                  </a:lnTo>
                  <a:close/>
                </a:path>
              </a:pathLst>
            </a:custGeom>
            <a:solidFill>
              <a:srgbClr val="a0a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84720" y="150840"/>
              <a:ext cx="1491120" cy="1987920"/>
            </a:xfrm>
            <a:custGeom>
              <a:avLst/>
              <a:gdLst/>
              <a:ahLst/>
              <a:rect l="0" t="0" r="r" b="b"/>
              <a:pathLst>
                <a:path w="4142" h="5522">
                  <a:moveTo>
                    <a:pt x="1994" y="434"/>
                  </a:moveTo>
                  <a:lnTo>
                    <a:pt x="3000" y="2978"/>
                  </a:lnTo>
                  <a:lnTo>
                    <a:pt x="3718" y="4723"/>
                  </a:lnTo>
                  <a:lnTo>
                    <a:pt x="4087" y="5522"/>
                  </a:lnTo>
                  <a:lnTo>
                    <a:pt x="4142" y="5514"/>
                  </a:lnTo>
                  <a:lnTo>
                    <a:pt x="3960" y="5488"/>
                  </a:lnTo>
                  <a:lnTo>
                    <a:pt x="3124" y="5414"/>
                  </a:lnTo>
                  <a:lnTo>
                    <a:pt x="2088" y="5357"/>
                  </a:lnTo>
                  <a:lnTo>
                    <a:pt x="1655" y="5353"/>
                  </a:lnTo>
                  <a:lnTo>
                    <a:pt x="1566" y="5353"/>
                  </a:lnTo>
                  <a:lnTo>
                    <a:pt x="1485" y="5353"/>
                  </a:lnTo>
                  <a:lnTo>
                    <a:pt x="1354" y="5370"/>
                  </a:lnTo>
                  <a:lnTo>
                    <a:pt x="1222" y="5157"/>
                  </a:lnTo>
                  <a:lnTo>
                    <a:pt x="1030" y="4570"/>
                  </a:lnTo>
                  <a:lnTo>
                    <a:pt x="576" y="2770"/>
                  </a:lnTo>
                  <a:lnTo>
                    <a:pt x="0" y="143"/>
                  </a:lnTo>
                  <a:lnTo>
                    <a:pt x="152" y="47"/>
                  </a:lnTo>
                  <a:lnTo>
                    <a:pt x="381" y="4"/>
                  </a:lnTo>
                  <a:lnTo>
                    <a:pt x="513" y="0"/>
                  </a:lnTo>
                  <a:lnTo>
                    <a:pt x="585" y="0"/>
                  </a:lnTo>
                  <a:lnTo>
                    <a:pt x="657" y="4"/>
                  </a:lnTo>
                  <a:lnTo>
                    <a:pt x="963" y="47"/>
                  </a:lnTo>
                  <a:lnTo>
                    <a:pt x="1558" y="208"/>
                  </a:lnTo>
                  <a:lnTo>
                    <a:pt x="1994" y="434"/>
                  </a:lnTo>
                  <a:close/>
                </a:path>
              </a:pathLst>
            </a:custGeom>
            <a:solidFill>
              <a:srgbClr val="6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5622840" y="-114480"/>
              <a:ext cx="2408760" cy="2403720"/>
            </a:xfrm>
            <a:custGeom>
              <a:avLst/>
              <a:gdLst/>
              <a:ahLst/>
              <a:rect l="0" t="0" r="r" b="b"/>
              <a:pathLst>
                <a:path w="6691" h="6677">
                  <a:moveTo>
                    <a:pt x="0" y="487"/>
                  </a:moveTo>
                  <a:lnTo>
                    <a:pt x="89" y="956"/>
                  </a:lnTo>
                  <a:lnTo>
                    <a:pt x="369" y="2083"/>
                  </a:lnTo>
                  <a:lnTo>
                    <a:pt x="850" y="3432"/>
                  </a:lnTo>
                  <a:lnTo>
                    <a:pt x="1168" y="4050"/>
                  </a:lnTo>
                  <a:lnTo>
                    <a:pt x="1547" y="4563"/>
                  </a:lnTo>
                  <a:lnTo>
                    <a:pt x="1849" y="4989"/>
                  </a:lnTo>
                  <a:lnTo>
                    <a:pt x="1909" y="5159"/>
                  </a:lnTo>
                  <a:lnTo>
                    <a:pt x="1917" y="5237"/>
                  </a:lnTo>
                  <a:lnTo>
                    <a:pt x="1917" y="5311"/>
                  </a:lnTo>
                  <a:lnTo>
                    <a:pt x="1815" y="5546"/>
                  </a:lnTo>
                  <a:lnTo>
                    <a:pt x="1610" y="5729"/>
                  </a:lnTo>
                  <a:lnTo>
                    <a:pt x="1211" y="6016"/>
                  </a:lnTo>
                  <a:lnTo>
                    <a:pt x="1168" y="6085"/>
                  </a:lnTo>
                  <a:lnTo>
                    <a:pt x="1156" y="6164"/>
                  </a:lnTo>
                  <a:lnTo>
                    <a:pt x="1296" y="6355"/>
                  </a:lnTo>
                  <a:lnTo>
                    <a:pt x="2211" y="6503"/>
                  </a:lnTo>
                  <a:lnTo>
                    <a:pt x="4017" y="6638"/>
                  </a:lnTo>
                  <a:lnTo>
                    <a:pt x="4969" y="6672"/>
                  </a:lnTo>
                  <a:lnTo>
                    <a:pt x="5412" y="6677"/>
                  </a:lnTo>
                  <a:lnTo>
                    <a:pt x="5811" y="6668"/>
                  </a:lnTo>
                  <a:lnTo>
                    <a:pt x="6423" y="6616"/>
                  </a:lnTo>
                  <a:lnTo>
                    <a:pt x="6691" y="6503"/>
                  </a:lnTo>
                  <a:lnTo>
                    <a:pt x="6453" y="5790"/>
                  </a:lnTo>
                  <a:lnTo>
                    <a:pt x="6160" y="5133"/>
                  </a:lnTo>
                  <a:lnTo>
                    <a:pt x="5743" y="4467"/>
                  </a:lnTo>
                  <a:lnTo>
                    <a:pt x="4905" y="3606"/>
                  </a:lnTo>
                  <a:lnTo>
                    <a:pt x="4072" y="2861"/>
                  </a:lnTo>
                  <a:lnTo>
                    <a:pt x="3422" y="2305"/>
                  </a:lnTo>
                  <a:lnTo>
                    <a:pt x="3146" y="1992"/>
                  </a:lnTo>
                  <a:lnTo>
                    <a:pt x="2908" y="1400"/>
                  </a:lnTo>
                  <a:lnTo>
                    <a:pt x="2500" y="852"/>
                  </a:lnTo>
                  <a:lnTo>
                    <a:pt x="1947" y="295"/>
                  </a:lnTo>
                  <a:lnTo>
                    <a:pt x="1688" y="95"/>
                  </a:lnTo>
                  <a:lnTo>
                    <a:pt x="1470" y="8"/>
                  </a:lnTo>
                  <a:lnTo>
                    <a:pt x="1381" y="0"/>
                  </a:lnTo>
                  <a:lnTo>
                    <a:pt x="1292" y="8"/>
                  </a:lnTo>
                  <a:lnTo>
                    <a:pt x="1109" y="69"/>
                  </a:lnTo>
                  <a:lnTo>
                    <a:pt x="680" y="295"/>
                  </a:lnTo>
                  <a:lnTo>
                    <a:pt x="382" y="404"/>
                  </a:lnTo>
                  <a:lnTo>
                    <a:pt x="0" y="487"/>
                  </a:lnTo>
                  <a:close/>
                </a:path>
              </a:pathLst>
            </a:custGeom>
            <a:solidFill>
              <a:srgbClr val="6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193680" y="2278080"/>
              <a:ext cx="887760" cy="2176920"/>
            </a:xfrm>
            <a:custGeom>
              <a:avLst/>
              <a:gdLst/>
              <a:ahLst/>
              <a:rect l="0" t="0" r="r" b="b"/>
              <a:pathLst>
                <a:path w="2466" h="6047">
                  <a:moveTo>
                    <a:pt x="0" y="869"/>
                  </a:moveTo>
                  <a:lnTo>
                    <a:pt x="932" y="3482"/>
                  </a:lnTo>
                  <a:lnTo>
                    <a:pt x="1676" y="5265"/>
                  </a:lnTo>
                  <a:lnTo>
                    <a:pt x="1989" y="5843"/>
                  </a:lnTo>
                  <a:lnTo>
                    <a:pt x="2115" y="5999"/>
                  </a:lnTo>
                  <a:lnTo>
                    <a:pt x="2221" y="6047"/>
                  </a:lnTo>
                  <a:lnTo>
                    <a:pt x="2343" y="5895"/>
                  </a:lnTo>
                  <a:lnTo>
                    <a:pt x="2423" y="5513"/>
                  </a:lnTo>
                  <a:lnTo>
                    <a:pt x="2461" y="4969"/>
                  </a:lnTo>
                  <a:lnTo>
                    <a:pt x="2466" y="4656"/>
                  </a:lnTo>
                  <a:lnTo>
                    <a:pt x="2466" y="4490"/>
                  </a:lnTo>
                  <a:lnTo>
                    <a:pt x="2457" y="4321"/>
                  </a:lnTo>
                  <a:lnTo>
                    <a:pt x="2339" y="2965"/>
                  </a:lnTo>
                  <a:lnTo>
                    <a:pt x="2077" y="1917"/>
                  </a:lnTo>
                  <a:lnTo>
                    <a:pt x="1579" y="947"/>
                  </a:lnTo>
                  <a:lnTo>
                    <a:pt x="1063" y="8"/>
                  </a:lnTo>
                  <a:lnTo>
                    <a:pt x="1004" y="0"/>
                  </a:lnTo>
                  <a:lnTo>
                    <a:pt x="932" y="4"/>
                  </a:lnTo>
                  <a:lnTo>
                    <a:pt x="780" y="60"/>
                  </a:lnTo>
                  <a:lnTo>
                    <a:pt x="447" y="278"/>
                  </a:lnTo>
                  <a:lnTo>
                    <a:pt x="156" y="573"/>
                  </a:lnTo>
                  <a:lnTo>
                    <a:pt x="0" y="869"/>
                  </a:lnTo>
                  <a:close/>
                </a:path>
              </a:pathLst>
            </a:custGeom>
            <a:solidFill>
              <a:srgbClr val="6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-558720" y="3129120"/>
              <a:ext cx="1275120" cy="2048400"/>
            </a:xfrm>
            <a:custGeom>
              <a:avLst/>
              <a:gdLst/>
              <a:ahLst/>
              <a:rect l="0" t="0" r="r" b="b"/>
              <a:pathLst>
                <a:path w="3542" h="5690">
                  <a:moveTo>
                    <a:pt x="3262" y="0"/>
                  </a:moveTo>
                  <a:lnTo>
                    <a:pt x="3178" y="134"/>
                  </a:lnTo>
                  <a:lnTo>
                    <a:pt x="2907" y="360"/>
                  </a:lnTo>
                  <a:lnTo>
                    <a:pt x="2010" y="1042"/>
                  </a:lnTo>
                  <a:lnTo>
                    <a:pt x="939" y="1913"/>
                  </a:lnTo>
                  <a:lnTo>
                    <a:pt x="452" y="2386"/>
                  </a:lnTo>
                  <a:lnTo>
                    <a:pt x="63" y="2869"/>
                  </a:lnTo>
                  <a:lnTo>
                    <a:pt x="0" y="3429"/>
                  </a:lnTo>
                  <a:lnTo>
                    <a:pt x="38" y="4386"/>
                  </a:lnTo>
                  <a:lnTo>
                    <a:pt x="93" y="5290"/>
                  </a:lnTo>
                  <a:lnTo>
                    <a:pt x="93" y="5451"/>
                  </a:lnTo>
                  <a:lnTo>
                    <a:pt x="97" y="5577"/>
                  </a:lnTo>
                  <a:lnTo>
                    <a:pt x="63" y="5690"/>
                  </a:lnTo>
                  <a:lnTo>
                    <a:pt x="1764" y="4129"/>
                  </a:lnTo>
                  <a:lnTo>
                    <a:pt x="3508" y="2573"/>
                  </a:lnTo>
                  <a:lnTo>
                    <a:pt x="3537" y="2378"/>
                  </a:lnTo>
                  <a:lnTo>
                    <a:pt x="3542" y="2234"/>
                  </a:lnTo>
                  <a:lnTo>
                    <a:pt x="3542" y="2147"/>
                  </a:lnTo>
                  <a:lnTo>
                    <a:pt x="3533" y="2056"/>
                  </a:lnTo>
                  <a:lnTo>
                    <a:pt x="3444" y="1199"/>
                  </a:lnTo>
                  <a:lnTo>
                    <a:pt x="3262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52280" y="4303800"/>
              <a:ext cx="908280" cy="1521360"/>
            </a:xfrm>
            <a:custGeom>
              <a:avLst/>
              <a:gdLst/>
              <a:ahLst/>
              <a:rect l="0" t="0" r="r" b="b"/>
              <a:pathLst>
                <a:path w="2523" h="4226">
                  <a:moveTo>
                    <a:pt x="2392" y="195"/>
                  </a:moveTo>
                  <a:lnTo>
                    <a:pt x="2375" y="303"/>
                  </a:lnTo>
                  <a:lnTo>
                    <a:pt x="2303" y="434"/>
                  </a:lnTo>
                  <a:lnTo>
                    <a:pt x="2050" y="742"/>
                  </a:lnTo>
                  <a:lnTo>
                    <a:pt x="1242" y="1468"/>
                  </a:lnTo>
                  <a:lnTo>
                    <a:pt x="414" y="2184"/>
                  </a:lnTo>
                  <a:lnTo>
                    <a:pt x="130" y="2484"/>
                  </a:lnTo>
                  <a:lnTo>
                    <a:pt x="0" y="2718"/>
                  </a:lnTo>
                  <a:lnTo>
                    <a:pt x="0" y="2788"/>
                  </a:lnTo>
                  <a:lnTo>
                    <a:pt x="8" y="2879"/>
                  </a:lnTo>
                  <a:lnTo>
                    <a:pt x="71" y="3096"/>
                  </a:lnTo>
                  <a:lnTo>
                    <a:pt x="278" y="3596"/>
                  </a:lnTo>
                  <a:lnTo>
                    <a:pt x="523" y="4035"/>
                  </a:lnTo>
                  <a:lnTo>
                    <a:pt x="697" y="4226"/>
                  </a:lnTo>
                  <a:lnTo>
                    <a:pt x="1064" y="3913"/>
                  </a:lnTo>
                  <a:lnTo>
                    <a:pt x="1678" y="3232"/>
                  </a:lnTo>
                  <a:lnTo>
                    <a:pt x="2257" y="2579"/>
                  </a:lnTo>
                  <a:lnTo>
                    <a:pt x="2523" y="2349"/>
                  </a:lnTo>
                  <a:lnTo>
                    <a:pt x="2519" y="2280"/>
                  </a:lnTo>
                  <a:lnTo>
                    <a:pt x="2498" y="1963"/>
                  </a:lnTo>
                  <a:lnTo>
                    <a:pt x="2430" y="972"/>
                  </a:lnTo>
                  <a:lnTo>
                    <a:pt x="2375" y="130"/>
                  </a:lnTo>
                  <a:lnTo>
                    <a:pt x="2371" y="0"/>
                  </a:lnTo>
                  <a:lnTo>
                    <a:pt x="2392" y="195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79200" y="5904000"/>
              <a:ext cx="1076760" cy="993960"/>
            </a:xfrm>
            <a:custGeom>
              <a:avLst/>
              <a:gdLst/>
              <a:ahLst/>
              <a:rect l="0" t="0" r="r" b="b"/>
              <a:pathLst>
                <a:path w="2991" h="2761">
                  <a:moveTo>
                    <a:pt x="2991" y="0"/>
                  </a:moveTo>
                  <a:lnTo>
                    <a:pt x="2991" y="112"/>
                  </a:lnTo>
                  <a:lnTo>
                    <a:pt x="2801" y="415"/>
                  </a:lnTo>
                  <a:lnTo>
                    <a:pt x="2509" y="774"/>
                  </a:lnTo>
                  <a:lnTo>
                    <a:pt x="2195" y="1060"/>
                  </a:lnTo>
                  <a:lnTo>
                    <a:pt x="956" y="2056"/>
                  </a:lnTo>
                  <a:lnTo>
                    <a:pt x="342" y="2549"/>
                  </a:lnTo>
                  <a:lnTo>
                    <a:pt x="12" y="2761"/>
                  </a:lnTo>
                  <a:lnTo>
                    <a:pt x="0" y="2748"/>
                  </a:lnTo>
                  <a:lnTo>
                    <a:pt x="228" y="2713"/>
                  </a:lnTo>
                  <a:lnTo>
                    <a:pt x="1121" y="2601"/>
                  </a:lnTo>
                  <a:lnTo>
                    <a:pt x="2645" y="2367"/>
                  </a:lnTo>
                  <a:lnTo>
                    <a:pt x="2725" y="2207"/>
                  </a:lnTo>
                  <a:lnTo>
                    <a:pt x="2780" y="1917"/>
                  </a:lnTo>
                  <a:lnTo>
                    <a:pt x="2843" y="1116"/>
                  </a:lnTo>
                  <a:lnTo>
                    <a:pt x="2890" y="354"/>
                  </a:lnTo>
                  <a:lnTo>
                    <a:pt x="2991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-662040" y="1913040"/>
              <a:ext cx="1287720" cy="1367280"/>
            </a:xfrm>
            <a:custGeom>
              <a:avLst/>
              <a:gdLst/>
              <a:ahLst/>
              <a:rect l="0" t="0" r="r" b="b"/>
              <a:pathLst>
                <a:path w="3577" h="3798">
                  <a:moveTo>
                    <a:pt x="3577" y="1302"/>
                  </a:moveTo>
                  <a:lnTo>
                    <a:pt x="1913" y="2461"/>
                  </a:lnTo>
                  <a:lnTo>
                    <a:pt x="770" y="3304"/>
                  </a:lnTo>
                  <a:lnTo>
                    <a:pt x="393" y="3616"/>
                  </a:lnTo>
                  <a:lnTo>
                    <a:pt x="245" y="3798"/>
                  </a:lnTo>
                  <a:lnTo>
                    <a:pt x="152" y="2904"/>
                  </a:lnTo>
                  <a:lnTo>
                    <a:pt x="0" y="1819"/>
                  </a:lnTo>
                  <a:lnTo>
                    <a:pt x="1570" y="785"/>
                  </a:lnTo>
                  <a:lnTo>
                    <a:pt x="2582" y="160"/>
                  </a:lnTo>
                  <a:lnTo>
                    <a:pt x="2908" y="0"/>
                  </a:lnTo>
                  <a:lnTo>
                    <a:pt x="3035" y="4"/>
                  </a:lnTo>
                  <a:lnTo>
                    <a:pt x="3577" y="1302"/>
                  </a:lnTo>
                  <a:close/>
                </a:path>
              </a:pathLst>
            </a:custGeom>
            <a:solidFill>
              <a:srgbClr val="a0a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360" y="2722680"/>
              <a:ext cx="716400" cy="1292760"/>
            </a:xfrm>
            <a:custGeom>
              <a:avLst/>
              <a:gdLst/>
              <a:ahLst/>
              <a:rect l="0" t="0" r="r" b="b"/>
              <a:pathLst>
                <a:path w="1990" h="3591">
                  <a:moveTo>
                    <a:pt x="1595" y="0"/>
                  </a:moveTo>
                  <a:lnTo>
                    <a:pt x="1814" y="902"/>
                  </a:lnTo>
                  <a:lnTo>
                    <a:pt x="1948" y="1600"/>
                  </a:lnTo>
                  <a:lnTo>
                    <a:pt x="1986" y="1882"/>
                  </a:lnTo>
                  <a:lnTo>
                    <a:pt x="1990" y="1995"/>
                  </a:lnTo>
                  <a:lnTo>
                    <a:pt x="1986" y="2086"/>
                  </a:lnTo>
                  <a:lnTo>
                    <a:pt x="1847" y="2328"/>
                  </a:lnTo>
                  <a:lnTo>
                    <a:pt x="1536" y="2602"/>
                  </a:lnTo>
                  <a:lnTo>
                    <a:pt x="1148" y="2993"/>
                  </a:lnTo>
                  <a:lnTo>
                    <a:pt x="749" y="3591"/>
                  </a:lnTo>
                  <a:lnTo>
                    <a:pt x="585" y="3357"/>
                  </a:lnTo>
                  <a:lnTo>
                    <a:pt x="302" y="2671"/>
                  </a:lnTo>
                  <a:lnTo>
                    <a:pt x="63" y="1925"/>
                  </a:lnTo>
                  <a:lnTo>
                    <a:pt x="0" y="1505"/>
                  </a:lnTo>
                  <a:lnTo>
                    <a:pt x="370" y="1093"/>
                  </a:lnTo>
                  <a:lnTo>
                    <a:pt x="904" y="593"/>
                  </a:lnTo>
                  <a:lnTo>
                    <a:pt x="1595" y="0"/>
                  </a:lnTo>
                  <a:close/>
                </a:path>
              </a:pathLst>
            </a:custGeom>
            <a:solidFill>
              <a:srgbClr val="a0a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118040" y="63360"/>
              <a:ext cx="5267520" cy="1864080"/>
            </a:xfrm>
            <a:custGeom>
              <a:avLst/>
              <a:gdLst/>
              <a:ahLst/>
              <a:rect l="0" t="0" r="r" b="b"/>
              <a:pathLst>
                <a:path w="14632" h="5178">
                  <a:moveTo>
                    <a:pt x="25" y="2145"/>
                  </a:moveTo>
                  <a:lnTo>
                    <a:pt x="191" y="2093"/>
                  </a:lnTo>
                  <a:lnTo>
                    <a:pt x="323" y="1989"/>
                  </a:lnTo>
                  <a:lnTo>
                    <a:pt x="643" y="1689"/>
                  </a:lnTo>
                  <a:lnTo>
                    <a:pt x="885" y="1524"/>
                  </a:lnTo>
                  <a:lnTo>
                    <a:pt x="1248" y="1359"/>
                  </a:lnTo>
                  <a:lnTo>
                    <a:pt x="1742" y="1220"/>
                  </a:lnTo>
                  <a:lnTo>
                    <a:pt x="2419" y="1111"/>
                  </a:lnTo>
                  <a:lnTo>
                    <a:pt x="3339" y="1042"/>
                  </a:lnTo>
                  <a:lnTo>
                    <a:pt x="3744" y="1033"/>
                  </a:lnTo>
                  <a:lnTo>
                    <a:pt x="3940" y="1033"/>
                  </a:lnTo>
                  <a:lnTo>
                    <a:pt x="4123" y="1038"/>
                  </a:lnTo>
                  <a:lnTo>
                    <a:pt x="5324" y="1176"/>
                  </a:lnTo>
                  <a:lnTo>
                    <a:pt x="6108" y="1385"/>
                  </a:lnTo>
                  <a:lnTo>
                    <a:pt x="6576" y="1546"/>
                  </a:lnTo>
                  <a:lnTo>
                    <a:pt x="7655" y="1798"/>
                  </a:lnTo>
                  <a:lnTo>
                    <a:pt x="8958" y="2023"/>
                  </a:lnTo>
                  <a:lnTo>
                    <a:pt x="10228" y="2145"/>
                  </a:lnTo>
                  <a:lnTo>
                    <a:pt x="10509" y="2149"/>
                  </a:lnTo>
                  <a:lnTo>
                    <a:pt x="10777" y="2141"/>
                  </a:lnTo>
                  <a:lnTo>
                    <a:pt x="11229" y="2080"/>
                  </a:lnTo>
                  <a:lnTo>
                    <a:pt x="11953" y="1850"/>
                  </a:lnTo>
                  <a:lnTo>
                    <a:pt x="12587" y="1537"/>
                  </a:lnTo>
                  <a:lnTo>
                    <a:pt x="13128" y="1181"/>
                  </a:lnTo>
                  <a:lnTo>
                    <a:pt x="13576" y="816"/>
                  </a:lnTo>
                  <a:lnTo>
                    <a:pt x="14180" y="208"/>
                  </a:lnTo>
                  <a:lnTo>
                    <a:pt x="14381" y="0"/>
                  </a:lnTo>
                  <a:lnTo>
                    <a:pt x="14372" y="317"/>
                  </a:lnTo>
                  <a:lnTo>
                    <a:pt x="14389" y="786"/>
                  </a:lnTo>
                  <a:lnTo>
                    <a:pt x="14466" y="1924"/>
                  </a:lnTo>
                  <a:lnTo>
                    <a:pt x="14632" y="3388"/>
                  </a:lnTo>
                  <a:lnTo>
                    <a:pt x="14027" y="3840"/>
                  </a:lnTo>
                  <a:lnTo>
                    <a:pt x="13341" y="4261"/>
                  </a:lnTo>
                  <a:lnTo>
                    <a:pt x="12523" y="4691"/>
                  </a:lnTo>
                  <a:lnTo>
                    <a:pt x="11689" y="5026"/>
                  </a:lnTo>
                  <a:lnTo>
                    <a:pt x="10926" y="5178"/>
                  </a:lnTo>
                  <a:lnTo>
                    <a:pt x="10760" y="5178"/>
                  </a:lnTo>
                  <a:lnTo>
                    <a:pt x="10607" y="5160"/>
                  </a:lnTo>
                  <a:lnTo>
                    <a:pt x="10343" y="5052"/>
                  </a:lnTo>
                  <a:lnTo>
                    <a:pt x="10142" y="4856"/>
                  </a:lnTo>
                  <a:lnTo>
                    <a:pt x="10027" y="4548"/>
                  </a:lnTo>
                  <a:lnTo>
                    <a:pt x="9917" y="4205"/>
                  </a:lnTo>
                  <a:lnTo>
                    <a:pt x="9708" y="3909"/>
                  </a:lnTo>
                  <a:lnTo>
                    <a:pt x="9431" y="3675"/>
                  </a:lnTo>
                  <a:lnTo>
                    <a:pt x="9095" y="3488"/>
                  </a:lnTo>
                  <a:lnTo>
                    <a:pt x="8281" y="3240"/>
                  </a:lnTo>
                  <a:lnTo>
                    <a:pt x="7378" y="3128"/>
                  </a:lnTo>
                  <a:lnTo>
                    <a:pt x="6925" y="3110"/>
                  </a:lnTo>
                  <a:lnTo>
                    <a:pt x="6704" y="3106"/>
                  </a:lnTo>
                  <a:lnTo>
                    <a:pt x="6482" y="3106"/>
                  </a:lnTo>
                  <a:lnTo>
                    <a:pt x="5690" y="3141"/>
                  </a:lnTo>
                  <a:lnTo>
                    <a:pt x="5107" y="3180"/>
                  </a:lnTo>
                  <a:lnTo>
                    <a:pt x="4821" y="3193"/>
                  </a:lnTo>
                  <a:lnTo>
                    <a:pt x="4715" y="3188"/>
                  </a:lnTo>
                  <a:lnTo>
                    <a:pt x="4596" y="3188"/>
                  </a:lnTo>
                  <a:lnTo>
                    <a:pt x="4523" y="3188"/>
                  </a:lnTo>
                  <a:lnTo>
                    <a:pt x="4442" y="3184"/>
                  </a:lnTo>
                  <a:lnTo>
                    <a:pt x="3556" y="3262"/>
                  </a:lnTo>
                  <a:lnTo>
                    <a:pt x="3024" y="3375"/>
                  </a:lnTo>
                  <a:lnTo>
                    <a:pt x="2470" y="3562"/>
                  </a:lnTo>
                  <a:lnTo>
                    <a:pt x="1933" y="3835"/>
                  </a:lnTo>
                  <a:lnTo>
                    <a:pt x="1456" y="4218"/>
                  </a:lnTo>
                  <a:lnTo>
                    <a:pt x="1388" y="4248"/>
                  </a:lnTo>
                  <a:lnTo>
                    <a:pt x="1294" y="4235"/>
                  </a:lnTo>
                  <a:lnTo>
                    <a:pt x="1069" y="4061"/>
                  </a:lnTo>
                  <a:lnTo>
                    <a:pt x="540" y="3375"/>
                  </a:lnTo>
                  <a:lnTo>
                    <a:pt x="115" y="2593"/>
                  </a:lnTo>
                  <a:lnTo>
                    <a:pt x="12" y="2301"/>
                  </a:lnTo>
                  <a:lnTo>
                    <a:pt x="0" y="2206"/>
                  </a:lnTo>
                  <a:lnTo>
                    <a:pt x="25" y="2145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3456000" y="482760"/>
              <a:ext cx="1159200" cy="1105200"/>
            </a:xfrm>
            <a:custGeom>
              <a:avLst/>
              <a:gdLst/>
              <a:ahLst/>
              <a:rect l="0" t="0" r="r" b="b"/>
              <a:pathLst>
                <a:path w="3220" h="3070">
                  <a:moveTo>
                    <a:pt x="0" y="216"/>
                  </a:moveTo>
                  <a:lnTo>
                    <a:pt x="194" y="108"/>
                  </a:lnTo>
                  <a:lnTo>
                    <a:pt x="702" y="4"/>
                  </a:lnTo>
                  <a:lnTo>
                    <a:pt x="858" y="0"/>
                  </a:lnTo>
                  <a:lnTo>
                    <a:pt x="943" y="0"/>
                  </a:lnTo>
                  <a:lnTo>
                    <a:pt x="1032" y="12"/>
                  </a:lnTo>
                  <a:lnTo>
                    <a:pt x="1400" y="82"/>
                  </a:lnTo>
                  <a:lnTo>
                    <a:pt x="1777" y="242"/>
                  </a:lnTo>
                  <a:lnTo>
                    <a:pt x="2162" y="510"/>
                  </a:lnTo>
                  <a:lnTo>
                    <a:pt x="2412" y="943"/>
                  </a:lnTo>
                  <a:lnTo>
                    <a:pt x="2809" y="1858"/>
                  </a:lnTo>
                  <a:lnTo>
                    <a:pt x="3143" y="2732"/>
                  </a:lnTo>
                  <a:lnTo>
                    <a:pt x="3220" y="3000"/>
                  </a:lnTo>
                  <a:lnTo>
                    <a:pt x="3198" y="3070"/>
                  </a:lnTo>
                  <a:lnTo>
                    <a:pt x="2585" y="2689"/>
                  </a:lnTo>
                  <a:lnTo>
                    <a:pt x="2035" y="2446"/>
                  </a:lnTo>
                  <a:lnTo>
                    <a:pt x="1565" y="2321"/>
                  </a:lnTo>
                  <a:lnTo>
                    <a:pt x="1175" y="2273"/>
                  </a:lnTo>
                  <a:lnTo>
                    <a:pt x="1015" y="2273"/>
                  </a:lnTo>
                  <a:lnTo>
                    <a:pt x="871" y="2282"/>
                  </a:lnTo>
                  <a:lnTo>
                    <a:pt x="647" y="2329"/>
                  </a:lnTo>
                  <a:lnTo>
                    <a:pt x="465" y="2394"/>
                  </a:lnTo>
                  <a:lnTo>
                    <a:pt x="0" y="216"/>
                  </a:lnTo>
                  <a:close/>
                </a:path>
              </a:pathLst>
            </a:custGeom>
            <a:solidFill>
              <a:srgbClr val="a0a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5729400" y="433440"/>
              <a:ext cx="1906920" cy="1074960"/>
            </a:xfrm>
            <a:custGeom>
              <a:avLst/>
              <a:gdLst/>
              <a:ahLst/>
              <a:rect l="0" t="0" r="r" b="b"/>
              <a:pathLst>
                <a:path w="5297" h="2986">
                  <a:moveTo>
                    <a:pt x="0" y="0"/>
                  </a:moveTo>
                  <a:lnTo>
                    <a:pt x="1333" y="216"/>
                  </a:lnTo>
                  <a:lnTo>
                    <a:pt x="1945" y="342"/>
                  </a:lnTo>
                  <a:lnTo>
                    <a:pt x="2531" y="524"/>
                  </a:lnTo>
                  <a:lnTo>
                    <a:pt x="3148" y="762"/>
                  </a:lnTo>
                  <a:lnTo>
                    <a:pt x="5297" y="2986"/>
                  </a:lnTo>
                  <a:lnTo>
                    <a:pt x="5241" y="2869"/>
                  </a:lnTo>
                  <a:lnTo>
                    <a:pt x="5148" y="2752"/>
                  </a:lnTo>
                  <a:lnTo>
                    <a:pt x="4987" y="2635"/>
                  </a:lnTo>
                  <a:lnTo>
                    <a:pt x="4749" y="2544"/>
                  </a:lnTo>
                  <a:lnTo>
                    <a:pt x="4413" y="2496"/>
                  </a:lnTo>
                  <a:lnTo>
                    <a:pt x="4316" y="2496"/>
                  </a:lnTo>
                  <a:lnTo>
                    <a:pt x="4205" y="2496"/>
                  </a:lnTo>
                  <a:lnTo>
                    <a:pt x="3967" y="2518"/>
                  </a:lnTo>
                  <a:lnTo>
                    <a:pt x="3398" y="2648"/>
                  </a:lnTo>
                  <a:lnTo>
                    <a:pt x="2859" y="2748"/>
                  </a:lnTo>
                  <a:lnTo>
                    <a:pt x="2599" y="2765"/>
                  </a:lnTo>
                  <a:lnTo>
                    <a:pt x="2471" y="2765"/>
                  </a:lnTo>
                  <a:lnTo>
                    <a:pt x="2340" y="2756"/>
                  </a:lnTo>
                  <a:lnTo>
                    <a:pt x="1435" y="2579"/>
                  </a:lnTo>
                  <a:lnTo>
                    <a:pt x="798" y="2301"/>
                  </a:lnTo>
                  <a:lnTo>
                    <a:pt x="543" y="21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0a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-701640" y="5248440"/>
              <a:ext cx="1134000" cy="1333800"/>
            </a:xfrm>
            <a:custGeom>
              <a:avLst/>
              <a:gdLst/>
              <a:ahLst/>
              <a:rect l="0" t="0" r="r" b="b"/>
              <a:pathLst>
                <a:path w="3150" h="3705">
                  <a:moveTo>
                    <a:pt x="2352" y="0"/>
                  </a:moveTo>
                  <a:lnTo>
                    <a:pt x="2769" y="711"/>
                  </a:lnTo>
                  <a:lnTo>
                    <a:pt x="3150" y="1453"/>
                  </a:lnTo>
                  <a:lnTo>
                    <a:pt x="1751" y="2677"/>
                  </a:lnTo>
                  <a:lnTo>
                    <a:pt x="831" y="3449"/>
                  </a:lnTo>
                  <a:lnTo>
                    <a:pt x="542" y="3674"/>
                  </a:lnTo>
                  <a:lnTo>
                    <a:pt x="453" y="3705"/>
                  </a:lnTo>
                  <a:lnTo>
                    <a:pt x="355" y="3496"/>
                  </a:lnTo>
                  <a:lnTo>
                    <a:pt x="127" y="3132"/>
                  </a:lnTo>
                  <a:lnTo>
                    <a:pt x="38" y="2898"/>
                  </a:lnTo>
                  <a:lnTo>
                    <a:pt x="0" y="2633"/>
                  </a:lnTo>
                  <a:lnTo>
                    <a:pt x="42" y="2347"/>
                  </a:lnTo>
                  <a:lnTo>
                    <a:pt x="207" y="2030"/>
                  </a:lnTo>
                  <a:lnTo>
                    <a:pt x="351" y="1774"/>
                  </a:lnTo>
                  <a:lnTo>
                    <a:pt x="614" y="1479"/>
                  </a:lnTo>
                  <a:lnTo>
                    <a:pt x="1327" y="867"/>
                  </a:lnTo>
                  <a:lnTo>
                    <a:pt x="2013" y="333"/>
                  </a:lnTo>
                  <a:lnTo>
                    <a:pt x="2352" y="0"/>
                  </a:lnTo>
                  <a:close/>
                </a:path>
              </a:pathLst>
            </a:custGeom>
            <a:solidFill>
              <a:srgbClr val="a0a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-554040" y="6388200"/>
              <a:ext cx="1549800" cy="965520"/>
            </a:xfrm>
            <a:custGeom>
              <a:avLst/>
              <a:gdLst/>
              <a:ahLst/>
              <a:rect l="0" t="0" r="r" b="b"/>
              <a:pathLst>
                <a:path w="4305" h="2682">
                  <a:moveTo>
                    <a:pt x="0" y="2176"/>
                  </a:moveTo>
                  <a:lnTo>
                    <a:pt x="1832" y="1024"/>
                  </a:lnTo>
                  <a:lnTo>
                    <a:pt x="3083" y="268"/>
                  </a:lnTo>
                  <a:lnTo>
                    <a:pt x="3627" y="0"/>
                  </a:lnTo>
                  <a:lnTo>
                    <a:pt x="3618" y="60"/>
                  </a:lnTo>
                  <a:lnTo>
                    <a:pt x="3627" y="134"/>
                  </a:lnTo>
                  <a:lnTo>
                    <a:pt x="3686" y="298"/>
                  </a:lnTo>
                  <a:lnTo>
                    <a:pt x="3924" y="674"/>
                  </a:lnTo>
                  <a:lnTo>
                    <a:pt x="4305" y="1128"/>
                  </a:lnTo>
                  <a:lnTo>
                    <a:pt x="4301" y="1206"/>
                  </a:lnTo>
                  <a:lnTo>
                    <a:pt x="4204" y="1305"/>
                  </a:lnTo>
                  <a:lnTo>
                    <a:pt x="3767" y="1536"/>
                  </a:lnTo>
                  <a:lnTo>
                    <a:pt x="2324" y="2059"/>
                  </a:lnTo>
                  <a:lnTo>
                    <a:pt x="805" y="2496"/>
                  </a:lnTo>
                  <a:lnTo>
                    <a:pt x="50" y="2682"/>
                  </a:lnTo>
                  <a:lnTo>
                    <a:pt x="8" y="2431"/>
                  </a:lnTo>
                  <a:lnTo>
                    <a:pt x="0" y="2176"/>
                  </a:lnTo>
                  <a:close/>
                </a:path>
              </a:pathLst>
            </a:custGeom>
            <a:solidFill>
              <a:srgbClr val="a0a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846440" y="541440"/>
              <a:ext cx="100440" cy="135360"/>
            </a:xfrm>
            <a:custGeom>
              <a:avLst/>
              <a:gdLst/>
              <a:ahLst/>
              <a:rect l="0" t="0" r="r" b="b"/>
              <a:pathLst>
                <a:path w="279" h="376">
                  <a:moveTo>
                    <a:pt x="279" y="208"/>
                  </a:moveTo>
                  <a:lnTo>
                    <a:pt x="0" y="376"/>
                  </a:lnTo>
                  <a:lnTo>
                    <a:pt x="132" y="0"/>
                  </a:lnTo>
                  <a:lnTo>
                    <a:pt x="279" y="208"/>
                  </a:lnTo>
                  <a:close/>
                </a:path>
              </a:pathLst>
            </a:custGeom>
            <a:solidFill>
              <a:srgbClr val="a0a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7960" y="127080"/>
              <a:ext cx="489240" cy="557640"/>
            </a:xfrm>
            <a:custGeom>
              <a:avLst/>
              <a:gdLst/>
              <a:ahLst/>
              <a:rect l="0" t="0" r="r" b="b"/>
              <a:pathLst>
                <a:path w="1359" h="1549">
                  <a:moveTo>
                    <a:pt x="79" y="512"/>
                  </a:moveTo>
                  <a:lnTo>
                    <a:pt x="0" y="1364"/>
                  </a:lnTo>
                  <a:lnTo>
                    <a:pt x="361" y="1140"/>
                  </a:lnTo>
                  <a:lnTo>
                    <a:pt x="1073" y="1549"/>
                  </a:lnTo>
                  <a:lnTo>
                    <a:pt x="715" y="856"/>
                  </a:lnTo>
                  <a:lnTo>
                    <a:pt x="1359" y="688"/>
                  </a:lnTo>
                  <a:lnTo>
                    <a:pt x="580" y="568"/>
                  </a:lnTo>
                  <a:lnTo>
                    <a:pt x="285" y="0"/>
                  </a:lnTo>
                  <a:lnTo>
                    <a:pt x="79" y="512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4289400" y="1363680"/>
              <a:ext cx="5220000" cy="933840"/>
            </a:xfrm>
            <a:custGeom>
              <a:avLst/>
              <a:gdLst/>
              <a:ahLst/>
              <a:rect l="0" t="0" r="r" b="b"/>
              <a:pathLst>
                <a:path w="14500" h="2594">
                  <a:moveTo>
                    <a:pt x="0" y="2141"/>
                  </a:moveTo>
                  <a:lnTo>
                    <a:pt x="502" y="1946"/>
                  </a:lnTo>
                  <a:lnTo>
                    <a:pt x="1235" y="1582"/>
                  </a:lnTo>
                  <a:lnTo>
                    <a:pt x="2155" y="1241"/>
                  </a:lnTo>
                  <a:lnTo>
                    <a:pt x="2679" y="1133"/>
                  </a:lnTo>
                  <a:lnTo>
                    <a:pt x="2956" y="1107"/>
                  </a:lnTo>
                  <a:lnTo>
                    <a:pt x="3096" y="1102"/>
                  </a:lnTo>
                  <a:lnTo>
                    <a:pt x="3245" y="1098"/>
                  </a:lnTo>
                  <a:lnTo>
                    <a:pt x="4493" y="1211"/>
                  </a:lnTo>
                  <a:lnTo>
                    <a:pt x="5413" y="1422"/>
                  </a:lnTo>
                  <a:lnTo>
                    <a:pt x="6261" y="1643"/>
                  </a:lnTo>
                  <a:lnTo>
                    <a:pt x="7297" y="1772"/>
                  </a:lnTo>
                  <a:lnTo>
                    <a:pt x="7851" y="1859"/>
                  </a:lnTo>
                  <a:lnTo>
                    <a:pt x="8145" y="2020"/>
                  </a:lnTo>
                  <a:lnTo>
                    <a:pt x="8358" y="2197"/>
                  </a:lnTo>
                  <a:lnTo>
                    <a:pt x="8694" y="2344"/>
                  </a:lnTo>
                  <a:lnTo>
                    <a:pt x="8779" y="2348"/>
                  </a:lnTo>
                  <a:lnTo>
                    <a:pt x="8937" y="2348"/>
                  </a:lnTo>
                  <a:lnTo>
                    <a:pt x="9418" y="2309"/>
                  </a:lnTo>
                  <a:lnTo>
                    <a:pt x="10781" y="2167"/>
                  </a:lnTo>
                  <a:lnTo>
                    <a:pt x="12161" y="2033"/>
                  </a:lnTo>
                  <a:lnTo>
                    <a:pt x="12668" y="2002"/>
                  </a:lnTo>
                  <a:lnTo>
                    <a:pt x="12843" y="1998"/>
                  </a:lnTo>
                  <a:lnTo>
                    <a:pt x="12953" y="2015"/>
                  </a:lnTo>
                  <a:lnTo>
                    <a:pt x="13328" y="2084"/>
                  </a:lnTo>
                  <a:lnTo>
                    <a:pt x="13490" y="2093"/>
                  </a:lnTo>
                  <a:lnTo>
                    <a:pt x="13644" y="2089"/>
                  </a:lnTo>
                  <a:lnTo>
                    <a:pt x="13895" y="2037"/>
                  </a:lnTo>
                  <a:lnTo>
                    <a:pt x="14099" y="1928"/>
                  </a:lnTo>
                  <a:lnTo>
                    <a:pt x="14253" y="1785"/>
                  </a:lnTo>
                  <a:lnTo>
                    <a:pt x="14363" y="1604"/>
                  </a:lnTo>
                  <a:lnTo>
                    <a:pt x="14483" y="1180"/>
                  </a:lnTo>
                  <a:lnTo>
                    <a:pt x="14500" y="960"/>
                  </a:lnTo>
                  <a:lnTo>
                    <a:pt x="14500" y="852"/>
                  </a:lnTo>
                  <a:lnTo>
                    <a:pt x="14495" y="744"/>
                  </a:lnTo>
                  <a:lnTo>
                    <a:pt x="14449" y="350"/>
                  </a:lnTo>
                  <a:lnTo>
                    <a:pt x="14355" y="0"/>
                  </a:lnTo>
                  <a:lnTo>
                    <a:pt x="14312" y="1526"/>
                  </a:lnTo>
                  <a:lnTo>
                    <a:pt x="14355" y="2594"/>
                  </a:lnTo>
                  <a:lnTo>
                    <a:pt x="12148" y="2551"/>
                  </a:lnTo>
                  <a:lnTo>
                    <a:pt x="7155" y="2430"/>
                  </a:lnTo>
                  <a:lnTo>
                    <a:pt x="2176" y="2283"/>
                  </a:lnTo>
                  <a:lnTo>
                    <a:pt x="562" y="2210"/>
                  </a:lnTo>
                  <a:lnTo>
                    <a:pt x="0" y="2141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3271680" y="-777960"/>
              <a:ext cx="6023160" cy="1198800"/>
            </a:xfrm>
            <a:custGeom>
              <a:avLst/>
              <a:gdLst/>
              <a:ahLst/>
              <a:rect l="0" t="0" r="r" b="b"/>
              <a:pathLst>
                <a:path w="16731" h="3330">
                  <a:moveTo>
                    <a:pt x="2108" y="1810"/>
                  </a:moveTo>
                  <a:lnTo>
                    <a:pt x="2181" y="1810"/>
                  </a:lnTo>
                  <a:lnTo>
                    <a:pt x="2330" y="1810"/>
                  </a:lnTo>
                  <a:lnTo>
                    <a:pt x="2816" y="1780"/>
                  </a:lnTo>
                  <a:lnTo>
                    <a:pt x="4422" y="1653"/>
                  </a:lnTo>
                  <a:lnTo>
                    <a:pt x="9122" y="1233"/>
                  </a:lnTo>
                  <a:lnTo>
                    <a:pt x="13817" y="753"/>
                  </a:lnTo>
                  <a:lnTo>
                    <a:pt x="15415" y="554"/>
                  </a:lnTo>
                  <a:lnTo>
                    <a:pt x="16122" y="411"/>
                  </a:lnTo>
                  <a:lnTo>
                    <a:pt x="16463" y="129"/>
                  </a:lnTo>
                  <a:lnTo>
                    <a:pt x="16616" y="4"/>
                  </a:lnTo>
                  <a:lnTo>
                    <a:pt x="16684" y="0"/>
                  </a:lnTo>
                  <a:lnTo>
                    <a:pt x="16603" y="982"/>
                  </a:lnTo>
                  <a:lnTo>
                    <a:pt x="16603" y="1186"/>
                  </a:lnTo>
                  <a:lnTo>
                    <a:pt x="16620" y="1350"/>
                  </a:lnTo>
                  <a:lnTo>
                    <a:pt x="16659" y="1459"/>
                  </a:lnTo>
                  <a:lnTo>
                    <a:pt x="16731" y="1497"/>
                  </a:lnTo>
                  <a:lnTo>
                    <a:pt x="16441" y="1741"/>
                  </a:lnTo>
                  <a:lnTo>
                    <a:pt x="15576" y="2286"/>
                  </a:lnTo>
                  <a:lnTo>
                    <a:pt x="14575" y="2849"/>
                  </a:lnTo>
                  <a:lnTo>
                    <a:pt x="13847" y="3157"/>
                  </a:lnTo>
                  <a:lnTo>
                    <a:pt x="12590" y="3300"/>
                  </a:lnTo>
                  <a:lnTo>
                    <a:pt x="11904" y="3330"/>
                  </a:lnTo>
                  <a:lnTo>
                    <a:pt x="11746" y="3330"/>
                  </a:lnTo>
                  <a:lnTo>
                    <a:pt x="11674" y="3330"/>
                  </a:lnTo>
                  <a:lnTo>
                    <a:pt x="11601" y="3330"/>
                  </a:lnTo>
                  <a:lnTo>
                    <a:pt x="11342" y="3308"/>
                  </a:lnTo>
                  <a:lnTo>
                    <a:pt x="10579" y="3148"/>
                  </a:lnTo>
                  <a:lnTo>
                    <a:pt x="9467" y="2771"/>
                  </a:lnTo>
                  <a:lnTo>
                    <a:pt x="8913" y="2507"/>
                  </a:lnTo>
                  <a:lnTo>
                    <a:pt x="8419" y="2187"/>
                  </a:lnTo>
                  <a:lnTo>
                    <a:pt x="8043" y="1819"/>
                  </a:lnTo>
                  <a:lnTo>
                    <a:pt x="7822" y="1394"/>
                  </a:lnTo>
                  <a:lnTo>
                    <a:pt x="7749" y="1298"/>
                  </a:lnTo>
                  <a:lnTo>
                    <a:pt x="7685" y="1281"/>
                  </a:lnTo>
                  <a:lnTo>
                    <a:pt x="7600" y="1281"/>
                  </a:lnTo>
                  <a:lnTo>
                    <a:pt x="7178" y="1437"/>
                  </a:lnTo>
                  <a:lnTo>
                    <a:pt x="6697" y="1685"/>
                  </a:lnTo>
                  <a:lnTo>
                    <a:pt x="6284" y="1862"/>
                  </a:lnTo>
                  <a:lnTo>
                    <a:pt x="5823" y="2057"/>
                  </a:lnTo>
                  <a:lnTo>
                    <a:pt x="5308" y="2399"/>
                  </a:lnTo>
                  <a:lnTo>
                    <a:pt x="4720" y="2784"/>
                  </a:lnTo>
                  <a:lnTo>
                    <a:pt x="4017" y="3135"/>
                  </a:lnTo>
                  <a:lnTo>
                    <a:pt x="3625" y="3209"/>
                  </a:lnTo>
                  <a:lnTo>
                    <a:pt x="3399" y="3213"/>
                  </a:lnTo>
                  <a:lnTo>
                    <a:pt x="3156" y="3200"/>
                  </a:lnTo>
                  <a:lnTo>
                    <a:pt x="2262" y="3096"/>
                  </a:lnTo>
                  <a:lnTo>
                    <a:pt x="298" y="2650"/>
                  </a:lnTo>
                  <a:lnTo>
                    <a:pt x="80" y="2079"/>
                  </a:lnTo>
                  <a:lnTo>
                    <a:pt x="4" y="1888"/>
                  </a:lnTo>
                  <a:lnTo>
                    <a:pt x="0" y="1815"/>
                  </a:lnTo>
                  <a:lnTo>
                    <a:pt x="25" y="1754"/>
                  </a:lnTo>
                  <a:lnTo>
                    <a:pt x="191" y="1685"/>
                  </a:lnTo>
                  <a:lnTo>
                    <a:pt x="345" y="1672"/>
                  </a:lnTo>
                  <a:lnTo>
                    <a:pt x="447" y="1667"/>
                  </a:lnTo>
                  <a:lnTo>
                    <a:pt x="562" y="1667"/>
                  </a:lnTo>
                  <a:lnTo>
                    <a:pt x="2108" y="181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8056440" y="414360"/>
              <a:ext cx="1887840" cy="1695960"/>
            </a:xfrm>
            <a:custGeom>
              <a:avLst/>
              <a:gdLst/>
              <a:ahLst/>
              <a:rect l="0" t="0" r="r" b="b"/>
              <a:pathLst>
                <a:path w="5244" h="4711">
                  <a:moveTo>
                    <a:pt x="0" y="1220"/>
                  </a:moveTo>
                  <a:lnTo>
                    <a:pt x="2551" y="0"/>
                  </a:lnTo>
                  <a:lnTo>
                    <a:pt x="5244" y="4307"/>
                  </a:lnTo>
                  <a:lnTo>
                    <a:pt x="4874" y="4459"/>
                  </a:lnTo>
                  <a:lnTo>
                    <a:pt x="4097" y="4685"/>
                  </a:lnTo>
                  <a:lnTo>
                    <a:pt x="3906" y="4707"/>
                  </a:lnTo>
                  <a:lnTo>
                    <a:pt x="3813" y="4711"/>
                  </a:lnTo>
                  <a:lnTo>
                    <a:pt x="3724" y="4711"/>
                  </a:lnTo>
                  <a:lnTo>
                    <a:pt x="3439" y="4611"/>
                  </a:lnTo>
                  <a:lnTo>
                    <a:pt x="3350" y="4507"/>
                  </a:lnTo>
                  <a:lnTo>
                    <a:pt x="3308" y="4346"/>
                  </a:lnTo>
                  <a:lnTo>
                    <a:pt x="3308" y="4251"/>
                  </a:lnTo>
                  <a:lnTo>
                    <a:pt x="3320" y="4142"/>
                  </a:lnTo>
                  <a:lnTo>
                    <a:pt x="3401" y="3873"/>
                  </a:lnTo>
                  <a:lnTo>
                    <a:pt x="3461" y="3635"/>
                  </a:lnTo>
                  <a:lnTo>
                    <a:pt x="3469" y="3543"/>
                  </a:lnTo>
                  <a:lnTo>
                    <a:pt x="3456" y="3460"/>
                  </a:lnTo>
                  <a:lnTo>
                    <a:pt x="3384" y="3338"/>
                  </a:lnTo>
                  <a:lnTo>
                    <a:pt x="3257" y="3265"/>
                  </a:lnTo>
                  <a:lnTo>
                    <a:pt x="3087" y="3239"/>
                  </a:lnTo>
                  <a:lnTo>
                    <a:pt x="2989" y="3234"/>
                  </a:lnTo>
                  <a:lnTo>
                    <a:pt x="2879" y="3243"/>
                  </a:lnTo>
                  <a:lnTo>
                    <a:pt x="2398" y="3338"/>
                  </a:lnTo>
                  <a:lnTo>
                    <a:pt x="1430" y="3665"/>
                  </a:lnTo>
                  <a:lnTo>
                    <a:pt x="955" y="3821"/>
                  </a:lnTo>
                  <a:lnTo>
                    <a:pt x="0" y="1220"/>
                  </a:lnTo>
                  <a:close/>
                </a:path>
              </a:pathLst>
            </a:custGeom>
            <a:solidFill>
              <a:srgbClr val="a0a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996840" y="1868400"/>
              <a:ext cx="8223120" cy="4992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80808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021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800280" y="647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952560" y="200196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olbe</dc:creator>
  <dc:description/>
  <dc:language>en-US</dc:language>
  <cp:lastModifiedBy>Mike Kolbe</cp:lastModifiedBy>
  <cp:revision>0</cp:revision>
  <dc:subject/>
  <dc:title/>
</cp:coreProperties>
</file>