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765000" y="6203880"/>
            <a:ext cx="11052000" cy="1514520"/>
          </a:xfrm>
          <a:prstGeom prst="rect">
            <a:avLst/>
          </a:prstGeom>
          <a:gradFill rotWithShape="0">
            <a:gsLst>
              <a:gs pos="0">
                <a:srgbClr val="008050"/>
              </a:gs>
              <a:gs pos="50000">
                <a:srgbClr val="e5f2ed"/>
              </a:gs>
              <a:gs pos="100000">
                <a:srgbClr val="008050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43080" y="385920"/>
            <a:ext cx="8458200" cy="579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159520" y="5157720"/>
            <a:ext cx="3899160" cy="2045160"/>
            <a:chOff x="5159520" y="5157720"/>
            <a:chExt cx="3899160" cy="2045160"/>
          </a:xfrm>
        </p:grpSpPr>
        <p:sp>
          <p:nvSpPr>
            <p:cNvPr id="3" name=""/>
            <p:cNvSpPr/>
            <p:nvPr/>
          </p:nvSpPr>
          <p:spPr>
            <a:xfrm>
              <a:off x="5327640" y="6087960"/>
              <a:ext cx="3673800" cy="1059120"/>
            </a:xfrm>
            <a:custGeom>
              <a:avLst/>
              <a:gdLst/>
              <a:ahLst/>
              <a:rect l="0" t="0" r="r" b="b"/>
              <a:pathLst>
                <a:path w="10205" h="2942">
                  <a:moveTo>
                    <a:pt x="8502" y="716"/>
                  </a:moveTo>
                  <a:lnTo>
                    <a:pt x="8384" y="721"/>
                  </a:lnTo>
                  <a:lnTo>
                    <a:pt x="8652" y="708"/>
                  </a:lnTo>
                  <a:lnTo>
                    <a:pt x="8964" y="638"/>
                  </a:lnTo>
                  <a:lnTo>
                    <a:pt x="9483" y="563"/>
                  </a:lnTo>
                  <a:lnTo>
                    <a:pt x="9923" y="423"/>
                  </a:lnTo>
                  <a:lnTo>
                    <a:pt x="9496" y="349"/>
                  </a:lnTo>
                  <a:lnTo>
                    <a:pt x="9145" y="323"/>
                  </a:lnTo>
                  <a:lnTo>
                    <a:pt x="9017" y="319"/>
                  </a:lnTo>
                  <a:lnTo>
                    <a:pt x="8947" y="327"/>
                  </a:lnTo>
                  <a:lnTo>
                    <a:pt x="8560" y="524"/>
                  </a:lnTo>
                  <a:lnTo>
                    <a:pt x="8278" y="620"/>
                  </a:lnTo>
                  <a:lnTo>
                    <a:pt x="8146" y="616"/>
                  </a:lnTo>
                  <a:lnTo>
                    <a:pt x="8032" y="572"/>
                  </a:lnTo>
                  <a:lnTo>
                    <a:pt x="7983" y="410"/>
                  </a:lnTo>
                  <a:lnTo>
                    <a:pt x="7983" y="314"/>
                  </a:lnTo>
                  <a:lnTo>
                    <a:pt x="8014" y="244"/>
                  </a:lnTo>
                  <a:lnTo>
                    <a:pt x="8322" y="0"/>
                  </a:lnTo>
                  <a:lnTo>
                    <a:pt x="6945" y="284"/>
                  </a:lnTo>
                  <a:lnTo>
                    <a:pt x="5969" y="463"/>
                  </a:lnTo>
                  <a:lnTo>
                    <a:pt x="5578" y="520"/>
                  </a:lnTo>
                  <a:lnTo>
                    <a:pt x="5428" y="533"/>
                  </a:lnTo>
                  <a:lnTo>
                    <a:pt x="5309" y="528"/>
                  </a:lnTo>
                  <a:lnTo>
                    <a:pt x="5142" y="524"/>
                  </a:lnTo>
                  <a:lnTo>
                    <a:pt x="5066" y="524"/>
                  </a:lnTo>
                  <a:lnTo>
                    <a:pt x="4987" y="524"/>
                  </a:lnTo>
                  <a:lnTo>
                    <a:pt x="4723" y="559"/>
                  </a:lnTo>
                  <a:lnTo>
                    <a:pt x="4336" y="716"/>
                  </a:lnTo>
                  <a:lnTo>
                    <a:pt x="3795" y="1127"/>
                  </a:lnTo>
                  <a:lnTo>
                    <a:pt x="3377" y="1210"/>
                  </a:lnTo>
                  <a:lnTo>
                    <a:pt x="2660" y="1402"/>
                  </a:lnTo>
                  <a:lnTo>
                    <a:pt x="2287" y="1478"/>
                  </a:lnTo>
                  <a:lnTo>
                    <a:pt x="2221" y="1473"/>
                  </a:lnTo>
                  <a:lnTo>
                    <a:pt x="2295" y="1416"/>
                  </a:lnTo>
                  <a:lnTo>
                    <a:pt x="2010" y="1622"/>
                  </a:lnTo>
                  <a:lnTo>
                    <a:pt x="1275" y="2129"/>
                  </a:lnTo>
                  <a:lnTo>
                    <a:pt x="136" y="2885"/>
                  </a:lnTo>
                  <a:lnTo>
                    <a:pt x="0" y="2942"/>
                  </a:lnTo>
                  <a:lnTo>
                    <a:pt x="131" y="2824"/>
                  </a:lnTo>
                  <a:lnTo>
                    <a:pt x="892" y="2273"/>
                  </a:lnTo>
                  <a:lnTo>
                    <a:pt x="2234" y="1337"/>
                  </a:lnTo>
                  <a:lnTo>
                    <a:pt x="3813" y="983"/>
                  </a:lnTo>
                  <a:lnTo>
                    <a:pt x="4103" y="681"/>
                  </a:lnTo>
                  <a:lnTo>
                    <a:pt x="4437" y="406"/>
                  </a:lnTo>
                  <a:lnTo>
                    <a:pt x="4750" y="450"/>
                  </a:lnTo>
                  <a:lnTo>
                    <a:pt x="4978" y="458"/>
                  </a:lnTo>
                  <a:lnTo>
                    <a:pt x="5107" y="458"/>
                  </a:lnTo>
                  <a:lnTo>
                    <a:pt x="5248" y="463"/>
                  </a:lnTo>
                  <a:lnTo>
                    <a:pt x="6519" y="393"/>
                  </a:lnTo>
                  <a:lnTo>
                    <a:pt x="8173" y="257"/>
                  </a:lnTo>
                  <a:lnTo>
                    <a:pt x="8054" y="402"/>
                  </a:lnTo>
                  <a:lnTo>
                    <a:pt x="8019" y="502"/>
                  </a:lnTo>
                  <a:lnTo>
                    <a:pt x="8085" y="572"/>
                  </a:lnTo>
                  <a:lnTo>
                    <a:pt x="8177" y="603"/>
                  </a:lnTo>
                  <a:lnTo>
                    <a:pt x="8274" y="598"/>
                  </a:lnTo>
                  <a:lnTo>
                    <a:pt x="8450" y="520"/>
                  </a:lnTo>
                  <a:lnTo>
                    <a:pt x="8665" y="345"/>
                  </a:lnTo>
                  <a:lnTo>
                    <a:pt x="8938" y="332"/>
                  </a:lnTo>
                  <a:lnTo>
                    <a:pt x="9193" y="332"/>
                  </a:lnTo>
                  <a:lnTo>
                    <a:pt x="9329" y="332"/>
                  </a:lnTo>
                  <a:lnTo>
                    <a:pt x="9404" y="332"/>
                  </a:lnTo>
                  <a:lnTo>
                    <a:pt x="9479" y="332"/>
                  </a:lnTo>
                  <a:lnTo>
                    <a:pt x="10205" y="375"/>
                  </a:lnTo>
                  <a:lnTo>
                    <a:pt x="10011" y="506"/>
                  </a:lnTo>
                  <a:lnTo>
                    <a:pt x="9765" y="603"/>
                  </a:lnTo>
                  <a:lnTo>
                    <a:pt x="9013" y="708"/>
                  </a:lnTo>
                  <a:lnTo>
                    <a:pt x="8986" y="712"/>
                  </a:lnTo>
                  <a:lnTo>
                    <a:pt x="8665" y="782"/>
                  </a:lnTo>
                  <a:lnTo>
                    <a:pt x="8384" y="839"/>
                  </a:lnTo>
                  <a:lnTo>
                    <a:pt x="8291" y="843"/>
                  </a:lnTo>
                  <a:lnTo>
                    <a:pt x="8225" y="830"/>
                  </a:lnTo>
                  <a:lnTo>
                    <a:pt x="8142" y="760"/>
                  </a:lnTo>
                  <a:lnTo>
                    <a:pt x="8502" y="71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159520" y="5797440"/>
              <a:ext cx="3899160" cy="1405440"/>
            </a:xfrm>
            <a:custGeom>
              <a:avLst/>
              <a:gdLst/>
              <a:ahLst/>
              <a:rect l="0" t="0" r="r" b="b"/>
              <a:pathLst>
                <a:path w="10831" h="3904">
                  <a:moveTo>
                    <a:pt x="8970" y="1459"/>
                  </a:moveTo>
                  <a:lnTo>
                    <a:pt x="8851" y="1468"/>
                  </a:lnTo>
                  <a:lnTo>
                    <a:pt x="9120" y="1450"/>
                  </a:lnTo>
                  <a:lnTo>
                    <a:pt x="9432" y="1385"/>
                  </a:lnTo>
                  <a:lnTo>
                    <a:pt x="9951" y="1306"/>
                  </a:lnTo>
                  <a:lnTo>
                    <a:pt x="10391" y="1170"/>
                  </a:lnTo>
                  <a:lnTo>
                    <a:pt x="10562" y="1047"/>
                  </a:lnTo>
                  <a:lnTo>
                    <a:pt x="10690" y="889"/>
                  </a:lnTo>
                  <a:lnTo>
                    <a:pt x="10699" y="823"/>
                  </a:lnTo>
                  <a:lnTo>
                    <a:pt x="10690" y="718"/>
                  </a:lnTo>
                  <a:lnTo>
                    <a:pt x="10664" y="565"/>
                  </a:lnTo>
                  <a:lnTo>
                    <a:pt x="10483" y="525"/>
                  </a:lnTo>
                  <a:lnTo>
                    <a:pt x="10373" y="529"/>
                  </a:lnTo>
                  <a:lnTo>
                    <a:pt x="10281" y="543"/>
                  </a:lnTo>
                  <a:lnTo>
                    <a:pt x="9911" y="792"/>
                  </a:lnTo>
                  <a:lnTo>
                    <a:pt x="9700" y="937"/>
                  </a:lnTo>
                  <a:lnTo>
                    <a:pt x="9414" y="1069"/>
                  </a:lnTo>
                  <a:lnTo>
                    <a:pt x="9027" y="1266"/>
                  </a:lnTo>
                  <a:lnTo>
                    <a:pt x="8746" y="1367"/>
                  </a:lnTo>
                  <a:lnTo>
                    <a:pt x="8614" y="1358"/>
                  </a:lnTo>
                  <a:lnTo>
                    <a:pt x="8499" y="1315"/>
                  </a:lnTo>
                  <a:lnTo>
                    <a:pt x="8451" y="1152"/>
                  </a:lnTo>
                  <a:lnTo>
                    <a:pt x="8451" y="1060"/>
                  </a:lnTo>
                  <a:lnTo>
                    <a:pt x="8482" y="990"/>
                  </a:lnTo>
                  <a:lnTo>
                    <a:pt x="8781" y="884"/>
                  </a:lnTo>
                  <a:lnTo>
                    <a:pt x="9133" y="840"/>
                  </a:lnTo>
                  <a:lnTo>
                    <a:pt x="9577" y="657"/>
                  </a:lnTo>
                  <a:lnTo>
                    <a:pt x="9815" y="503"/>
                  </a:lnTo>
                  <a:lnTo>
                    <a:pt x="10008" y="319"/>
                  </a:lnTo>
                  <a:lnTo>
                    <a:pt x="10030" y="197"/>
                  </a:lnTo>
                  <a:lnTo>
                    <a:pt x="10017" y="109"/>
                  </a:lnTo>
                  <a:lnTo>
                    <a:pt x="9854" y="70"/>
                  </a:lnTo>
                  <a:lnTo>
                    <a:pt x="9612" y="113"/>
                  </a:lnTo>
                  <a:lnTo>
                    <a:pt x="9291" y="394"/>
                  </a:lnTo>
                  <a:lnTo>
                    <a:pt x="8939" y="626"/>
                  </a:lnTo>
                  <a:lnTo>
                    <a:pt x="8790" y="744"/>
                  </a:lnTo>
                  <a:lnTo>
                    <a:pt x="8477" y="692"/>
                  </a:lnTo>
                  <a:lnTo>
                    <a:pt x="7795" y="600"/>
                  </a:lnTo>
                  <a:lnTo>
                    <a:pt x="7356" y="578"/>
                  </a:lnTo>
                  <a:lnTo>
                    <a:pt x="7109" y="578"/>
                  </a:lnTo>
                  <a:lnTo>
                    <a:pt x="6986" y="578"/>
                  </a:lnTo>
                  <a:lnTo>
                    <a:pt x="6854" y="586"/>
                  </a:lnTo>
                  <a:lnTo>
                    <a:pt x="5741" y="775"/>
                  </a:lnTo>
                  <a:lnTo>
                    <a:pt x="5159" y="1030"/>
                  </a:lnTo>
                  <a:lnTo>
                    <a:pt x="4786" y="1345"/>
                  </a:lnTo>
                  <a:lnTo>
                    <a:pt x="4526" y="1652"/>
                  </a:lnTo>
                  <a:lnTo>
                    <a:pt x="4262" y="1875"/>
                  </a:lnTo>
                  <a:lnTo>
                    <a:pt x="3844" y="1954"/>
                  </a:lnTo>
                  <a:lnTo>
                    <a:pt x="3127" y="2147"/>
                  </a:lnTo>
                  <a:lnTo>
                    <a:pt x="2753" y="2221"/>
                  </a:lnTo>
                  <a:lnTo>
                    <a:pt x="2687" y="2217"/>
                  </a:lnTo>
                  <a:lnTo>
                    <a:pt x="2762" y="2164"/>
                  </a:lnTo>
                  <a:lnTo>
                    <a:pt x="2401" y="2405"/>
                  </a:lnTo>
                  <a:lnTo>
                    <a:pt x="1500" y="2989"/>
                  </a:lnTo>
                  <a:lnTo>
                    <a:pt x="114" y="3860"/>
                  </a:lnTo>
                  <a:lnTo>
                    <a:pt x="0" y="3904"/>
                  </a:lnTo>
                  <a:lnTo>
                    <a:pt x="189" y="3760"/>
                  </a:lnTo>
                  <a:lnTo>
                    <a:pt x="1117" y="3129"/>
                  </a:lnTo>
                  <a:lnTo>
                    <a:pt x="2700" y="2081"/>
                  </a:lnTo>
                  <a:lnTo>
                    <a:pt x="4280" y="1731"/>
                  </a:lnTo>
                  <a:lnTo>
                    <a:pt x="4623" y="1350"/>
                  </a:lnTo>
                  <a:lnTo>
                    <a:pt x="5041" y="1008"/>
                  </a:lnTo>
                  <a:lnTo>
                    <a:pt x="5614" y="670"/>
                  </a:lnTo>
                  <a:lnTo>
                    <a:pt x="6243" y="600"/>
                  </a:lnTo>
                  <a:lnTo>
                    <a:pt x="6749" y="591"/>
                  </a:lnTo>
                  <a:lnTo>
                    <a:pt x="7017" y="591"/>
                  </a:lnTo>
                  <a:lnTo>
                    <a:pt x="7294" y="600"/>
                  </a:lnTo>
                  <a:lnTo>
                    <a:pt x="8741" y="643"/>
                  </a:lnTo>
                  <a:lnTo>
                    <a:pt x="9040" y="438"/>
                  </a:lnTo>
                  <a:lnTo>
                    <a:pt x="9168" y="310"/>
                  </a:lnTo>
                  <a:lnTo>
                    <a:pt x="9379" y="113"/>
                  </a:lnTo>
                  <a:lnTo>
                    <a:pt x="9771" y="0"/>
                  </a:lnTo>
                  <a:lnTo>
                    <a:pt x="9925" y="13"/>
                  </a:lnTo>
                  <a:lnTo>
                    <a:pt x="10074" y="52"/>
                  </a:lnTo>
                  <a:lnTo>
                    <a:pt x="10083" y="43"/>
                  </a:lnTo>
                  <a:lnTo>
                    <a:pt x="10153" y="140"/>
                  </a:lnTo>
                  <a:lnTo>
                    <a:pt x="10114" y="341"/>
                  </a:lnTo>
                  <a:lnTo>
                    <a:pt x="9911" y="543"/>
                  </a:lnTo>
                  <a:lnTo>
                    <a:pt x="9577" y="740"/>
                  </a:lnTo>
                  <a:lnTo>
                    <a:pt x="8640" y="1004"/>
                  </a:lnTo>
                  <a:lnTo>
                    <a:pt x="8521" y="1144"/>
                  </a:lnTo>
                  <a:lnTo>
                    <a:pt x="8486" y="1244"/>
                  </a:lnTo>
                  <a:lnTo>
                    <a:pt x="8552" y="1315"/>
                  </a:lnTo>
                  <a:lnTo>
                    <a:pt x="8644" y="1345"/>
                  </a:lnTo>
                  <a:lnTo>
                    <a:pt x="8741" y="1341"/>
                  </a:lnTo>
                  <a:lnTo>
                    <a:pt x="8917" y="1262"/>
                  </a:lnTo>
                  <a:lnTo>
                    <a:pt x="9133" y="1087"/>
                  </a:lnTo>
                  <a:lnTo>
                    <a:pt x="9414" y="919"/>
                  </a:lnTo>
                  <a:lnTo>
                    <a:pt x="9753" y="757"/>
                  </a:lnTo>
                  <a:lnTo>
                    <a:pt x="9986" y="547"/>
                  </a:lnTo>
                  <a:lnTo>
                    <a:pt x="10338" y="459"/>
                  </a:lnTo>
                  <a:lnTo>
                    <a:pt x="10400" y="459"/>
                  </a:lnTo>
                  <a:lnTo>
                    <a:pt x="10479" y="455"/>
                  </a:lnTo>
                  <a:lnTo>
                    <a:pt x="10624" y="477"/>
                  </a:lnTo>
                  <a:lnTo>
                    <a:pt x="10831" y="674"/>
                  </a:lnTo>
                  <a:lnTo>
                    <a:pt x="10831" y="788"/>
                  </a:lnTo>
                  <a:lnTo>
                    <a:pt x="10800" y="902"/>
                  </a:lnTo>
                  <a:lnTo>
                    <a:pt x="10672" y="1117"/>
                  </a:lnTo>
                  <a:lnTo>
                    <a:pt x="10479" y="1249"/>
                  </a:lnTo>
                  <a:lnTo>
                    <a:pt x="10233" y="1350"/>
                  </a:lnTo>
                  <a:lnTo>
                    <a:pt x="9480" y="1450"/>
                  </a:lnTo>
                  <a:lnTo>
                    <a:pt x="9454" y="1459"/>
                  </a:lnTo>
                  <a:lnTo>
                    <a:pt x="9133" y="1529"/>
                  </a:lnTo>
                  <a:lnTo>
                    <a:pt x="8851" y="1586"/>
                  </a:lnTo>
                  <a:lnTo>
                    <a:pt x="8759" y="1586"/>
                  </a:lnTo>
                  <a:lnTo>
                    <a:pt x="8693" y="1573"/>
                  </a:lnTo>
                  <a:lnTo>
                    <a:pt x="8609" y="1507"/>
                  </a:lnTo>
                  <a:lnTo>
                    <a:pt x="8970" y="1459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516800" y="5157720"/>
              <a:ext cx="808560" cy="1062360"/>
            </a:xfrm>
            <a:custGeom>
              <a:avLst/>
              <a:gdLst/>
              <a:ahLst/>
              <a:rect l="0" t="0" r="r" b="b"/>
              <a:pathLst>
                <a:path w="2246" h="2951">
                  <a:moveTo>
                    <a:pt x="0" y="2872"/>
                  </a:moveTo>
                  <a:lnTo>
                    <a:pt x="2246" y="2951"/>
                  </a:lnTo>
                  <a:lnTo>
                    <a:pt x="2246" y="1009"/>
                  </a:lnTo>
                  <a:lnTo>
                    <a:pt x="2115" y="559"/>
                  </a:lnTo>
                  <a:lnTo>
                    <a:pt x="1849" y="240"/>
                  </a:lnTo>
                  <a:lnTo>
                    <a:pt x="1491" y="52"/>
                  </a:lnTo>
                  <a:lnTo>
                    <a:pt x="1295" y="8"/>
                  </a:lnTo>
                  <a:lnTo>
                    <a:pt x="1190" y="0"/>
                  </a:lnTo>
                  <a:lnTo>
                    <a:pt x="1086" y="0"/>
                  </a:lnTo>
                  <a:lnTo>
                    <a:pt x="693" y="69"/>
                  </a:lnTo>
                  <a:lnTo>
                    <a:pt x="348" y="284"/>
                  </a:lnTo>
                  <a:lnTo>
                    <a:pt x="100" y="616"/>
                  </a:lnTo>
                  <a:lnTo>
                    <a:pt x="0" y="1083"/>
                  </a:lnTo>
                  <a:lnTo>
                    <a:pt x="0" y="2872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373880" y="6173640"/>
              <a:ext cx="1035360" cy="203400"/>
            </a:xfrm>
            <a:custGeom>
              <a:avLst/>
              <a:gdLst/>
              <a:ahLst/>
              <a:rect l="0" t="0" r="r" b="b"/>
              <a:pathLst>
                <a:path w="2876" h="565">
                  <a:moveTo>
                    <a:pt x="0" y="168"/>
                  </a:moveTo>
                  <a:lnTo>
                    <a:pt x="900" y="75"/>
                  </a:lnTo>
                  <a:lnTo>
                    <a:pt x="1648" y="16"/>
                  </a:lnTo>
                  <a:lnTo>
                    <a:pt x="1989" y="0"/>
                  </a:lnTo>
                  <a:lnTo>
                    <a:pt x="2137" y="0"/>
                  </a:lnTo>
                  <a:lnTo>
                    <a:pt x="2268" y="4"/>
                  </a:lnTo>
                  <a:lnTo>
                    <a:pt x="2605" y="58"/>
                  </a:lnTo>
                  <a:lnTo>
                    <a:pt x="2876" y="206"/>
                  </a:lnTo>
                  <a:lnTo>
                    <a:pt x="2788" y="384"/>
                  </a:lnTo>
                  <a:lnTo>
                    <a:pt x="2500" y="468"/>
                  </a:lnTo>
                  <a:lnTo>
                    <a:pt x="2260" y="498"/>
                  </a:lnTo>
                  <a:lnTo>
                    <a:pt x="1726" y="552"/>
                  </a:lnTo>
                  <a:lnTo>
                    <a:pt x="1495" y="565"/>
                  </a:lnTo>
                  <a:lnTo>
                    <a:pt x="1380" y="565"/>
                  </a:lnTo>
                  <a:lnTo>
                    <a:pt x="1271" y="565"/>
                  </a:lnTo>
                  <a:lnTo>
                    <a:pt x="611" y="481"/>
                  </a:lnTo>
                  <a:lnTo>
                    <a:pt x="240" y="350"/>
                  </a:lnTo>
                  <a:lnTo>
                    <a:pt x="122" y="27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80040" y="5761080"/>
              <a:ext cx="3878640" cy="1413360"/>
            </a:xfrm>
            <a:custGeom>
              <a:avLst/>
              <a:gdLst/>
              <a:ahLst/>
              <a:rect l="0" t="0" r="r" b="b"/>
              <a:pathLst>
                <a:path w="10774" h="3926">
                  <a:moveTo>
                    <a:pt x="8914" y="1459"/>
                  </a:moveTo>
                  <a:lnTo>
                    <a:pt x="8795" y="1463"/>
                  </a:lnTo>
                  <a:lnTo>
                    <a:pt x="9063" y="1450"/>
                  </a:lnTo>
                  <a:lnTo>
                    <a:pt x="9376" y="1380"/>
                  </a:lnTo>
                  <a:lnTo>
                    <a:pt x="9895" y="1306"/>
                  </a:lnTo>
                  <a:lnTo>
                    <a:pt x="10335" y="1166"/>
                  </a:lnTo>
                  <a:lnTo>
                    <a:pt x="10506" y="1043"/>
                  </a:lnTo>
                  <a:lnTo>
                    <a:pt x="10634" y="884"/>
                  </a:lnTo>
                  <a:lnTo>
                    <a:pt x="10642" y="819"/>
                  </a:lnTo>
                  <a:lnTo>
                    <a:pt x="10634" y="713"/>
                  </a:lnTo>
                  <a:lnTo>
                    <a:pt x="10607" y="565"/>
                  </a:lnTo>
                  <a:lnTo>
                    <a:pt x="10427" y="525"/>
                  </a:lnTo>
                  <a:lnTo>
                    <a:pt x="10317" y="525"/>
                  </a:lnTo>
                  <a:lnTo>
                    <a:pt x="10225" y="543"/>
                  </a:lnTo>
                  <a:lnTo>
                    <a:pt x="9855" y="788"/>
                  </a:lnTo>
                  <a:lnTo>
                    <a:pt x="9644" y="937"/>
                  </a:lnTo>
                  <a:lnTo>
                    <a:pt x="9358" y="1069"/>
                  </a:lnTo>
                  <a:lnTo>
                    <a:pt x="8971" y="1266"/>
                  </a:lnTo>
                  <a:lnTo>
                    <a:pt x="8689" y="1363"/>
                  </a:lnTo>
                  <a:lnTo>
                    <a:pt x="8557" y="1354"/>
                  </a:lnTo>
                  <a:lnTo>
                    <a:pt x="8443" y="1315"/>
                  </a:lnTo>
                  <a:lnTo>
                    <a:pt x="8395" y="1152"/>
                  </a:lnTo>
                  <a:lnTo>
                    <a:pt x="8395" y="1056"/>
                  </a:lnTo>
                  <a:lnTo>
                    <a:pt x="8425" y="986"/>
                  </a:lnTo>
                  <a:lnTo>
                    <a:pt x="8725" y="884"/>
                  </a:lnTo>
                  <a:lnTo>
                    <a:pt x="9076" y="836"/>
                  </a:lnTo>
                  <a:lnTo>
                    <a:pt x="9521" y="652"/>
                  </a:lnTo>
                  <a:lnTo>
                    <a:pt x="9758" y="499"/>
                  </a:lnTo>
                  <a:lnTo>
                    <a:pt x="9952" y="315"/>
                  </a:lnTo>
                  <a:lnTo>
                    <a:pt x="9974" y="192"/>
                  </a:lnTo>
                  <a:lnTo>
                    <a:pt x="9961" y="105"/>
                  </a:lnTo>
                  <a:lnTo>
                    <a:pt x="9798" y="65"/>
                  </a:lnTo>
                  <a:lnTo>
                    <a:pt x="9556" y="113"/>
                  </a:lnTo>
                  <a:lnTo>
                    <a:pt x="9235" y="394"/>
                  </a:lnTo>
                  <a:lnTo>
                    <a:pt x="8883" y="621"/>
                  </a:lnTo>
                  <a:lnTo>
                    <a:pt x="8733" y="740"/>
                  </a:lnTo>
                  <a:lnTo>
                    <a:pt x="8421" y="692"/>
                  </a:lnTo>
                  <a:lnTo>
                    <a:pt x="7738" y="608"/>
                  </a:lnTo>
                  <a:lnTo>
                    <a:pt x="7298" y="586"/>
                  </a:lnTo>
                  <a:lnTo>
                    <a:pt x="7052" y="586"/>
                  </a:lnTo>
                  <a:lnTo>
                    <a:pt x="6929" y="591"/>
                  </a:lnTo>
                  <a:lnTo>
                    <a:pt x="6797" y="600"/>
                  </a:lnTo>
                  <a:lnTo>
                    <a:pt x="5684" y="792"/>
                  </a:lnTo>
                  <a:lnTo>
                    <a:pt x="5103" y="1043"/>
                  </a:lnTo>
                  <a:lnTo>
                    <a:pt x="4729" y="1354"/>
                  </a:lnTo>
                  <a:lnTo>
                    <a:pt x="4470" y="1647"/>
                  </a:lnTo>
                  <a:lnTo>
                    <a:pt x="4206" y="1871"/>
                  </a:lnTo>
                  <a:lnTo>
                    <a:pt x="3788" y="1954"/>
                  </a:lnTo>
                  <a:lnTo>
                    <a:pt x="3071" y="2147"/>
                  </a:lnTo>
                  <a:lnTo>
                    <a:pt x="2697" y="2221"/>
                  </a:lnTo>
                  <a:lnTo>
                    <a:pt x="2630" y="2212"/>
                  </a:lnTo>
                  <a:lnTo>
                    <a:pt x="2706" y="2160"/>
                  </a:lnTo>
                  <a:lnTo>
                    <a:pt x="2353" y="2405"/>
                  </a:lnTo>
                  <a:lnTo>
                    <a:pt x="1473" y="2998"/>
                  </a:lnTo>
                  <a:lnTo>
                    <a:pt x="114" y="3887"/>
                  </a:lnTo>
                  <a:lnTo>
                    <a:pt x="0" y="3926"/>
                  </a:lnTo>
                  <a:lnTo>
                    <a:pt x="175" y="3782"/>
                  </a:lnTo>
                  <a:lnTo>
                    <a:pt x="1086" y="3142"/>
                  </a:lnTo>
                  <a:lnTo>
                    <a:pt x="2643" y="2077"/>
                  </a:lnTo>
                  <a:lnTo>
                    <a:pt x="4223" y="1726"/>
                  </a:lnTo>
                  <a:lnTo>
                    <a:pt x="4567" y="1345"/>
                  </a:lnTo>
                  <a:lnTo>
                    <a:pt x="4984" y="1004"/>
                  </a:lnTo>
                  <a:lnTo>
                    <a:pt x="5556" y="665"/>
                  </a:lnTo>
                  <a:lnTo>
                    <a:pt x="6185" y="600"/>
                  </a:lnTo>
                  <a:lnTo>
                    <a:pt x="6691" y="591"/>
                  </a:lnTo>
                  <a:lnTo>
                    <a:pt x="6960" y="591"/>
                  </a:lnTo>
                  <a:lnTo>
                    <a:pt x="7237" y="600"/>
                  </a:lnTo>
                  <a:lnTo>
                    <a:pt x="8685" y="639"/>
                  </a:lnTo>
                  <a:lnTo>
                    <a:pt x="8984" y="433"/>
                  </a:lnTo>
                  <a:lnTo>
                    <a:pt x="9112" y="310"/>
                  </a:lnTo>
                  <a:lnTo>
                    <a:pt x="9323" y="113"/>
                  </a:lnTo>
                  <a:lnTo>
                    <a:pt x="9714" y="0"/>
                  </a:lnTo>
                  <a:lnTo>
                    <a:pt x="9868" y="8"/>
                  </a:lnTo>
                  <a:lnTo>
                    <a:pt x="10018" y="48"/>
                  </a:lnTo>
                  <a:lnTo>
                    <a:pt x="10027" y="39"/>
                  </a:lnTo>
                  <a:lnTo>
                    <a:pt x="10097" y="135"/>
                  </a:lnTo>
                  <a:lnTo>
                    <a:pt x="10057" y="337"/>
                  </a:lnTo>
                  <a:lnTo>
                    <a:pt x="9855" y="543"/>
                  </a:lnTo>
                  <a:lnTo>
                    <a:pt x="9521" y="740"/>
                  </a:lnTo>
                  <a:lnTo>
                    <a:pt x="8584" y="999"/>
                  </a:lnTo>
                  <a:lnTo>
                    <a:pt x="8465" y="1139"/>
                  </a:lnTo>
                  <a:lnTo>
                    <a:pt x="8430" y="1244"/>
                  </a:lnTo>
                  <a:lnTo>
                    <a:pt x="8496" y="1315"/>
                  </a:lnTo>
                  <a:lnTo>
                    <a:pt x="8588" y="1345"/>
                  </a:lnTo>
                  <a:lnTo>
                    <a:pt x="8685" y="1336"/>
                  </a:lnTo>
                  <a:lnTo>
                    <a:pt x="8861" y="1258"/>
                  </a:lnTo>
                  <a:lnTo>
                    <a:pt x="9076" y="1082"/>
                  </a:lnTo>
                  <a:lnTo>
                    <a:pt x="9358" y="919"/>
                  </a:lnTo>
                  <a:lnTo>
                    <a:pt x="9697" y="753"/>
                  </a:lnTo>
                  <a:lnTo>
                    <a:pt x="9930" y="547"/>
                  </a:lnTo>
                  <a:lnTo>
                    <a:pt x="10282" y="455"/>
                  </a:lnTo>
                  <a:lnTo>
                    <a:pt x="10343" y="455"/>
                  </a:lnTo>
                  <a:lnTo>
                    <a:pt x="10423" y="451"/>
                  </a:lnTo>
                  <a:lnTo>
                    <a:pt x="10568" y="473"/>
                  </a:lnTo>
                  <a:lnTo>
                    <a:pt x="10774" y="670"/>
                  </a:lnTo>
                  <a:lnTo>
                    <a:pt x="10774" y="784"/>
                  </a:lnTo>
                  <a:lnTo>
                    <a:pt x="10744" y="902"/>
                  </a:lnTo>
                  <a:lnTo>
                    <a:pt x="10616" y="1117"/>
                  </a:lnTo>
                  <a:lnTo>
                    <a:pt x="10423" y="1249"/>
                  </a:lnTo>
                  <a:lnTo>
                    <a:pt x="10176" y="1345"/>
                  </a:lnTo>
                  <a:lnTo>
                    <a:pt x="9424" y="1450"/>
                  </a:lnTo>
                  <a:lnTo>
                    <a:pt x="9398" y="1455"/>
                  </a:lnTo>
                  <a:lnTo>
                    <a:pt x="9076" y="1525"/>
                  </a:lnTo>
                  <a:lnTo>
                    <a:pt x="8795" y="1582"/>
                  </a:lnTo>
                  <a:lnTo>
                    <a:pt x="8703" y="1586"/>
                  </a:lnTo>
                  <a:lnTo>
                    <a:pt x="8637" y="1569"/>
                  </a:lnTo>
                  <a:lnTo>
                    <a:pt x="8553" y="1503"/>
                  </a:lnTo>
                  <a:lnTo>
                    <a:pt x="8914" y="14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32680" y="6202440"/>
              <a:ext cx="643320" cy="278280"/>
            </a:xfrm>
            <a:custGeom>
              <a:avLst/>
              <a:gdLst/>
              <a:ahLst/>
              <a:rect l="0" t="0" r="r" b="b"/>
              <a:pathLst>
                <a:path w="1787" h="773">
                  <a:moveTo>
                    <a:pt x="1787" y="0"/>
                  </a:moveTo>
                  <a:lnTo>
                    <a:pt x="1235" y="529"/>
                  </a:lnTo>
                  <a:lnTo>
                    <a:pt x="822" y="615"/>
                  </a:lnTo>
                  <a:lnTo>
                    <a:pt x="0" y="773"/>
                  </a:lnTo>
                  <a:lnTo>
                    <a:pt x="1187" y="658"/>
                  </a:lnTo>
                  <a:lnTo>
                    <a:pt x="1466" y="316"/>
                  </a:lnTo>
                  <a:lnTo>
                    <a:pt x="1787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346960" y="5961240"/>
              <a:ext cx="498960" cy="271800"/>
            </a:xfrm>
            <a:custGeom>
              <a:avLst/>
              <a:gdLst/>
              <a:ahLst/>
              <a:rect l="0" t="0" r="r" b="b"/>
              <a:pathLst>
                <a:path w="1386" h="755">
                  <a:moveTo>
                    <a:pt x="1013" y="123"/>
                  </a:moveTo>
                  <a:lnTo>
                    <a:pt x="498" y="456"/>
                  </a:lnTo>
                  <a:lnTo>
                    <a:pt x="373" y="546"/>
                  </a:lnTo>
                  <a:lnTo>
                    <a:pt x="0" y="755"/>
                  </a:lnTo>
                  <a:lnTo>
                    <a:pt x="515" y="563"/>
                  </a:lnTo>
                  <a:lnTo>
                    <a:pt x="1386" y="0"/>
                  </a:lnTo>
                  <a:lnTo>
                    <a:pt x="1013" y="123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397720" y="5961240"/>
              <a:ext cx="311400" cy="133560"/>
            </a:xfrm>
            <a:custGeom>
              <a:avLst/>
              <a:gdLst/>
              <a:ahLst/>
              <a:rect l="0" t="0" r="r" b="b"/>
              <a:pathLst>
                <a:path w="865" h="371">
                  <a:moveTo>
                    <a:pt x="865" y="0"/>
                  </a:moveTo>
                  <a:lnTo>
                    <a:pt x="320" y="219"/>
                  </a:lnTo>
                  <a:lnTo>
                    <a:pt x="72" y="305"/>
                  </a:lnTo>
                  <a:lnTo>
                    <a:pt x="0" y="371"/>
                  </a:lnTo>
                  <a:lnTo>
                    <a:pt x="372" y="272"/>
                  </a:lnTo>
                  <a:lnTo>
                    <a:pt x="865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386480" y="5165640"/>
              <a:ext cx="837000" cy="925920"/>
            </a:xfrm>
            <a:custGeom>
              <a:avLst/>
              <a:gdLst/>
              <a:ahLst/>
              <a:rect l="0" t="0" r="r" b="b"/>
              <a:pathLst>
                <a:path w="2325" h="2572">
                  <a:moveTo>
                    <a:pt x="2317" y="2572"/>
                  </a:moveTo>
                  <a:lnTo>
                    <a:pt x="4" y="2572"/>
                  </a:lnTo>
                  <a:lnTo>
                    <a:pt x="4" y="1359"/>
                  </a:lnTo>
                  <a:lnTo>
                    <a:pt x="0" y="1222"/>
                  </a:lnTo>
                  <a:lnTo>
                    <a:pt x="13" y="1090"/>
                  </a:lnTo>
                  <a:lnTo>
                    <a:pt x="74" y="834"/>
                  </a:lnTo>
                  <a:lnTo>
                    <a:pt x="321" y="396"/>
                  </a:lnTo>
                  <a:lnTo>
                    <a:pt x="702" y="101"/>
                  </a:lnTo>
                  <a:lnTo>
                    <a:pt x="931" y="22"/>
                  </a:lnTo>
                  <a:lnTo>
                    <a:pt x="1054" y="4"/>
                  </a:lnTo>
                  <a:lnTo>
                    <a:pt x="1182" y="0"/>
                  </a:lnTo>
                  <a:lnTo>
                    <a:pt x="1637" y="127"/>
                  </a:lnTo>
                  <a:lnTo>
                    <a:pt x="2012" y="463"/>
                  </a:lnTo>
                  <a:lnTo>
                    <a:pt x="2259" y="935"/>
                  </a:lnTo>
                  <a:lnTo>
                    <a:pt x="2317" y="1200"/>
                  </a:lnTo>
                  <a:lnTo>
                    <a:pt x="2325" y="1337"/>
                  </a:lnTo>
                  <a:lnTo>
                    <a:pt x="2321" y="1478"/>
                  </a:lnTo>
                  <a:lnTo>
                    <a:pt x="2317" y="257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405560" y="5159520"/>
              <a:ext cx="822600" cy="933840"/>
            </a:xfrm>
            <a:custGeom>
              <a:avLst/>
              <a:gdLst/>
              <a:ahLst/>
              <a:rect l="0" t="0" r="r" b="b"/>
              <a:pathLst>
                <a:path fill="none" w="2285" h="2594">
                  <a:moveTo>
                    <a:pt x="2285" y="2594"/>
                  </a:moveTo>
                  <a:lnTo>
                    <a:pt x="0" y="2594"/>
                  </a:lnTo>
                  <a:lnTo>
                    <a:pt x="0" y="1368"/>
                  </a:lnTo>
                  <a:lnTo>
                    <a:pt x="0" y="1235"/>
                  </a:lnTo>
                  <a:lnTo>
                    <a:pt x="8" y="1099"/>
                  </a:lnTo>
                  <a:lnTo>
                    <a:pt x="70" y="838"/>
                  </a:lnTo>
                  <a:lnTo>
                    <a:pt x="317" y="396"/>
                  </a:lnTo>
                  <a:lnTo>
                    <a:pt x="696" y="101"/>
                  </a:lnTo>
                  <a:lnTo>
                    <a:pt x="921" y="22"/>
                  </a:lnTo>
                  <a:lnTo>
                    <a:pt x="1040" y="4"/>
                  </a:lnTo>
                  <a:lnTo>
                    <a:pt x="1165" y="0"/>
                  </a:lnTo>
                  <a:lnTo>
                    <a:pt x="1606" y="114"/>
                  </a:lnTo>
                  <a:lnTo>
                    <a:pt x="1976" y="423"/>
                  </a:lnTo>
                  <a:lnTo>
                    <a:pt x="2219" y="869"/>
                  </a:lnTo>
                  <a:lnTo>
                    <a:pt x="2276" y="1129"/>
                  </a:lnTo>
                  <a:lnTo>
                    <a:pt x="2285" y="1266"/>
                  </a:lnTo>
                  <a:lnTo>
                    <a:pt x="2285" y="1407"/>
                  </a:lnTo>
                  <a:lnTo>
                    <a:pt x="2285" y="2594"/>
                  </a:lnTo>
                </a:path>
              </a:pathLst>
            </a:custGeom>
            <a:ln w="12600">
              <a:solidFill>
                <a:srgbClr val="0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97760" y="5452920"/>
              <a:ext cx="12600" cy="104760"/>
            </a:xfrm>
            <a:prstGeom prst="rect">
              <a:avLst/>
            </a:prstGeom>
            <a:solidFill>
              <a:srgbClr val="004040"/>
            </a:solidFill>
            <a:ln w="12600">
              <a:solidFill>
                <a:srgbClr val="00404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20160" y="5881680"/>
              <a:ext cx="52560" cy="85680"/>
            </a:xfrm>
            <a:prstGeom prst="rect">
              <a:avLst/>
            </a:prstGeom>
            <a:solidFill>
              <a:srgbClr val="808000"/>
            </a:solidFill>
            <a:ln w="12600">
              <a:solidFill>
                <a:srgbClr val="004040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431120" y="5875200"/>
              <a:ext cx="50760" cy="84240"/>
            </a:xfrm>
            <a:prstGeom prst="rect">
              <a:avLst/>
            </a:prstGeom>
            <a:solidFill>
              <a:srgbClr val="808000"/>
            </a:solidFill>
            <a:ln w="12600">
              <a:solidFill>
                <a:srgbClr val="004040"/>
              </a:solidFill>
              <a:round/>
            </a:ln>
          </p:spPr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396200" y="5646600"/>
              <a:ext cx="825840" cy="476640"/>
            </a:xfrm>
            <a:custGeom>
              <a:avLst/>
              <a:gdLst/>
              <a:ahLst/>
              <a:rect l="0" t="0" r="r" b="b"/>
              <a:pathLst>
                <a:path w="2294" h="1324">
                  <a:moveTo>
                    <a:pt x="2236" y="1126"/>
                  </a:moveTo>
                  <a:lnTo>
                    <a:pt x="2073" y="1214"/>
                  </a:lnTo>
                  <a:lnTo>
                    <a:pt x="1967" y="1258"/>
                  </a:lnTo>
                  <a:lnTo>
                    <a:pt x="1040" y="1324"/>
                  </a:lnTo>
                  <a:lnTo>
                    <a:pt x="282" y="1219"/>
                  </a:lnTo>
                  <a:lnTo>
                    <a:pt x="8" y="1033"/>
                  </a:lnTo>
                  <a:lnTo>
                    <a:pt x="0" y="931"/>
                  </a:lnTo>
                  <a:lnTo>
                    <a:pt x="83" y="790"/>
                  </a:lnTo>
                  <a:lnTo>
                    <a:pt x="167" y="777"/>
                  </a:lnTo>
                  <a:lnTo>
                    <a:pt x="260" y="790"/>
                  </a:lnTo>
                  <a:lnTo>
                    <a:pt x="366" y="799"/>
                  </a:lnTo>
                  <a:lnTo>
                    <a:pt x="489" y="772"/>
                  </a:lnTo>
                  <a:lnTo>
                    <a:pt x="652" y="680"/>
                  </a:lnTo>
                  <a:lnTo>
                    <a:pt x="727" y="574"/>
                  </a:lnTo>
                  <a:lnTo>
                    <a:pt x="776" y="481"/>
                  </a:lnTo>
                  <a:lnTo>
                    <a:pt x="908" y="358"/>
                  </a:lnTo>
                  <a:lnTo>
                    <a:pt x="1165" y="609"/>
                  </a:lnTo>
                  <a:lnTo>
                    <a:pt x="1231" y="622"/>
                  </a:lnTo>
                  <a:lnTo>
                    <a:pt x="1368" y="636"/>
                  </a:lnTo>
                  <a:lnTo>
                    <a:pt x="1460" y="578"/>
                  </a:lnTo>
                  <a:lnTo>
                    <a:pt x="1398" y="380"/>
                  </a:lnTo>
                  <a:lnTo>
                    <a:pt x="1084" y="216"/>
                  </a:lnTo>
                  <a:lnTo>
                    <a:pt x="1142" y="0"/>
                  </a:lnTo>
                  <a:lnTo>
                    <a:pt x="1557" y="238"/>
                  </a:lnTo>
                  <a:lnTo>
                    <a:pt x="1672" y="264"/>
                  </a:lnTo>
                  <a:lnTo>
                    <a:pt x="1667" y="424"/>
                  </a:lnTo>
                  <a:lnTo>
                    <a:pt x="1769" y="424"/>
                  </a:lnTo>
                  <a:lnTo>
                    <a:pt x="1795" y="587"/>
                  </a:lnTo>
                  <a:lnTo>
                    <a:pt x="1958" y="852"/>
                  </a:lnTo>
                  <a:lnTo>
                    <a:pt x="2038" y="865"/>
                  </a:lnTo>
                  <a:lnTo>
                    <a:pt x="2157" y="856"/>
                  </a:lnTo>
                  <a:lnTo>
                    <a:pt x="2254" y="856"/>
                  </a:lnTo>
                  <a:lnTo>
                    <a:pt x="2289" y="882"/>
                  </a:lnTo>
                  <a:lnTo>
                    <a:pt x="2294" y="1003"/>
                  </a:lnTo>
                  <a:lnTo>
                    <a:pt x="2294" y="1055"/>
                  </a:lnTo>
                  <a:lnTo>
                    <a:pt x="2236" y="1126"/>
                  </a:lnTo>
                  <a:close/>
                </a:path>
              </a:pathLst>
            </a:custGeom>
            <a:solidFill>
              <a:srgbClr val="c0c000"/>
            </a:solidFill>
            <a:ln w="12600">
              <a:solidFill>
                <a:srgbClr val="0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83480" y="5457960"/>
              <a:ext cx="230400" cy="346320"/>
            </a:xfrm>
            <a:custGeom>
              <a:avLst/>
              <a:gdLst/>
              <a:ahLst/>
              <a:rect l="0" t="0" r="r" b="b"/>
              <a:pathLst>
                <a:path w="640" h="962">
                  <a:moveTo>
                    <a:pt x="0" y="0"/>
                  </a:moveTo>
                  <a:lnTo>
                    <a:pt x="640" y="0"/>
                  </a:lnTo>
                  <a:lnTo>
                    <a:pt x="636" y="268"/>
                  </a:lnTo>
                  <a:lnTo>
                    <a:pt x="110" y="273"/>
                  </a:lnTo>
                  <a:lnTo>
                    <a:pt x="136" y="962"/>
                  </a:lnTo>
                  <a:lnTo>
                    <a:pt x="0" y="9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040"/>
            </a:solidFill>
            <a:ln w="12600">
              <a:solidFill>
                <a:srgbClr val="00404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15160" y="5533920"/>
              <a:ext cx="329040" cy="279720"/>
            </a:xfrm>
            <a:custGeom>
              <a:avLst/>
              <a:gdLst/>
              <a:ahLst/>
              <a:rect l="0" t="0" r="r" b="b"/>
              <a:pathLst>
                <a:path w="914" h="777">
                  <a:moveTo>
                    <a:pt x="0" y="0"/>
                  </a:moveTo>
                  <a:lnTo>
                    <a:pt x="914" y="0"/>
                  </a:lnTo>
                  <a:lnTo>
                    <a:pt x="914" y="136"/>
                  </a:lnTo>
                  <a:lnTo>
                    <a:pt x="222" y="127"/>
                  </a:lnTo>
                  <a:lnTo>
                    <a:pt x="232" y="777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751880" y="5380200"/>
              <a:ext cx="104760" cy="684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4040"/>
              </a:solidFill>
              <a:round/>
            </a:ln>
          </p:spPr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961400" y="5622840"/>
              <a:ext cx="101520" cy="114480"/>
            </a:xfrm>
            <a:prstGeom prst="rect">
              <a:avLst/>
            </a:prstGeom>
            <a:solidFill>
              <a:srgbClr val="004040"/>
            </a:solidFill>
            <a:ln w="12600">
              <a:solidFill>
                <a:srgbClr val="00404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970760" y="5603760"/>
              <a:ext cx="77760" cy="19080"/>
            </a:xfrm>
            <a:prstGeom prst="rect">
              <a:avLst/>
            </a:prstGeom>
            <a:solidFill>
              <a:srgbClr val="004040"/>
            </a:solidFill>
            <a:ln w="12600">
              <a:solidFill>
                <a:srgbClr val="004040"/>
              </a:solidFill>
              <a:round/>
            </a:ln>
          </p:spPr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796160" y="5641920"/>
              <a:ext cx="85680" cy="88920"/>
            </a:xfrm>
            <a:prstGeom prst="ellipse">
              <a:avLst/>
            </a:prstGeom>
            <a:solidFill>
              <a:srgbClr val="808000"/>
            </a:solidFill>
            <a:ln w="12600">
              <a:solidFill>
                <a:srgbClr val="008080"/>
              </a:solidFill>
              <a:round/>
            </a:ln>
          </p:spPr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385040" y="5738760"/>
              <a:ext cx="816480" cy="348120"/>
            </a:xfrm>
            <a:custGeom>
              <a:avLst/>
              <a:gdLst/>
              <a:ahLst/>
              <a:rect l="0" t="0" r="r" b="b"/>
              <a:pathLst>
                <a:path w="2268" h="967">
                  <a:moveTo>
                    <a:pt x="850" y="249"/>
                  </a:moveTo>
                  <a:lnTo>
                    <a:pt x="689" y="443"/>
                  </a:lnTo>
                  <a:lnTo>
                    <a:pt x="562" y="597"/>
                  </a:lnTo>
                  <a:lnTo>
                    <a:pt x="331" y="774"/>
                  </a:lnTo>
                  <a:lnTo>
                    <a:pt x="191" y="821"/>
                  </a:lnTo>
                  <a:lnTo>
                    <a:pt x="69" y="821"/>
                  </a:lnTo>
                  <a:lnTo>
                    <a:pt x="0" y="834"/>
                  </a:lnTo>
                  <a:lnTo>
                    <a:pt x="104" y="920"/>
                  </a:lnTo>
                  <a:lnTo>
                    <a:pt x="580" y="954"/>
                  </a:lnTo>
                  <a:lnTo>
                    <a:pt x="1243" y="967"/>
                  </a:lnTo>
                  <a:lnTo>
                    <a:pt x="1644" y="967"/>
                  </a:lnTo>
                  <a:lnTo>
                    <a:pt x="1946" y="950"/>
                  </a:lnTo>
                  <a:lnTo>
                    <a:pt x="2207" y="864"/>
                  </a:lnTo>
                  <a:lnTo>
                    <a:pt x="2268" y="787"/>
                  </a:lnTo>
                  <a:lnTo>
                    <a:pt x="2268" y="692"/>
                  </a:lnTo>
                  <a:lnTo>
                    <a:pt x="2220" y="447"/>
                  </a:lnTo>
                  <a:lnTo>
                    <a:pt x="2002" y="443"/>
                  </a:lnTo>
                  <a:lnTo>
                    <a:pt x="1989" y="601"/>
                  </a:lnTo>
                  <a:lnTo>
                    <a:pt x="1941" y="614"/>
                  </a:lnTo>
                  <a:lnTo>
                    <a:pt x="1828" y="576"/>
                  </a:lnTo>
                  <a:lnTo>
                    <a:pt x="1780" y="382"/>
                  </a:lnTo>
                  <a:lnTo>
                    <a:pt x="1728" y="231"/>
                  </a:lnTo>
                  <a:lnTo>
                    <a:pt x="1587" y="201"/>
                  </a:lnTo>
                  <a:lnTo>
                    <a:pt x="1461" y="124"/>
                  </a:lnTo>
                  <a:lnTo>
                    <a:pt x="1330" y="0"/>
                  </a:lnTo>
                  <a:lnTo>
                    <a:pt x="1369" y="297"/>
                  </a:lnTo>
                  <a:lnTo>
                    <a:pt x="1195" y="314"/>
                  </a:lnTo>
                  <a:lnTo>
                    <a:pt x="1173" y="231"/>
                  </a:lnTo>
                  <a:lnTo>
                    <a:pt x="916" y="218"/>
                  </a:lnTo>
                  <a:lnTo>
                    <a:pt x="864" y="197"/>
                  </a:lnTo>
                  <a:lnTo>
                    <a:pt x="850" y="249"/>
                  </a:lnTo>
                  <a:close/>
                </a:path>
              </a:pathLst>
            </a:custGeom>
            <a:solidFill>
              <a:srgbClr val="0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802640" y="5737320"/>
              <a:ext cx="311400" cy="90720"/>
            </a:xfrm>
            <a:custGeom>
              <a:avLst/>
              <a:gdLst/>
              <a:ahLst/>
              <a:rect l="0" t="0" r="r" b="b"/>
              <a:pathLst>
                <a:path w="865" h="252">
                  <a:moveTo>
                    <a:pt x="211" y="13"/>
                  </a:moveTo>
                  <a:lnTo>
                    <a:pt x="578" y="8"/>
                  </a:lnTo>
                  <a:lnTo>
                    <a:pt x="737" y="0"/>
                  </a:lnTo>
                  <a:lnTo>
                    <a:pt x="834" y="4"/>
                  </a:lnTo>
                  <a:lnTo>
                    <a:pt x="865" y="66"/>
                  </a:lnTo>
                  <a:lnTo>
                    <a:pt x="852" y="123"/>
                  </a:lnTo>
                  <a:lnTo>
                    <a:pt x="277" y="114"/>
                  </a:lnTo>
                  <a:lnTo>
                    <a:pt x="74" y="252"/>
                  </a:lnTo>
                  <a:lnTo>
                    <a:pt x="0" y="181"/>
                  </a:lnTo>
                  <a:lnTo>
                    <a:pt x="211" y="13"/>
                  </a:lnTo>
                  <a:close/>
                </a:path>
              </a:pathLst>
            </a:custGeom>
            <a:solidFill>
              <a:srgbClr val="808000"/>
            </a:solidFill>
            <a:ln w="12600">
              <a:solidFill>
                <a:srgbClr val="008080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773840" y="5738760"/>
              <a:ext cx="36360" cy="136440"/>
            </a:xfrm>
            <a:prstGeom prst="rect">
              <a:avLst/>
            </a:prstGeom>
            <a:solidFill>
              <a:srgbClr val="c0c000"/>
            </a:solidFill>
            <a:ln w="12600">
              <a:solidFill>
                <a:srgbClr val="00404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620120" y="5743440"/>
              <a:ext cx="101520" cy="93600"/>
            </a:xfrm>
            <a:prstGeom prst="ellipse">
              <a:avLst/>
            </a:prstGeom>
            <a:solidFill>
              <a:srgbClr val="004040"/>
            </a:solidFill>
            <a:ln w="12600">
              <a:solidFill>
                <a:srgbClr val="00808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635960" y="5753160"/>
              <a:ext cx="79200" cy="76320"/>
            </a:xfrm>
            <a:prstGeom prst="ellipse">
              <a:avLst/>
            </a:prstGeom>
            <a:solidFill>
              <a:srgbClr val="808000"/>
            </a:solidFill>
            <a:ln w="12600">
              <a:solidFill>
                <a:srgbClr val="00808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667640" y="5780160"/>
              <a:ext cx="19080" cy="2556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004040"/>
              </a:solidFill>
              <a:round/>
            </a:ln>
          </p:spPr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669080" y="5780160"/>
              <a:ext cx="20520" cy="25560"/>
            </a:xfrm>
            <a:prstGeom prst="ellipse">
              <a:avLst/>
            </a:prstGeom>
            <a:solidFill>
              <a:srgbClr val="c0c000"/>
            </a:solidFill>
            <a:ln w="12600">
              <a:solidFill>
                <a:srgbClr val="004040"/>
              </a:solidFill>
              <a:round/>
            </a:ln>
          </p:spPr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064360" y="5748480"/>
              <a:ext cx="25560" cy="2232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004040"/>
              </a:solidFill>
              <a:round/>
            </a:ln>
          </p:spPr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069400" y="5748480"/>
              <a:ext cx="22320" cy="22320"/>
            </a:xfrm>
            <a:prstGeom prst="ellipse">
              <a:avLst/>
            </a:prstGeom>
            <a:solidFill>
              <a:srgbClr val="c0c000"/>
            </a:solidFill>
            <a:ln w="12600">
              <a:solidFill>
                <a:srgbClr val="004040"/>
              </a:solidFill>
              <a:round/>
            </a:ln>
          </p:spPr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731000" y="5440320"/>
              <a:ext cx="138240" cy="85680"/>
            </a:xfrm>
            <a:prstGeom prst="rect">
              <a:avLst/>
            </a:prstGeom>
            <a:solidFill>
              <a:srgbClr val="c0c000"/>
            </a:solidFill>
            <a:ln w="12600">
              <a:solidFill>
                <a:srgbClr val="004040"/>
              </a:solidFill>
              <a:round/>
            </a:ln>
          </p:spPr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786800" y="5475240"/>
              <a:ext cx="22320" cy="2376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004040"/>
              </a:solidFill>
              <a:round/>
            </a:ln>
          </p:spPr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790040" y="5475240"/>
              <a:ext cx="20520" cy="23760"/>
            </a:xfrm>
            <a:prstGeom prst="ellipse">
              <a:avLst/>
            </a:prstGeom>
            <a:solidFill>
              <a:srgbClr val="c0c000"/>
            </a:solidFill>
            <a:ln w="12600">
              <a:solidFill>
                <a:srgbClr val="004040"/>
              </a:solidFill>
              <a:round/>
            </a:ln>
          </p:spPr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827840" y="5845320"/>
              <a:ext cx="138240" cy="44280"/>
            </a:xfrm>
            <a:prstGeom prst="rect">
              <a:avLst/>
            </a:prstGeom>
            <a:solidFill>
              <a:srgbClr val="c0c000"/>
            </a:solidFill>
            <a:ln w="12600">
              <a:solidFill>
                <a:srgbClr val="00404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832880" y="5616720"/>
              <a:ext cx="97200" cy="90720"/>
            </a:xfrm>
            <a:custGeom>
              <a:avLst/>
              <a:gdLst/>
              <a:ahLst/>
              <a:rect l="0" t="0" r="r" b="b"/>
              <a:pathLst>
                <a:path w="270" h="252">
                  <a:moveTo>
                    <a:pt x="159" y="57"/>
                  </a:moveTo>
                  <a:lnTo>
                    <a:pt x="177" y="114"/>
                  </a:lnTo>
                  <a:lnTo>
                    <a:pt x="177" y="164"/>
                  </a:lnTo>
                  <a:lnTo>
                    <a:pt x="8" y="168"/>
                  </a:lnTo>
                  <a:lnTo>
                    <a:pt x="0" y="225"/>
                  </a:lnTo>
                  <a:lnTo>
                    <a:pt x="48" y="252"/>
                  </a:lnTo>
                  <a:lnTo>
                    <a:pt x="231" y="243"/>
                  </a:lnTo>
                  <a:lnTo>
                    <a:pt x="270" y="199"/>
                  </a:lnTo>
                  <a:lnTo>
                    <a:pt x="270" y="61"/>
                  </a:lnTo>
                  <a:lnTo>
                    <a:pt x="235" y="17"/>
                  </a:lnTo>
                  <a:lnTo>
                    <a:pt x="213" y="0"/>
                  </a:lnTo>
                  <a:lnTo>
                    <a:pt x="159" y="57"/>
                  </a:lnTo>
                  <a:close/>
                </a:path>
              </a:pathLst>
            </a:custGeom>
            <a:solidFill>
              <a:srgbClr val="ffff80"/>
            </a:solidFill>
            <a:ln w="12600">
              <a:solidFill>
                <a:srgbClr val="008080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827840" y="5565600"/>
              <a:ext cx="79200" cy="7920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008080"/>
              </a:solidFill>
              <a:round/>
            </a:ln>
          </p:spPr>
          <p:txBody>
            <a:bodyPr lIns="96120" rIns="9612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837560" y="5565600"/>
              <a:ext cx="81000" cy="79200"/>
            </a:xfrm>
            <a:prstGeom prst="ellipse">
              <a:avLst/>
            </a:prstGeom>
            <a:solidFill>
              <a:srgbClr val="c0c000"/>
            </a:solidFill>
            <a:ln w="12600">
              <a:solidFill>
                <a:srgbClr val="008080"/>
              </a:solidFill>
              <a:round/>
            </a:ln>
          </p:spPr>
          <p:txBody>
            <a:bodyPr lIns="96120" rIns="9612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858080" y="5594400"/>
              <a:ext cx="27000" cy="23760"/>
            </a:xfrm>
            <a:prstGeom prst="ellipse">
              <a:avLst/>
            </a:prstGeom>
            <a:solidFill>
              <a:srgbClr val="ffff80"/>
            </a:solidFill>
            <a:ln w="12600">
              <a:solidFill>
                <a:srgbClr val="008080"/>
              </a:solidFill>
              <a:round/>
            </a:ln>
          </p:spPr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861320" y="5594400"/>
              <a:ext cx="27000" cy="23760"/>
            </a:xfrm>
            <a:prstGeom prst="ellipse">
              <a:avLst/>
            </a:prstGeom>
            <a:solidFill>
              <a:srgbClr val="c0c000"/>
            </a:solidFill>
            <a:ln w="12600">
              <a:solidFill>
                <a:srgbClr val="008080"/>
              </a:solidFill>
              <a:round/>
            </a:ln>
          </p:spPr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478640" y="5526000"/>
              <a:ext cx="203400" cy="392400"/>
            </a:xfrm>
            <a:custGeom>
              <a:avLst/>
              <a:gdLst/>
              <a:ahLst/>
              <a:rect l="0" t="0" r="r" b="b"/>
              <a:pathLst>
                <a:path fill="none" w="565" h="1090">
                  <a:moveTo>
                    <a:pt x="565" y="0"/>
                  </a:moveTo>
                  <a:lnTo>
                    <a:pt x="459" y="618"/>
                  </a:lnTo>
                  <a:lnTo>
                    <a:pt x="251" y="1037"/>
                  </a:lnTo>
                  <a:lnTo>
                    <a:pt x="132" y="1090"/>
                  </a:lnTo>
                  <a:lnTo>
                    <a:pt x="0" y="993"/>
                  </a:lnTo>
                </a:path>
              </a:pathLst>
            </a:custGeom>
            <a:ln w="25560">
              <a:solidFill>
                <a:srgbClr val="00404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56320" y="5218200"/>
              <a:ext cx="368640" cy="856080"/>
            </a:xfrm>
            <a:custGeom>
              <a:avLst/>
              <a:gdLst/>
              <a:ahLst/>
              <a:rect l="0" t="0" r="r" b="b"/>
              <a:pathLst>
                <a:path fill="none" w="1024" h="2378">
                  <a:moveTo>
                    <a:pt x="0" y="2378"/>
                  </a:moveTo>
                  <a:lnTo>
                    <a:pt x="0" y="1235"/>
                  </a:lnTo>
                  <a:lnTo>
                    <a:pt x="0" y="1112"/>
                  </a:lnTo>
                  <a:lnTo>
                    <a:pt x="8" y="988"/>
                  </a:lnTo>
                  <a:lnTo>
                    <a:pt x="61" y="759"/>
                  </a:lnTo>
                  <a:lnTo>
                    <a:pt x="277" y="357"/>
                  </a:lnTo>
                  <a:lnTo>
                    <a:pt x="609" y="92"/>
                  </a:lnTo>
                  <a:lnTo>
                    <a:pt x="807" y="22"/>
                  </a:lnTo>
                  <a:lnTo>
                    <a:pt x="913" y="4"/>
                  </a:lnTo>
                  <a:lnTo>
                    <a:pt x="1024" y="0"/>
                  </a:lnTo>
                </a:path>
              </a:pathLst>
            </a:custGeom>
            <a:ln w="25560">
              <a:solidFill>
                <a:srgbClr val="00808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526160" y="5192640"/>
              <a:ext cx="443160" cy="170280"/>
            </a:xfrm>
            <a:custGeom>
              <a:avLst/>
              <a:gdLst/>
              <a:ahLst/>
              <a:rect l="0" t="0" r="r" b="b"/>
              <a:pathLst>
                <a:path w="1231" h="473">
                  <a:moveTo>
                    <a:pt x="1166" y="339"/>
                  </a:moveTo>
                  <a:lnTo>
                    <a:pt x="911" y="213"/>
                  </a:lnTo>
                  <a:lnTo>
                    <a:pt x="769" y="197"/>
                  </a:lnTo>
                  <a:lnTo>
                    <a:pt x="700" y="197"/>
                  </a:lnTo>
                  <a:lnTo>
                    <a:pt x="626" y="209"/>
                  </a:lnTo>
                  <a:lnTo>
                    <a:pt x="379" y="305"/>
                  </a:lnTo>
                  <a:lnTo>
                    <a:pt x="224" y="473"/>
                  </a:lnTo>
                  <a:lnTo>
                    <a:pt x="0" y="398"/>
                  </a:lnTo>
                  <a:lnTo>
                    <a:pt x="215" y="176"/>
                  </a:lnTo>
                  <a:lnTo>
                    <a:pt x="530" y="29"/>
                  </a:lnTo>
                  <a:lnTo>
                    <a:pt x="704" y="4"/>
                  </a:lnTo>
                  <a:lnTo>
                    <a:pt x="795" y="0"/>
                  </a:lnTo>
                  <a:lnTo>
                    <a:pt x="885" y="8"/>
                  </a:lnTo>
                  <a:lnTo>
                    <a:pt x="1231" y="147"/>
                  </a:lnTo>
                  <a:lnTo>
                    <a:pt x="1166" y="3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377120" y="6021360"/>
              <a:ext cx="862200" cy="308160"/>
            </a:xfrm>
            <a:custGeom>
              <a:avLst/>
              <a:gdLst/>
              <a:ahLst/>
              <a:rect l="0" t="0" r="r" b="b"/>
              <a:pathLst>
                <a:path w="2395" h="856">
                  <a:moveTo>
                    <a:pt x="0" y="591"/>
                  </a:moveTo>
                  <a:lnTo>
                    <a:pt x="353" y="745"/>
                  </a:lnTo>
                  <a:lnTo>
                    <a:pt x="780" y="839"/>
                  </a:lnTo>
                  <a:lnTo>
                    <a:pt x="1046" y="852"/>
                  </a:lnTo>
                  <a:lnTo>
                    <a:pt x="1186" y="856"/>
                  </a:lnTo>
                  <a:lnTo>
                    <a:pt x="1261" y="856"/>
                  </a:lnTo>
                  <a:lnTo>
                    <a:pt x="1335" y="852"/>
                  </a:lnTo>
                  <a:lnTo>
                    <a:pt x="1902" y="770"/>
                  </a:lnTo>
                  <a:lnTo>
                    <a:pt x="2395" y="569"/>
                  </a:lnTo>
                  <a:lnTo>
                    <a:pt x="2395" y="25"/>
                  </a:lnTo>
                  <a:lnTo>
                    <a:pt x="2382" y="0"/>
                  </a:lnTo>
                  <a:lnTo>
                    <a:pt x="1195" y="141"/>
                  </a:lnTo>
                  <a:lnTo>
                    <a:pt x="898" y="136"/>
                  </a:lnTo>
                  <a:lnTo>
                    <a:pt x="597" y="115"/>
                  </a:lnTo>
                  <a:lnTo>
                    <a:pt x="4" y="21"/>
                  </a:lnTo>
                  <a:lnTo>
                    <a:pt x="13" y="316"/>
                  </a:lnTo>
                  <a:lnTo>
                    <a:pt x="13" y="445"/>
                  </a:lnTo>
                  <a:lnTo>
                    <a:pt x="0" y="591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365960" y="6002280"/>
              <a:ext cx="881280" cy="89280"/>
            </a:xfrm>
            <a:custGeom>
              <a:avLst/>
              <a:gdLst/>
              <a:ahLst/>
              <a:rect l="0" t="0" r="r" b="b"/>
              <a:pathLst>
                <a:path w="2448" h="248">
                  <a:moveTo>
                    <a:pt x="2448" y="100"/>
                  </a:moveTo>
                  <a:lnTo>
                    <a:pt x="1837" y="209"/>
                  </a:lnTo>
                  <a:lnTo>
                    <a:pt x="1239" y="248"/>
                  </a:lnTo>
                  <a:lnTo>
                    <a:pt x="636" y="217"/>
                  </a:lnTo>
                  <a:lnTo>
                    <a:pt x="21" y="116"/>
                  </a:lnTo>
                  <a:lnTo>
                    <a:pt x="0" y="19"/>
                  </a:lnTo>
                  <a:lnTo>
                    <a:pt x="732" y="132"/>
                  </a:lnTo>
                  <a:lnTo>
                    <a:pt x="1090" y="152"/>
                  </a:lnTo>
                  <a:lnTo>
                    <a:pt x="1287" y="156"/>
                  </a:lnTo>
                  <a:lnTo>
                    <a:pt x="1501" y="144"/>
                  </a:lnTo>
                  <a:lnTo>
                    <a:pt x="2430" y="0"/>
                  </a:lnTo>
                  <a:lnTo>
                    <a:pt x="2448" y="10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a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61800" y="4190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